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EEE0-D0EB-4CCF-A90A-272F2A6F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35E-5BC4-4F53-BDB7-9E18DC08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633F-2B52-475F-858C-6EE4106E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BB0-97E0-4490-9256-61C99351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AD2-2794-46A9-9292-29334721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5C1-921F-49BC-A1B1-FEB4EA0E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49D-D5EB-4CDC-A628-F60E3F43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6D21-8665-40AA-99D8-0AFD7A88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E87-01BF-4B7A-BF42-C3D1D68A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CE3-5ABD-4B3C-8282-8F11FA46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926-343D-4469-8AE9-7C2ABECC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17C-D0B6-4FDE-85A9-8E4F3E75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7E7D-0F48-4CC7-9DE0-D05F14D55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5000" y="574560"/>
            <a:ext cx="64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 of potential designs needs to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0600" y="126036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a for consider alternative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14680" y="194616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 technical, economic, operational, schedul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9280" y="2479680"/>
            <a:ext cx="839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ther Criteria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new system must be reliable and easy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new system must be maintained and be rob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new system must be able to be upgradable and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t must be efficient in it processing - response times must be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t limits, this places restrictions on size of CPU,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andwidth, size and speed of disk drives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system must be able to protect data and provide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system should not have undue impacts on staff eg O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ustomers eg priv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23:04:48Z</dcterms:created>
  <dc:creator>TECH</dc:creator>
  <dc:description/>
  <dc:language>en-US</dc:language>
  <cp:lastModifiedBy>TECH</cp:lastModifiedBy>
  <dcterms:modified xsi:type="dcterms:W3CDTF">2001-09-20T23:13:25Z</dcterms:modified>
  <cp:revision>1</cp:revision>
  <dc:subject/>
  <dc:title>No Slide Title</dc:title>
</cp:coreProperties>
</file>