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08B-CAF9-44D7-BAF4-DCADCDFD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129-59FD-48E7-B0FE-A95C36AE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730-C7BE-4373-979B-00BF9945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A63-F6E0-4E2A-9C3E-8600ECDE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029-D286-47C9-B5BB-5B7218A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4CC-9624-440E-8A3D-80D5EC2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75F-FA03-4F85-B593-B3D31862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B23-5033-4711-A15E-74DA7F6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2A1-B845-4B98-83A8-AA82CAFE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6EB-C233-4A60-B7C9-D1F5C7BF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2B5-F408-47DC-9173-CCBB87B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9C3-B954-4F55-BF60-0A4D9C1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5A99-6E51-49FA-B9B3-EDB9D55A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3680" y="5745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12520" y="1413000"/>
            <a:ext cx="70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urrent system in detail and then determine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has to do: requirements definition or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85960" y="2631960"/>
            <a:ext cx="82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date in more detail: interview, questionnaire, observ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(watch for b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4680" y="3470400"/>
            <a:ext cx="820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understand what system has to do eg what data has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ed, what output is required, who wants the inform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at form do they require it, when do they want it, 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is needed. LOGICAL DESCRIPION OF WHA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8840" y="5603760"/>
            <a:ext cx="67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ut a key set of criteria the new system must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49:21Z</dcterms:created>
  <dc:creator>TECH</dc:creator>
  <dc:description/>
  <dc:language>en-US</dc:language>
  <cp:lastModifiedBy>TECH</cp:lastModifiedBy>
  <dcterms:modified xsi:type="dcterms:W3CDTF">2001-09-21T00:17:42Z</dcterms:modified>
  <cp:revision>4</cp:revision>
  <dc:subject/>
  <dc:title>No Slide Title</dc:title>
</cp:coreProperties>
</file>