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47A-E0B6-4F19-ABD9-9E0D990B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A7D-B099-4CEC-AD4B-24A3DCE2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059-C152-45A1-A5C7-8641DD0B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F9E-C0D7-4E66-B38C-07CC652F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2FE-5D27-4D0C-A1C2-175BABC1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4A6-63CD-4590-9941-9F87B831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E83-25AC-452A-8B9A-C984AD31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D85-0142-4F29-B77C-740F6FBD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58E-EAA5-4B10-85DC-0602765E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9BCB-CF8F-4AFA-9969-F606A7F6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A2C-832A-4E2B-9F00-ADC573C6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87D-3A95-4E5F-B887-2D008FB8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65DF-FFD7-4775-91E7-D4EE1011C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1400" y="34596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0880" y="762120"/>
            <a:ext cx="84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 (requirements) from previous stage need 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 by the design. These are looked at in some detail to deter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design to meet the objectives of the LOGIC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4920" y="198108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nsider the broad design option eg package v’s purpose bui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obably a recommendation from the previous stage, ne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onsider. Project plan to manage the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7000" y="31240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8640" y="342900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input data and file specifications, data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61520" y="3733920"/>
            <a:ext cx="72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processing descriptions: structure charts,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/algorithms, validation rule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65480" y="4419720"/>
            <a:ext cx="49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output layouts and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6368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and system software specifications, take i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/criteria from analysis phase. Make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67280" y="5638680"/>
            <a:ext cx="51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 eg backup and 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5560" y="6095880"/>
            <a:ext cx="47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SOME TEST DATA!!!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3:03Z</dcterms:created>
  <dc:creator>TECH</dc:creator>
  <dc:description/>
  <dc:language>en-US</dc:language>
  <cp:lastModifiedBy>TECH</cp:lastModifiedBy>
  <dcterms:modified xsi:type="dcterms:W3CDTF">2001-09-20T23:21:39Z</dcterms:modified>
  <cp:revision>3</cp:revision>
  <dc:subject/>
  <dc:title>No Slide Title</dc:title>
</cp:coreProperties>
</file>