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0AB-5C0E-41A5-AF5D-43966258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470-20F8-4DED-9058-2BBAE165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708-D371-45AC-9630-068A49FE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1C3-83C4-4DDD-A9CD-A1340559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D8A-7EBF-4473-A064-C1ADEF55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A5A-8692-4F3D-B747-5E6FDC11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75E-344B-424E-BDD8-0032487F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D44-5C16-48CC-A792-52A831F1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F67-5F9E-40D9-8C39-14F8D594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9AF-135A-49AA-9ACE-2D0EEDBA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C7D-1064-45C8-81A1-2BA21AD7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040-F0A4-4604-A0F4-123C05DB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BCA0-3D4F-4C8B-A90E-CE0D3EDB6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7040" y="345960"/>
            <a:ext cx="845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Disaster Recover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eneral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ppoint a DRP coordinator and BACKUP person (wh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nduct complete audit of hardware and software,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arranty, insurance, full tech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ocument backup procedures and TEST they work,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eriod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ore complete backup off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ocument the actual DRP procedures and store with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xternal source (like a normal will): contact numbers, w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oes what, plan to evaculate, plans to replace equip.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evelop Procedures eg level1 file lost, level 2 complet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ystem lost, level 3 Complete Disaster eg FIRE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23:47:47Z</dcterms:created>
  <dc:creator>TECH</dc:creator>
  <dc:description/>
  <dc:language>en-US</dc:language>
  <cp:lastModifiedBy>TECH</cp:lastModifiedBy>
  <dcterms:modified xsi:type="dcterms:W3CDTF">2001-09-21T00:04:48Z</dcterms:modified>
  <cp:revision>3</cp:revision>
  <dc:subject/>
  <dc:title>No Slide Title</dc:title>
</cp:coreProperties>
</file>