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9B0-ED51-498E-8298-CFC81441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4B-D939-4F17-BFEA-640969F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5F0-8A46-4AF6-A14D-4C234C9E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561-45D2-478D-997F-9F2B3F8F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BD3-FBAC-4B72-9DC1-78151C39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C44-CDF0-4C21-8C3C-F34C615D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0F0-7CBE-4B11-93F1-4E4BA36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A5E-8570-474B-A41D-CCC5D4D7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78F-78F0-4A1F-996C-40103CC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9CF-7F19-460E-9664-77BE6B4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3E4-753C-422F-8F8A-122C6861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05-4554-4195-9E5E-2CCF367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628B-CE0D-4074-B4EE-7A77435EF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9160" y="4986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11440" y="118440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needs to be tested using the test data and the tes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89560" y="1946160"/>
            <a:ext cx="617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es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unctional Software tests i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ike test plan in SAC1 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peration of Interface and help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peration of backup and D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pacity testing eg large data files/trans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st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st communication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st hardware under normal and SA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bnormal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3:22:37Z</dcterms:created>
  <dc:creator>TECH</dc:creator>
  <dc:description/>
  <dc:language>en-US</dc:language>
  <cp:lastModifiedBy>TECH</cp:lastModifiedBy>
  <dcterms:modified xsi:type="dcterms:W3CDTF">2001-09-20T23:31:58Z</dcterms:modified>
  <cp:revision>1</cp:revision>
  <dc:subject/>
  <dc:title>No Slide Title</dc:title>
</cp:coreProperties>
</file>