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8E8-4F55-43EE-A71D-7320A89A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BD4-242A-41A3-BC46-0D21E926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8CA-E101-4E1E-B3B4-A55F4B5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13B-310F-4E99-9DCF-F634F53C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894-F37A-4D97-AC90-C4B11C3E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58D-8DFA-426D-A092-84A60697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202-B055-4B09-8C68-39F7AAB6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B54-1DB6-422F-A211-4120702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720-4820-4208-9E61-87D0D36A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A56-0C68-4F8A-9D9A-3ABC469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5DB-6123-48A3-89D2-A1446AA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CFB-4F91-4AD7-8315-9538FF7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F37B-0931-4F8C-83E0-4CFE8C7B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plan.ppt" TargetMode="External"/><Relationship Id="rId2" Type="http://schemas.openxmlformats.org/officeDocument/2006/relationships/hyperlink" Target="file:///criteria1.ppt" TargetMode="External"/><Relationship Id="rId3" Type="http://schemas.openxmlformats.org/officeDocument/2006/relationships/hyperlink" Target="file:///bbkup.ppt" TargetMode="External"/><Relationship Id="rId4" Type="http://schemas.openxmlformats.org/officeDocument/2006/relationships/hyperlink" Target="file:///drp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720" y="8031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Implementation: develop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projec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5120" y="1981080"/>
            <a:ext cx="83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on Strategy and Justify: pilot, phased, parallel, immedi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projec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9520" y="1447920"/>
            <a:ext cx="68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Criteri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by which to select the implementation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8360" y="281952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files and install all required hardware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" y="32767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raining material and trai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000" y="373392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documentation: user guides, tech manuals, quick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2760" y="457200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security and data protection measures,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acku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D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16:16Z</dcterms:created>
  <dc:creator>TECH</dc:creator>
  <dc:description/>
  <dc:language>en-US</dc:language>
  <cp:lastModifiedBy>TECH</cp:lastModifiedBy>
  <dcterms:modified xsi:type="dcterms:W3CDTF">2001-09-21T00:14:07Z</dcterms:modified>
  <cp:revision>3</cp:revision>
  <dc:subject/>
  <dc:title>No Slide Title</dc:title>
</cp:coreProperties>
</file>