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9C7-F30F-41EB-A1A7-4E6A5101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9F7-DD9A-4CF4-A252-885F5DA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B3D-2FF1-4A58-8DCB-41728008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41C-13D5-4799-B188-63591B1F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FC7-8AFF-414C-B2BC-AA81B5E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AD1-174C-4825-90E4-4B2AA43E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DDD-8553-42BA-8EB7-E157CD60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C5C-8131-4F8C-96E0-1F112A7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4E5-83DF-46C1-9B5D-36C7599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851-2980-4CEE-A8CF-9F4E233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421-9504-4D30-930E-4D0ABFB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CF2-6D29-47AF-B116-B6A18F0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B06-7531-4243-827B-DE0A53BDC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320" y="103176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Maintenance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2400" y="152388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will need to be monitored and maintain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it continues to function eg log faults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2400" y="2362320"/>
            <a:ext cx="720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needs to be done to see that system i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120" y="3241800"/>
            <a:ext cx="797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 users, develop check list eg data entry screens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, information is available in a timely fashion,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, format appropriat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1440" y="4384800"/>
            <a:ext cx="78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faults logs to determine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physical performance eg response times, print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BASCKUP ie does i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impacts on staff eg moral, ease of us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38:04Z</dcterms:created>
  <dc:creator>TECH</dc:creator>
  <dc:description/>
  <dc:language>en-US</dc:language>
  <cp:lastModifiedBy>TECH</cp:lastModifiedBy>
  <dcterms:modified xsi:type="dcterms:W3CDTF">2001-09-21T00:03:46Z</dcterms:modified>
  <cp:revision>2</cp:revision>
  <dc:subject/>
  <dc:title>No Slide Title</dc:title>
</cp:coreProperties>
</file>