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1D6-72B8-4E24-920F-15EC288F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92A-2F6C-4954-B35B-DD128992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F2CE-711B-4E4C-AF78-49CC3478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5FE-D93E-40F8-8D41-BC607B1A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964-AEC7-4F71-B0BE-08ADB6BA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C270-6E28-451E-90B0-893689C5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4D07-CF4B-4C56-BD39-ECD1F6F0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3527-352A-4C38-96E8-B95A59CC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068-1154-43B2-B8C9-AD261EBA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560D-D618-4523-9D66-A5D52692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BD15-5AD8-4F0D-B23D-93C9F9E0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1B5-59E4-475C-AF94-4814E86F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162B-4533-4984-99C5-C38E860E1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800" y="345960"/>
            <a:ext cx="8259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riteria to select strategy: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oes cost of implementation fit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ill training have minimal impact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oes timeframe fit organisations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f making Hardware purchase decisions consider the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f factors: cost, reliability of supplier, compatibility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eneral Impact on sta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23:34:59Z</dcterms:created>
  <dc:creator>TECH</dc:creator>
  <dc:description/>
  <dc:language>en-US</dc:language>
  <cp:lastModifiedBy>TECH</cp:lastModifiedBy>
  <dcterms:modified xsi:type="dcterms:W3CDTF">2001-09-20T23:38:59Z</dcterms:modified>
  <cp:revision>1</cp:revision>
  <dc:subject/>
  <dc:title>No Slide Title</dc:title>
</cp:coreProperties>
</file>