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45E-E9E9-4947-A252-BE4935D5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BF7-C250-448B-867D-61C2DDC3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C63-6B52-4D40-B364-6A9B1404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F88-8C76-4566-999D-BF0911F1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C61-470F-408D-A2D2-44B2D847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C63-19D0-4DCC-857E-55B5FBDC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8C4-42D8-4ECB-B7E0-D8361FAB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433-FD96-4F0C-B73F-BB7C87E0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41D-257E-4B27-A2D1-60B866A7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262-76A7-4D3B-B200-8E7EB06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078-7EE5-46D4-A0B8-1C64E602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328-9304-4C28-B30F-CAC5DD42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920F-06C6-491F-899D-AEB28EF19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320" y="103176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Maintenance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2400" y="152388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will need to be monitored and maintain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it continues to function eg log faults and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2400" y="2362320"/>
            <a:ext cx="720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needs to be done to see that system is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S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120" y="3241800"/>
            <a:ext cx="797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 users, develop check list eg data entry screens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rate, information is available in a timely fashion,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t, format appropriat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3600" y="438480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faults logs to determine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38:04Z</dcterms:created>
  <dc:creator>TECH</dc:creator>
  <dc:description/>
  <dc:language>en-US</dc:language>
  <cp:lastModifiedBy>TECH</cp:lastModifiedBy>
  <dcterms:modified xsi:type="dcterms:W3CDTF">2001-09-20T09:42:58Z</dcterms:modified>
  <cp:revision>1</cp:revision>
  <dc:subject/>
  <dc:title>No Slide Title</dc:title>
</cp:coreProperties>
</file>