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370C-EF0B-494C-9203-0A439273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DDAA-1E64-42CC-9755-2788B800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FE61-F592-4433-BC3C-D8727767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095-6752-467F-9115-A26AF3FF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062-9E2A-4427-A22E-9D73547D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16A-DEDC-45F6-A61F-B000FC03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908F-2282-44E6-99D9-510B91F7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45DD-FFB2-4C2A-9A4B-CFA42267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BD08-E61A-4A11-9767-BA9EF307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DB7-A01D-42C2-AD3D-372C1B32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49A0-7DE8-458C-9427-674A2E8D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4A1-1C03-4243-B1A7-98E37DC1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FD6F-DA98-4275-B26E-4EA5281AC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relim.ppt" TargetMode="External"/><Relationship Id="rId2" Type="http://schemas.openxmlformats.org/officeDocument/2006/relationships/hyperlink" Target="file:///analysis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5334120"/>
            <a:ext cx="990720" cy="9144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685800" y="1218960"/>
            <a:ext cx="152280" cy="41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4200" y="65088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Preliminar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Study/Invest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1676160"/>
            <a:ext cx="76212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31000" y="1184400"/>
            <a:ext cx="36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Analysi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and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685800" y="2438280"/>
            <a:ext cx="129528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65600" y="187020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85800" y="3200040"/>
            <a:ext cx="15238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16440" y="263196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85800" y="3886200"/>
            <a:ext cx="17524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94440" y="3317760"/>
            <a:ext cx="30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85800" y="4647960"/>
            <a:ext cx="2209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77480" y="400356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85800" y="5333760"/>
            <a:ext cx="28954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63640" y="484200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19520" y="2057400"/>
            <a:ext cx="182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Lif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20440" y="80316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SAC1 Uni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53400" y="1870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SAC 2 Uni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5040" y="2438280"/>
            <a:ext cx="184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SAC 3 Uni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SAC 1 Unit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53600" y="385128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SAC 2 Uni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586728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5960" y="5680080"/>
            <a:ext cx="342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ference: Fitzpatrick 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uild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ystem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34:39Z</dcterms:created>
  <dc:creator>TECH</dc:creator>
  <dc:description/>
  <dc:language>en-US</dc:language>
  <cp:lastModifiedBy>TECH</cp:lastModifiedBy>
  <dcterms:modified xsi:type="dcterms:W3CDTF">2001-09-21T00:55:52Z</dcterms:modified>
  <cp:revision>4</cp:revision>
  <dc:subject/>
  <dc:title>No Slide Title</dc:title>
</cp:coreProperties>
</file>