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A1F-BD68-4306-B416-1F83A1BD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305-B234-4D3B-A15B-C666C6E2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8C8-D4A4-4880-A2DD-B5270CB6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56D-6B35-4425-802A-BD2E6E20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89E-DC7D-423C-9224-9C01308B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90F-7533-4356-8754-FA0C688C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6FA-CABD-4AE6-B0C8-481C312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FE4-A13F-4B08-956E-DE5B12A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329-6775-4AAF-A6D6-DE12B80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CFD-EA2B-4759-92B1-DAB2E9A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749-6ECC-4162-96E5-DBD8403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B3F-7E49-4C25-8477-DAA6EBEE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F3D8-A37A-4B6E-AAD7-F7D503455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3640" y="4986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9880" y="1031760"/>
            <a:ext cx="69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development plan ie project managem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3640" y="1523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7520" y="289548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testing, System testing and re-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057400"/>
            <a:ext cx="76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nd network software may need to be order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ed to facilitat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7800" y="342900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of the softwar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10:23Z</dcterms:created>
  <dc:creator>TECH</dc:creator>
  <dc:description/>
  <dc:language>en-US</dc:language>
  <cp:lastModifiedBy>TECH</cp:lastModifiedBy>
  <dcterms:modified xsi:type="dcterms:W3CDTF">2001-09-21T00:14:17Z</dcterms:modified>
  <cp:revision>3</cp:revision>
  <dc:subject/>
  <dc:title>No Slide Title</dc:title>
</cp:coreProperties>
</file>