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A7F-49B0-49E2-8136-40164C92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FA0-9F49-4579-9DF1-3070D9D6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BD6-6088-4B34-ABA1-D798D04F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C2B-1DE3-4014-97FE-C0070DD9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226-511B-4D66-9BFE-758FE86B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C6C-3250-4C14-9313-50E8FE6C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C9B-7CC9-4AFC-AEF6-0FC49BCC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539-3FD8-4C60-B23E-66012883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663-BFDB-4F64-83F5-3241AD49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127-8162-4BF9-82CD-F00439AE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033-75C6-45FB-8BA1-A44A9E8A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F76-509A-4AF5-8524-E99E67E1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7E7F-9591-4817-BF9E-3BB427D86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3960" y="2438280"/>
            <a:ext cx="736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quirements (objectives) in term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: input data, files, processing and output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: must be able to fit with a budget of 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: must be able to fit within current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99640" y="27000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s Analysis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6960" y="95580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D, Context Diagrams, Decision Tables, check lis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O chart: summary of data, processing and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81360" y="4495680"/>
            <a:ext cx="68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of design 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requirements to form the criteria by which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 the best design o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55:21Z</dcterms:created>
  <dc:creator>TECH</dc:creator>
  <dc:description/>
  <dc:language>en-US</dc:language>
  <cp:lastModifiedBy>TECH</cp:lastModifiedBy>
  <dcterms:modified xsi:type="dcterms:W3CDTF">2001-09-20T09:45:04Z</dcterms:modified>
  <cp:revision>1</cp:revision>
  <dc:subject/>
  <dc:title>No Slide Title</dc:title>
</cp:coreProperties>
</file>