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106-35DD-4505-B41B-374D4CAA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C69-86A6-4B14-B921-9EEF118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713-5FD1-46A9-BD27-B7682C90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569-69D2-40FF-B0E1-06A9554B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2C7-9D0D-49C5-AFCF-37ED81A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A75-B94A-4803-A3F8-F0DC6159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8E3-4A14-4D26-B1D3-AD3A034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3AD-0475-4827-B3C6-D4EE4A6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360-4378-4034-ACC3-4F31BE35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9D4-FE37-4857-A1E6-AB1196E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567-C063-4938-831D-4AB0497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50D-A13D-4630-99D8-772A91C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A359-4EB9-4050-8CE2-EBABEAB1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4120" y="4222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liminary Study/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55160" y="990720"/>
            <a:ext cx="78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users problem: efficiency/effectiveness aspects,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82080" y="1752480"/>
            <a:ext cx="72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data about the current system: interviews, survey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documents eg mission statement, org.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59840" y="274320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feasibility of possible solu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2400" y="3352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chnical: will alternative work technical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e upgradable in futur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2560" y="411480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: cost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39160" y="4572000"/>
            <a:ext cx="668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: will alternative fit organisation prac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impacts on employees acceptabl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9080" y="5334120"/>
            <a:ext cx="48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chedule: does alternative fit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5080" y="57913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recommendation: problem and broa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42:44Z</dcterms:created>
  <dc:creator>TECH</dc:creator>
  <dc:description/>
  <dc:language>en-US</dc:language>
  <cp:lastModifiedBy>TECH</cp:lastModifiedBy>
  <dcterms:modified xsi:type="dcterms:W3CDTF">2001-09-20T23:00:47Z</dcterms:modified>
  <cp:revision>3</cp:revision>
  <dc:subject/>
  <dc:title>No Slide Title</dc:title>
</cp:coreProperties>
</file>