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EA5B-B52E-4026-BBCE-5F7A6CD28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A5DB-5EF4-4512-A78F-1730B2CD8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FA9B-E13F-4081-B6DF-C1A071A19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032D-F424-4E61-8FFF-0D7490A72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381D-3AB8-4C70-98EA-B154F3E6E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658A-3D02-4804-ABD4-47BD46C80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3021-4BC2-43C2-ADCB-DB6B58873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3571-199A-4AA7-8506-CD988017F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D9B3-3794-400F-A1C8-A3ACA825C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72F1-EECD-4C76-8F21-2659445B9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BB12-3B00-41F3-9B20-9124006B8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65C2-706E-449F-A25C-3B13870EA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BF064-DA55-435D-8019-F740C5D602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35840" y="803160"/>
            <a:ext cx="710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Project Plan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: list tasks, pred, assign tasks, timelines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5840" y="1413000"/>
            <a:ext cx="83217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ut relate to case s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1: select steering commit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2: select pilot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3: develop documentation and training mate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4: Install and test all hardware and additional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5: train pilot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6: evaluate pilot and make changes as 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7: Complete installation and any file conversions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8: train all remaining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9: Test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8: Perform Immediate con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9: Maintain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10: Evaluat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23:40:11Z</dcterms:created>
  <dc:creator>TECH</dc:creator>
  <dc:description/>
  <dc:language>en-US</dc:language>
  <cp:lastModifiedBy>TECH</cp:lastModifiedBy>
  <dcterms:modified xsi:type="dcterms:W3CDTF">2001-09-20T23:45:19Z</dcterms:modified>
  <cp:revision>1</cp:revision>
  <dc:subject/>
  <dc:title>No Slide Title</dc:title>
</cp:coreProperties>
</file>