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AED-3E8F-4BAB-8F42-7150FA40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6B2-55F8-474B-BDEE-04A3260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D62-230D-4E1C-BB63-3F94AAD2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BF0-DB8A-4ACC-987D-A8B7D44C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470-8677-400F-88F0-E859AEE2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764-86C5-42DF-833E-571356FC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D81-47B3-4A3F-BACE-4A21E61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DBA-AE70-44CD-8B1A-3453F647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A29-BB9A-49B3-B7F1-078AC77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D1C-8BEF-42B5-B9A0-E4CFC21E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477-3422-457D-B707-2DA72A0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4D6-D4BD-4A63-A8A5-BEAAD09A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5C4-D3A2-4DE7-A9F7-4F15E020D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040" y="803160"/>
            <a:ext cx="814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up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backup of complete system, store offsite and on por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mirrored system and backup over network to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backups - back up changes since last full 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backups - complete backups of single area e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8000" y="3927600"/>
            <a:ext cx="678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day night: FULL BACKUP, store off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 - Friday: incremental onto Tape, store in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:  night complete backup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day - incremental, store off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05:31Z</dcterms:created>
  <dc:creator>TECH</dc:creator>
  <dc:description/>
  <dc:language>en-US</dc:language>
  <cp:lastModifiedBy>TECH</cp:lastModifiedBy>
  <dcterms:modified xsi:type="dcterms:W3CDTF">2001-09-21T00:13:38Z</dcterms:modified>
  <cp:revision>1</cp:revision>
  <dc:subject/>
  <dc:title>No Slide Title</dc:title>
</cp:coreProperties>
</file>