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74882-A6D8-49A1-9B66-9DBCDCF6D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A812-BB92-40D7-BCAF-0A455D5C8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D1C89-1176-4B8B-85DC-BDABA38C2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52EA7-1175-4809-8FB4-535C52344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D097B-237A-495E-B9ED-0A7A47C5E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85F10-72E7-4509-93B6-016322E54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B87D4-9C79-4FF4-80FF-91396B062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7CA95-2EF2-44A0-896A-953C373EA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3F6D-07DC-49CF-B9C4-B555D0EE0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3211-5AAE-47B3-9B07-A4891EF4B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0A735-546D-49BC-99DD-694C5CAC0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C1561-B88C-407E-84B4-52A69DCF4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381C-9483-428A-93E3-18721DCD1B83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34200" y="6608880"/>
            <a:ext cx="180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2d2525"/>
                </a:solidFill>
                <a:latin typeface="Tahoma"/>
              </a:rPr>
              <a:t>R.Timmer-Arends Aug 2004</a:t>
            </a: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34200" y="6608880"/>
            <a:ext cx="180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2d2525"/>
                </a:solidFill>
                <a:latin typeface="Tahoma"/>
              </a:rPr>
              <a:t>R.Timmer-Arends Aug 2004</a:t>
            </a: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hyperlink" Target="C:\Program Files\LCSI\MicroWorlds Pro\MWPro.exe" TargetMode="External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rogram Control Structur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95280" y="1268280"/>
            <a:ext cx="7632720" cy="4753080"/>
          </a:xfrm>
          <a:prstGeom prst="rect">
            <a:avLst/>
          </a:prstGeom>
          <a:solidFill>
            <a:srgbClr val="2d2525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98320" y="1627200"/>
            <a:ext cx="5342040" cy="4178160"/>
            <a:chOff x="598320" y="1627200"/>
            <a:chExt cx="5342040" cy="4178160"/>
          </a:xfrm>
        </p:grpSpPr>
        <p:grpSp>
          <p:nvGrpSpPr>
            <p:cNvPr id="232" name=""/>
            <p:cNvGrpSpPr/>
            <p:nvPr/>
          </p:nvGrpSpPr>
          <p:grpSpPr>
            <a:xfrm>
              <a:off x="598320" y="1627200"/>
              <a:ext cx="5342040" cy="4178160"/>
              <a:chOff x="598320" y="1627200"/>
              <a:chExt cx="5342040" cy="4178160"/>
            </a:xfrm>
          </p:grpSpPr>
          <p:sp>
            <p:nvSpPr>
              <p:cNvPr id="233" name=""/>
              <p:cNvSpPr/>
              <p:nvPr/>
            </p:nvSpPr>
            <p:spPr>
              <a:xfrm>
                <a:off x="598320" y="1627200"/>
                <a:ext cx="5329440" cy="4178160"/>
              </a:xfrm>
              <a:prstGeom prst="rect">
                <a:avLst/>
              </a:prstGeom>
              <a:solidFill>
                <a:srgbClr val="a7b4b7"/>
              </a:solidFill>
              <a:ln w="76320">
                <a:solidFill>
                  <a:srgbClr val="d8d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11280" y="2276640"/>
                <a:ext cx="5329080" cy="0"/>
              </a:xfrm>
              <a:prstGeom prst="line">
                <a:avLst/>
              </a:prstGeom>
              <a:ln w="76320">
                <a:solidFill>
                  <a:srgbClr val="d8d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611280" y="2924280"/>
              <a:ext cx="5329080" cy="0"/>
            </a:xfrm>
            <a:prstGeom prst="line">
              <a:avLst/>
            </a:prstGeom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98320" y="2924280"/>
            <a:ext cx="5341680" cy="2881080"/>
            <a:chOff x="598320" y="2924280"/>
            <a:chExt cx="5341680" cy="2881080"/>
          </a:xfrm>
        </p:grpSpPr>
        <p:sp>
          <p:nvSpPr>
            <p:cNvPr id="237" name=""/>
            <p:cNvSpPr/>
            <p:nvPr/>
          </p:nvSpPr>
          <p:spPr>
            <a:xfrm>
              <a:off x="598320" y="2924280"/>
              <a:ext cx="5329440" cy="2881080"/>
            </a:xfrm>
            <a:prstGeom prst="rect">
              <a:avLst/>
            </a:prstGeom>
            <a:solidFill>
              <a:srgbClr val="a7b4b7"/>
            </a:solidFill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1318680" y="3716280"/>
              <a:ext cx="4621320" cy="0"/>
            </a:xfrm>
            <a:prstGeom prst="line">
              <a:avLst/>
            </a:prstGeom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19040" y="3716280"/>
              <a:ext cx="0" cy="2063880"/>
            </a:xfrm>
            <a:prstGeom prst="line">
              <a:avLst/>
            </a:prstGeom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318680" y="3716280"/>
            <a:ext cx="4610160" cy="2089080"/>
            <a:chOff x="1318680" y="3716280"/>
            <a:chExt cx="4610160" cy="2089080"/>
          </a:xfrm>
        </p:grpSpPr>
        <p:grpSp>
          <p:nvGrpSpPr>
            <p:cNvPr id="241" name=""/>
            <p:cNvGrpSpPr/>
            <p:nvPr/>
          </p:nvGrpSpPr>
          <p:grpSpPr>
            <a:xfrm>
              <a:off x="1318680" y="3716280"/>
              <a:ext cx="4610160" cy="1081080"/>
              <a:chOff x="1318680" y="3716280"/>
              <a:chExt cx="4610160" cy="1081080"/>
            </a:xfrm>
          </p:grpSpPr>
          <p:sp>
            <p:nvSpPr>
              <p:cNvPr id="242" name=""/>
              <p:cNvSpPr/>
              <p:nvPr/>
            </p:nvSpPr>
            <p:spPr>
              <a:xfrm>
                <a:off x="1319040" y="3716280"/>
                <a:ext cx="4608360" cy="1081080"/>
              </a:xfrm>
              <a:prstGeom prst="rect">
                <a:avLst/>
              </a:prstGeom>
              <a:solidFill>
                <a:srgbClr val="a7b4b7"/>
              </a:solidFill>
              <a:ln w="76320">
                <a:solidFill>
                  <a:srgbClr val="d8d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True                         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False</a:t>
                </a:r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1318680" y="3717360"/>
                <a:ext cx="2305080" cy="1079640"/>
              </a:xfrm>
              <a:prstGeom prst="line">
                <a:avLst/>
              </a:prstGeom>
              <a:ln w="76320">
                <a:solidFill>
                  <a:srgbClr val="d8d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3623760" y="3716280"/>
                <a:ext cx="2305080" cy="1081080"/>
              </a:xfrm>
              <a:prstGeom prst="line">
                <a:avLst/>
              </a:prstGeom>
              <a:ln w="76320">
                <a:solidFill>
                  <a:srgbClr val="d8d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1320480" y="4797360"/>
              <a:ext cx="2303640" cy="1008000"/>
            </a:xfrm>
            <a:prstGeom prst="rect">
              <a:avLst/>
            </a:prstGeom>
            <a:solidFill>
              <a:srgbClr val="a7b4b7"/>
            </a:solidFill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24120" y="4797360"/>
              <a:ext cx="2303280" cy="1008000"/>
            </a:xfrm>
            <a:prstGeom prst="rect">
              <a:avLst/>
            </a:prstGeom>
            <a:solidFill>
              <a:srgbClr val="a7b4b7"/>
            </a:solidFill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824760" y="168588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c62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61c62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61c62"/>
                </a:solidFill>
                <a:latin typeface="Arial"/>
              </a:rPr>
              <a:t> 3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24760" y="234936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c62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061c62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61c62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30686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c62"/>
                </a:solidFill>
                <a:latin typeface="Arial"/>
              </a:rPr>
              <a:t>Do while b &gt; 1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39178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c62"/>
                </a:solidFill>
                <a:latin typeface="Arial"/>
              </a:rPr>
              <a:t>a &lt;= b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19280" y="5013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c62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061c62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61c62"/>
                </a:solidFill>
                <a:latin typeface="Arial"/>
              </a:rPr>
              <a:t> b – 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2720" y="5013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c62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61c62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61c62"/>
                </a:solidFill>
                <a:latin typeface="Arial"/>
              </a:rPr>
              <a:t> a – b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518520" y="1574640"/>
            <a:ext cx="933120" cy="1494000"/>
            <a:chOff x="6518520" y="1574640"/>
            <a:chExt cx="933120" cy="1494000"/>
          </a:xfrm>
        </p:grpSpPr>
        <p:sp>
          <p:nvSpPr>
            <p:cNvPr id="254" name=""/>
            <p:cNvSpPr/>
            <p:nvPr/>
          </p:nvSpPr>
          <p:spPr>
            <a:xfrm>
              <a:off x="6588000" y="2205000"/>
              <a:ext cx="863640" cy="863640"/>
            </a:xfrm>
            <a:prstGeom prst="rect">
              <a:avLst/>
            </a:prstGeom>
            <a:noFill/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18520" y="1574640"/>
              <a:ext cx="60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a 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518520" y="3591000"/>
            <a:ext cx="933120" cy="1493640"/>
            <a:chOff x="6518520" y="3591000"/>
            <a:chExt cx="933120" cy="1493640"/>
          </a:xfrm>
        </p:grpSpPr>
        <p:sp>
          <p:nvSpPr>
            <p:cNvPr id="257" name=""/>
            <p:cNvSpPr/>
            <p:nvPr/>
          </p:nvSpPr>
          <p:spPr>
            <a:xfrm>
              <a:off x="6588000" y="4221000"/>
              <a:ext cx="863640" cy="863640"/>
            </a:xfrm>
            <a:prstGeom prst="rect">
              <a:avLst/>
            </a:prstGeom>
            <a:noFill/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18520" y="3591000"/>
              <a:ext cx="60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b 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6805800" y="229536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3 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74120" y="431172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2 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19640" y="2981160"/>
            <a:ext cx="2160360" cy="520560"/>
          </a:xfrm>
          <a:prstGeom prst="rect">
            <a:avLst/>
          </a:prstGeom>
          <a:solidFill>
            <a:srgbClr val="a7b4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 &gt; 1? True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71640" y="3429000"/>
            <a:ext cx="2664000" cy="520560"/>
          </a:xfrm>
          <a:prstGeom prst="rect">
            <a:avLst/>
          </a:prstGeom>
          <a:solidFill>
            <a:srgbClr val="a7b4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 &lt;= 2? False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05800" y="227664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 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71640" y="3486240"/>
            <a:ext cx="2664000" cy="520560"/>
          </a:xfrm>
          <a:prstGeom prst="rect">
            <a:avLst/>
          </a:prstGeom>
          <a:solidFill>
            <a:srgbClr val="a7b4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 &lt;= 2? True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74120" y="429264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 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48000" y="2997360"/>
            <a:ext cx="2160720" cy="520560"/>
          </a:xfrm>
          <a:prstGeom prst="rect">
            <a:avLst/>
          </a:prstGeom>
          <a:solidFill>
            <a:srgbClr val="a7b4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 &gt; 1? False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71640" y="3716280"/>
            <a:ext cx="0" cy="2592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61c62"/>
                </a:solidFill>
                <a:latin typeface="Times New Roman"/>
              </a:rPr>
              <a:t>For example …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autoRev="1" nodeType="clickEffect" fill="hold" presetClass="emph" presetID="3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54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autoRev="1" nodeType="clickEffect" fill="hold" presetClass="emph" presetID="3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6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autoRev="1" nodeType="clickEffect" fill="hold" presetClass="emph" presetID="3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74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autoRev="1" nodeType="clickEffect" fill="hold" presetClass="emph" presetID="3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81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autoRev="1" nodeType="clickEffect" fill="hold" presetClass="emph" presetID="3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88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xit" presetID="35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0"/>
                            </p:stCondLst>
                            <p:childTnLst>
                              <p:par>
                                <p:cTn id="597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3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06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3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13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autoRev="1" nodeType="clickEffect" fill="hold" presetClass="emph" presetID="3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2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xit" presetID="35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0"/>
                            </p:stCondLst>
                            <p:childTnLst>
                              <p:par>
                                <p:cTn id="629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3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38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1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7656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d2525"/>
                </a:solidFill>
                <a:latin typeface="Times New Roman"/>
              </a:rPr>
              <a:t>A program is a list of instructions</a:t>
            </a: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d2525"/>
                </a:solidFill>
                <a:latin typeface="Times New Roman"/>
              </a:rPr>
              <a:t>An instruction starts with a command</a:t>
            </a: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d2525"/>
                </a:solidFill>
                <a:latin typeface="Times New Roman"/>
              </a:rPr>
              <a:t>Some commands require an input</a:t>
            </a: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93372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61c62"/>
                </a:solidFill>
                <a:latin typeface="Tahoma"/>
              </a:rPr>
              <a:t>ht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61c62"/>
                </a:solidFill>
                <a:latin typeface="Tahoma"/>
              </a:rPr>
              <a:t>fd 50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61c62"/>
                </a:solidFill>
                <a:latin typeface="Tahoma"/>
              </a:rPr>
              <a:t>print sentence [Hello] answer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392112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3300"/>
                </a:solidFill>
                <a:latin typeface="Tahoma"/>
              </a:rPr>
              <a:t>ht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3300"/>
                </a:solidFill>
                <a:latin typeface="Tahoma"/>
              </a:rPr>
              <a:t>fd </a:t>
            </a:r>
            <a:r>
              <a:rPr b="0" lang="en-AU" sz="3600" spc="-1" strike="noStrike">
                <a:solidFill>
                  <a:srgbClr val="061c62"/>
                </a:solidFill>
                <a:latin typeface="Tahoma"/>
              </a:rPr>
              <a:t>50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3300"/>
                </a:solidFill>
                <a:latin typeface="Tahoma"/>
              </a:rPr>
              <a:t>print</a:t>
            </a:r>
            <a:r>
              <a:rPr b="0" lang="en-AU" sz="3600" spc="-1" strike="noStrike">
                <a:solidFill>
                  <a:srgbClr val="061c62"/>
                </a:solidFill>
                <a:latin typeface="Tahoma"/>
              </a:rPr>
              <a:t> sentence [Hello] answer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392112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3300"/>
                </a:solidFill>
                <a:latin typeface="Tahoma"/>
              </a:rPr>
              <a:t>ht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3300"/>
                </a:solidFill>
                <a:latin typeface="Tahoma"/>
              </a:rPr>
              <a:t>fd </a:t>
            </a:r>
            <a:r>
              <a:rPr b="0" lang="en-AU" sz="3600" spc="-1" strike="noStrike">
                <a:solidFill>
                  <a:srgbClr val="ffff00"/>
                </a:solidFill>
                <a:latin typeface="Tahoma"/>
              </a:rPr>
              <a:t>50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3300"/>
                </a:solidFill>
                <a:latin typeface="Tahoma"/>
              </a:rPr>
              <a:t>print </a:t>
            </a:r>
            <a:r>
              <a:rPr b="0" lang="en-AU" sz="3600" spc="-1" strike="noStrike">
                <a:solidFill>
                  <a:srgbClr val="ffff00"/>
                </a:solidFill>
                <a:latin typeface="Tahoma"/>
              </a:rPr>
              <a:t>sentence [Hello] answer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56360" y="620640"/>
            <a:ext cx="2736720" cy="5761080"/>
          </a:xfrm>
          <a:prstGeom prst="rect">
            <a:avLst/>
          </a:prstGeom>
          <a:solidFill>
            <a:srgbClr val="2d2525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372360" y="1486080"/>
            <a:ext cx="2303280" cy="4608360"/>
            <a:chOff x="6372360" y="1486080"/>
            <a:chExt cx="2303280" cy="4608360"/>
          </a:xfrm>
        </p:grpSpPr>
        <p:sp>
          <p:nvSpPr>
            <p:cNvPr id="95" name=""/>
            <p:cNvSpPr/>
            <p:nvPr/>
          </p:nvSpPr>
          <p:spPr>
            <a:xfrm>
              <a:off x="6372360" y="1486080"/>
              <a:ext cx="2303280" cy="4608360"/>
            </a:xfrm>
            <a:prstGeom prst="rect">
              <a:avLst/>
            </a:prstGeom>
            <a:solidFill>
              <a:srgbClr val="a7b4b7"/>
            </a:solidFill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372360" y="2049480"/>
              <a:ext cx="2303280" cy="0"/>
            </a:xfrm>
            <a:prstGeom prst="line">
              <a:avLst/>
            </a:prstGeom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372360" y="2628720"/>
              <a:ext cx="2303280" cy="0"/>
            </a:xfrm>
            <a:prstGeom prst="line">
              <a:avLst/>
            </a:prstGeom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372360" y="3209760"/>
              <a:ext cx="2303280" cy="0"/>
            </a:xfrm>
            <a:prstGeom prst="line">
              <a:avLst/>
            </a:prstGeom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372360" y="3789360"/>
              <a:ext cx="2303280" cy="0"/>
            </a:xfrm>
            <a:prstGeom prst="line">
              <a:avLst/>
            </a:prstGeom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372360" y="4368960"/>
              <a:ext cx="2303280" cy="0"/>
            </a:xfrm>
            <a:prstGeom prst="line">
              <a:avLst/>
            </a:prstGeom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372360" y="4950000"/>
              <a:ext cx="2303280" cy="0"/>
            </a:xfrm>
            <a:prstGeom prst="line">
              <a:avLst/>
            </a:prstGeom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372360" y="5529240"/>
              <a:ext cx="2303280" cy="0"/>
            </a:xfrm>
            <a:prstGeom prst="line">
              <a:avLst/>
            </a:prstGeom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806880" y="15318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06880" y="21114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06880" y="26906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06880" y="32702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6880" y="38512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06880" y="44308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06880" y="501012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06880" y="55911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72360" y="765000"/>
            <a:ext cx="1152360" cy="505080"/>
          </a:xfrm>
          <a:prstGeom prst="roundRect">
            <a:avLst>
              <a:gd name="adj" fmla="val 16667"/>
            </a:avLst>
          </a:prstGeom>
          <a:solidFill>
            <a:srgbClr val="d8d688"/>
          </a:solidFill>
          <a:ln w="0">
            <a:noFill/>
          </a:ln>
          <a:effectLst>
            <a:outerShdw dist="17819" dir="2700000" blurRad="0" rotWithShape="0">
              <a:srgbClr val="817f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787320"/>
            <a:ext cx="5943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d2525"/>
                </a:solidFill>
                <a:latin typeface="Times New Roman"/>
              </a:rPr>
              <a:t>Program execution starts at the first instruction in the list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d2525"/>
                </a:solidFill>
                <a:latin typeface="Times New Roman"/>
              </a:rPr>
              <a:t>Instructions are executed one after the other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d2525"/>
                </a:solidFill>
                <a:latin typeface="Times New Roman"/>
              </a:rPr>
              <a:t>This is called a </a:t>
            </a:r>
            <a:r>
              <a:rPr b="0" lang="en-US" sz="3600" spc="-1" strike="noStrike">
                <a:solidFill>
                  <a:srgbClr val="061c62"/>
                </a:solidFill>
                <a:latin typeface="Arial"/>
              </a:rPr>
              <a:t>sequence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4457880"/>
            <a:ext cx="6019920" cy="155628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525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61c62"/>
                </a:solidFill>
                <a:latin typeface="Arial"/>
              </a:rPr>
              <a:t> a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equence structure</a:t>
            </a:r>
            <a:r>
              <a:rPr b="0" lang="en-US" sz="3200" spc="-1" strike="noStrike">
                <a:solidFill>
                  <a:srgbClr val="061c62"/>
                </a:solidFill>
                <a:latin typeface="Arial"/>
              </a:rPr>
              <a:t> is a set of instructions executed in order, one after the other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autoRev="1" nodeType="after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500"/>
                            </p:stCondLst>
                            <p:childTnLst>
                              <p:par>
                                <p:cTn id="60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c6d9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d2525"/>
                </a:solidFill>
                <a:latin typeface="Times New Roman"/>
              </a:rPr>
              <a:t>But, this is too tedious to do …</a:t>
            </a: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75960" y="176832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61c62"/>
                </a:solidFill>
                <a:latin typeface="Arial"/>
              </a:rPr>
              <a:t>fd 100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1800" y="220968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61c62"/>
                </a:solidFill>
                <a:latin typeface="Arial"/>
              </a:rPr>
              <a:t>rt 90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75960" y="263700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61c62"/>
                </a:solidFill>
                <a:latin typeface="Arial"/>
              </a:rPr>
              <a:t>fd 100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1800" y="307800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61c62"/>
                </a:solidFill>
                <a:latin typeface="Arial"/>
              </a:rPr>
              <a:t>rt 90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1800" y="347508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61c62"/>
                </a:solidFill>
                <a:latin typeface="Arial"/>
              </a:rPr>
              <a:t>fd 100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07640" y="391644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61c62"/>
                </a:solidFill>
                <a:latin typeface="Arial"/>
              </a:rPr>
              <a:t>rt 90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1800" y="434340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61c62"/>
                </a:solidFill>
                <a:latin typeface="Arial"/>
              </a:rPr>
              <a:t>fd 100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07640" y="478476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61c62"/>
                </a:solidFill>
                <a:latin typeface="Arial"/>
              </a:rPr>
              <a:t>rt 90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54864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d2525"/>
                </a:solidFill>
                <a:latin typeface="Times New Roman"/>
              </a:rPr>
              <a:t>There has to be a better way!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375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175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5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85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725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25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7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7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4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580000" y="333360"/>
            <a:ext cx="3313080" cy="4032360"/>
          </a:xfrm>
          <a:prstGeom prst="rect">
            <a:avLst/>
          </a:prstGeom>
          <a:solidFill>
            <a:srgbClr val="2d2525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796000" y="1198440"/>
            <a:ext cx="2879640" cy="2879640"/>
            <a:chOff x="5796000" y="1198440"/>
            <a:chExt cx="2879640" cy="2879640"/>
          </a:xfrm>
        </p:grpSpPr>
        <p:grpSp>
          <p:nvGrpSpPr>
            <p:cNvPr id="126" name=""/>
            <p:cNvGrpSpPr/>
            <p:nvPr/>
          </p:nvGrpSpPr>
          <p:grpSpPr>
            <a:xfrm>
              <a:off x="5796000" y="1198440"/>
              <a:ext cx="2879640" cy="2879640"/>
              <a:chOff x="5796000" y="1198440"/>
              <a:chExt cx="2879640" cy="2879640"/>
            </a:xfrm>
          </p:grpSpPr>
          <p:sp>
            <p:nvSpPr>
              <p:cNvPr id="127" name=""/>
              <p:cNvSpPr/>
              <p:nvPr/>
            </p:nvSpPr>
            <p:spPr>
              <a:xfrm>
                <a:off x="5796000" y="1198440"/>
                <a:ext cx="2879640" cy="2879640"/>
              </a:xfrm>
              <a:prstGeom prst="rect">
                <a:avLst/>
              </a:prstGeom>
              <a:solidFill>
                <a:srgbClr val="a7b4b7"/>
              </a:solidFill>
              <a:ln w="76320">
                <a:solidFill>
                  <a:srgbClr val="d8d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372360" y="1761840"/>
                <a:ext cx="2303280" cy="0"/>
              </a:xfrm>
              <a:prstGeom prst="line">
                <a:avLst/>
              </a:prstGeom>
              <a:ln w="76320">
                <a:solidFill>
                  <a:srgbClr val="d8d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6372360" y="2341440"/>
                <a:ext cx="2303280" cy="0"/>
              </a:xfrm>
              <a:prstGeom prst="line">
                <a:avLst/>
              </a:prstGeom>
              <a:ln w="76320">
                <a:solidFill>
                  <a:srgbClr val="d8d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6372360" y="2922120"/>
                <a:ext cx="2303280" cy="0"/>
              </a:xfrm>
              <a:prstGeom prst="line">
                <a:avLst/>
              </a:prstGeom>
              <a:ln w="76320">
                <a:solidFill>
                  <a:srgbClr val="d8d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6372360" y="3501720"/>
                <a:ext cx="2303280" cy="0"/>
              </a:xfrm>
              <a:prstGeom prst="line">
                <a:avLst/>
              </a:prstGeom>
              <a:ln w="76320">
                <a:solidFill>
                  <a:srgbClr val="d8d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372360" y="1725480"/>
              <a:ext cx="0" cy="2352600"/>
            </a:xfrm>
            <a:prstGeom prst="line">
              <a:avLst/>
            </a:prstGeom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867280" y="12445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Do while ? is tru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06880" y="182412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06880" y="24033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06880" y="2982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06880" y="35640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477720"/>
            <a:ext cx="1152360" cy="505080"/>
          </a:xfrm>
          <a:prstGeom prst="roundRect">
            <a:avLst>
              <a:gd name="adj" fmla="val 16667"/>
            </a:avLst>
          </a:prstGeom>
          <a:solidFill>
            <a:srgbClr val="d8d688"/>
          </a:solidFill>
          <a:ln w="0">
            <a:noFill/>
          </a:ln>
          <a:effectLst>
            <a:outerShdw dist="17819" dir="2700000" blurRad="0" rotWithShape="0">
              <a:srgbClr val="817f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27640" y="1270080"/>
            <a:ext cx="2160720" cy="459720"/>
          </a:xfrm>
          <a:prstGeom prst="rect">
            <a:avLst/>
          </a:prstGeom>
          <a:solidFill>
            <a:srgbClr val="a7b4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? = tru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27640" y="1243080"/>
            <a:ext cx="2160720" cy="459720"/>
          </a:xfrm>
          <a:prstGeom prst="rect">
            <a:avLst/>
          </a:prstGeom>
          <a:solidFill>
            <a:srgbClr val="a7b4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? = fals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012000" y="-312840"/>
            <a:ext cx="1008720" cy="431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2000" y="1628640"/>
            <a:ext cx="576720" cy="51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762120"/>
            <a:ext cx="45720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By using special commands we can write instructions that tell the computer to repeat other instructions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546440"/>
            <a:ext cx="6019920" cy="204372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525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61c62"/>
                </a:solidFill>
                <a:latin typeface="Arial"/>
              </a:rPr>
              <a:t> a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petition structure</a:t>
            </a:r>
            <a:r>
              <a:rPr b="0" lang="en-US" sz="3200" spc="-1" strike="noStrike">
                <a:solidFill>
                  <a:srgbClr val="061c62"/>
                </a:solidFill>
                <a:latin typeface="Arial"/>
              </a:rPr>
              <a:t> causes a set of instructions to be repeated while/until som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ndition</a:t>
            </a:r>
            <a:r>
              <a:rPr b="0" lang="en-US" sz="3200" spc="-1" strike="noStrike">
                <a:solidFill>
                  <a:srgbClr val="061c62"/>
                </a:solidFill>
                <a:latin typeface="Arial"/>
              </a:rPr>
              <a:t> is met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indefinite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autoRev="1" nodeType="after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7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500"/>
                            </p:stCondLst>
                            <p:childTnLst>
                              <p:par>
                                <p:cTn id="175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4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7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8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1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4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7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0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1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61c6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500"/>
                            </p:stCondLst>
                            <p:childTnLst>
                              <p:par>
                                <p:cTn id="23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3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6500"/>
                            </p:stCondLst>
                            <p:childTnLst>
                              <p:par>
                                <p:cTn id="23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c6d9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…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and what about …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3520" y="1639800"/>
            <a:ext cx="50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Arial"/>
              </a:rPr>
              <a:t>Question to user:</a:t>
            </a: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 Are you well?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Arial"/>
              </a:rPr>
              <a:t>Answer entered by user:</a:t>
            </a: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 Y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Arial"/>
              </a:rPr>
              <a:t>Announcement to user:</a:t>
            </a: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 That’s good!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30600" y="3124080"/>
            <a:ext cx="49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Arial"/>
              </a:rPr>
              <a:t>Question to user:</a:t>
            </a: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 Are you well?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Arial"/>
              </a:rPr>
              <a:t>Answer entered by user:</a:t>
            </a: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 N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Arial"/>
              </a:rPr>
              <a:t>Announcement to user:</a:t>
            </a: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 That’s sad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4800600"/>
            <a:ext cx="7467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e need the computer to be able to choose between one instruction and another.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780000" y="620640"/>
            <a:ext cx="5113080" cy="4680000"/>
          </a:xfrm>
          <a:prstGeom prst="rect">
            <a:avLst/>
          </a:prstGeom>
          <a:solidFill>
            <a:srgbClr val="2d2525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068360" y="2637000"/>
            <a:ext cx="2304000" cy="2376360"/>
            <a:chOff x="4068360" y="2637000"/>
            <a:chExt cx="2304000" cy="2376360"/>
          </a:xfrm>
        </p:grpSpPr>
        <p:sp>
          <p:nvSpPr>
            <p:cNvPr id="151" name=""/>
            <p:cNvSpPr/>
            <p:nvPr/>
          </p:nvSpPr>
          <p:spPr>
            <a:xfrm>
              <a:off x="4068720" y="2637000"/>
              <a:ext cx="2303640" cy="2376360"/>
            </a:xfrm>
            <a:prstGeom prst="rect">
              <a:avLst/>
            </a:prstGeom>
            <a:solidFill>
              <a:srgbClr val="a7b4b7"/>
            </a:solidFill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068360" y="3273480"/>
              <a:ext cx="2303640" cy="0"/>
            </a:xfrm>
            <a:prstGeom prst="line">
              <a:avLst/>
            </a:prstGeom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68360" y="3852720"/>
              <a:ext cx="2303640" cy="0"/>
            </a:xfrm>
            <a:prstGeom prst="line">
              <a:avLst/>
            </a:prstGeom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068360" y="4433760"/>
              <a:ext cx="2303640" cy="0"/>
            </a:xfrm>
            <a:prstGeom prst="line">
              <a:avLst/>
            </a:prstGeom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503240" y="27558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03240" y="33354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3240" y="39146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03240" y="44942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67280" y="765000"/>
            <a:ext cx="1152360" cy="505080"/>
          </a:xfrm>
          <a:prstGeom prst="roundRect">
            <a:avLst>
              <a:gd name="adj" fmla="val 16667"/>
            </a:avLst>
          </a:prstGeom>
          <a:solidFill>
            <a:srgbClr val="d8d688"/>
          </a:solidFill>
          <a:ln w="0">
            <a:noFill/>
          </a:ln>
          <a:effectLst>
            <a:outerShdw dist="17819" dir="2700000" blurRad="0" rotWithShape="0">
              <a:srgbClr val="817f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372360" y="2637000"/>
            <a:ext cx="2303280" cy="2376360"/>
            <a:chOff x="6372360" y="2637000"/>
            <a:chExt cx="2303280" cy="2376360"/>
          </a:xfrm>
        </p:grpSpPr>
        <p:sp>
          <p:nvSpPr>
            <p:cNvPr id="161" name=""/>
            <p:cNvSpPr/>
            <p:nvPr/>
          </p:nvSpPr>
          <p:spPr>
            <a:xfrm>
              <a:off x="6372360" y="2637000"/>
              <a:ext cx="2303280" cy="2376360"/>
            </a:xfrm>
            <a:prstGeom prst="rect">
              <a:avLst/>
            </a:prstGeom>
            <a:solidFill>
              <a:srgbClr val="a7b4b7"/>
            </a:solidFill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372360" y="3273480"/>
              <a:ext cx="2303280" cy="0"/>
            </a:xfrm>
            <a:prstGeom prst="line">
              <a:avLst/>
            </a:prstGeom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372360" y="3852720"/>
              <a:ext cx="2303280" cy="0"/>
            </a:xfrm>
            <a:prstGeom prst="line">
              <a:avLst/>
            </a:prstGeom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372360" y="4433760"/>
              <a:ext cx="2303280" cy="0"/>
            </a:xfrm>
            <a:prstGeom prst="line">
              <a:avLst/>
            </a:prstGeom>
            <a:ln w="76320">
              <a:solidFill>
                <a:srgbClr val="d8d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806880" y="27558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06880" y="33354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06880" y="39146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06880" y="44942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67280" y="1555920"/>
            <a:ext cx="4608360" cy="1081080"/>
          </a:xfrm>
          <a:prstGeom prst="rect">
            <a:avLst/>
          </a:prstGeom>
          <a:solidFill>
            <a:srgbClr val="a7b4b7"/>
          </a:solidFill>
          <a:ln w="76320">
            <a:solidFill>
              <a:srgbClr val="d8d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rue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Fals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4066920" y="1557000"/>
            <a:ext cx="2305080" cy="1079640"/>
          </a:xfrm>
          <a:prstGeom prst="line">
            <a:avLst/>
          </a:prstGeom>
          <a:ln w="76320">
            <a:solidFill>
              <a:srgbClr val="d8d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372000" y="1555920"/>
            <a:ext cx="2305080" cy="1081080"/>
          </a:xfrm>
          <a:prstGeom prst="line">
            <a:avLst/>
          </a:prstGeom>
          <a:ln w="76320">
            <a:solidFill>
              <a:srgbClr val="d8d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24360" y="155736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61c62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1773360"/>
            <a:ext cx="1657440" cy="459720"/>
          </a:xfrm>
          <a:prstGeom prst="rect">
            <a:avLst/>
          </a:prstGeom>
          <a:solidFill>
            <a:srgbClr val="a7b4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? = tru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80000" y="1773360"/>
            <a:ext cx="1584360" cy="459720"/>
          </a:xfrm>
          <a:prstGeom prst="rect">
            <a:avLst/>
          </a:prstGeom>
          <a:solidFill>
            <a:srgbClr val="a7b4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? = fals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533520"/>
            <a:ext cx="355140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By using special commands we can write instructions that tell the computer to select certain instructions for execution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4546440"/>
            <a:ext cx="6019920" cy="204372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525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61c62"/>
                </a:solidFill>
                <a:latin typeface="Arial"/>
              </a:rPr>
              <a:t> a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election structure</a:t>
            </a:r>
            <a:r>
              <a:rPr b="0" lang="en-US" sz="3200" spc="-1" strike="noStrike">
                <a:solidFill>
                  <a:srgbClr val="061c62"/>
                </a:solidFill>
                <a:latin typeface="Arial"/>
              </a:rPr>
              <a:t> causes a set of instructions to be selected for execution according to som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ndition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indefinite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61c6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d252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61c6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500"/>
                            </p:stCondLst>
                            <p:childTnLst>
                              <p:par>
                                <p:cTn id="325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500"/>
                            </p:stCondLst>
                            <p:childTnLst>
                              <p:par>
                                <p:cTn id="328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500"/>
                            </p:stCondLst>
                            <p:childTnLst>
                              <p:par>
                                <p:cTn id="334" autoRev="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d252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rogram Control Structur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" y="1628280"/>
            <a:ext cx="5041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Arial"/>
              </a:rPr>
              <a:t>Sequence structur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execute instructions one after the othe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Arial"/>
              </a:rPr>
              <a:t>Repetition structur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repeatedly execute instruction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Arial"/>
              </a:rPr>
              <a:t>Selection structur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lect only certain instructions for execution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6058080"/>
          <a:ext cx="826920" cy="79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58080"/>
                    <a:ext cx="8269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 flipH="1">
            <a:off x="971640" y="3500280"/>
            <a:ext cx="2520720" cy="1368720"/>
          </a:xfrm>
          <a:prstGeom prst="wedgeRoundRectCallout">
            <a:avLst>
              <a:gd name="adj1" fmla="val 34064"/>
              <a:gd name="adj2" fmla="val 74592"/>
              <a:gd name="adj3" fmla="val 16667"/>
            </a:avLst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61c62"/>
                </a:solidFill>
                <a:latin typeface="Tahoma"/>
              </a:rPr>
              <a:t>Oooo Goodie!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61c62"/>
                </a:solidFill>
                <a:latin typeface="Tahoma"/>
              </a:rPr>
              <a:t>A set of building blocks!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427640" y="3573360"/>
            <a:ext cx="4174920" cy="1008000"/>
            <a:chOff x="4427640" y="3573360"/>
            <a:chExt cx="4174920" cy="1008000"/>
          </a:xfrm>
        </p:grpSpPr>
        <p:grpSp>
          <p:nvGrpSpPr>
            <p:cNvPr id="183" name=""/>
            <p:cNvGrpSpPr/>
            <p:nvPr/>
          </p:nvGrpSpPr>
          <p:grpSpPr>
            <a:xfrm>
              <a:off x="4427640" y="3573360"/>
              <a:ext cx="1295280" cy="1008000"/>
              <a:chOff x="4427640" y="3573360"/>
              <a:chExt cx="1295280" cy="1008000"/>
            </a:xfrm>
          </p:grpSpPr>
          <p:sp>
            <p:nvSpPr>
              <p:cNvPr id="184" name=""/>
              <p:cNvSpPr/>
              <p:nvPr/>
            </p:nvSpPr>
            <p:spPr>
              <a:xfrm>
                <a:off x="4427640" y="3573360"/>
                <a:ext cx="1295280" cy="1008000"/>
              </a:xfrm>
              <a:prstGeom prst="rect">
                <a:avLst/>
              </a:prstGeom>
              <a:solidFill>
                <a:srgbClr val="d8d688"/>
              </a:solidFill>
              <a:ln w="2844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43280" y="3789360"/>
                <a:ext cx="1079280" cy="7920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844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867280" y="3573360"/>
              <a:ext cx="1295640" cy="1008000"/>
              <a:chOff x="5867280" y="3573360"/>
              <a:chExt cx="1295640" cy="1008000"/>
            </a:xfrm>
          </p:grpSpPr>
          <p:sp>
            <p:nvSpPr>
              <p:cNvPr id="187" name=""/>
              <p:cNvSpPr/>
              <p:nvPr/>
            </p:nvSpPr>
            <p:spPr>
              <a:xfrm flipV="1">
                <a:off x="5867280" y="3573360"/>
                <a:ext cx="1295640" cy="1008000"/>
              </a:xfrm>
              <a:prstGeom prst="rect">
                <a:avLst/>
              </a:prstGeom>
              <a:solidFill>
                <a:srgbClr val="d8d688"/>
              </a:solidFill>
              <a:ln w="2844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083280" y="3573360"/>
                <a:ext cx="1079640" cy="792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2844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307280" y="3573360"/>
              <a:ext cx="1295280" cy="1008000"/>
              <a:chOff x="7307280" y="3573360"/>
              <a:chExt cx="1295280" cy="1008000"/>
            </a:xfrm>
          </p:grpSpPr>
          <p:sp>
            <p:nvSpPr>
              <p:cNvPr id="190" name=""/>
              <p:cNvSpPr/>
              <p:nvPr/>
            </p:nvSpPr>
            <p:spPr>
              <a:xfrm>
                <a:off x="7307280" y="3573360"/>
                <a:ext cx="1295280" cy="1008000"/>
              </a:xfrm>
              <a:prstGeom prst="rect">
                <a:avLst/>
              </a:prstGeom>
              <a:solidFill>
                <a:srgbClr val="d8d688"/>
              </a:solidFill>
              <a:ln w="2844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522920" y="3789360"/>
                <a:ext cx="1079640" cy="5763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2844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"/>
          <p:cNvSpPr/>
          <p:nvPr/>
        </p:nvSpPr>
        <p:spPr>
          <a:xfrm>
            <a:off x="4859280" y="2205000"/>
            <a:ext cx="1295280" cy="100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076360" y="5013360"/>
            <a:ext cx="1296000" cy="1008000"/>
            <a:chOff x="5076360" y="5013360"/>
            <a:chExt cx="1296000" cy="1008000"/>
          </a:xfrm>
        </p:grpSpPr>
        <p:sp>
          <p:nvSpPr>
            <p:cNvPr id="194" name=""/>
            <p:cNvSpPr/>
            <p:nvPr/>
          </p:nvSpPr>
          <p:spPr>
            <a:xfrm>
              <a:off x="5076720" y="5013360"/>
              <a:ext cx="1295640" cy="1008000"/>
            </a:xfrm>
            <a:prstGeom prst="rect">
              <a:avLst/>
            </a:prstGeom>
            <a:solidFill>
              <a:srgbClr val="d8d688"/>
            </a:solidFill>
            <a:ln w="2844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76720" y="5373360"/>
              <a:ext cx="647640" cy="647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24360" y="5373360"/>
              <a:ext cx="648000" cy="647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2844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5076360" y="5013360"/>
              <a:ext cx="647640" cy="360000"/>
            </a:xfrm>
            <a:prstGeom prst="line">
              <a:avLst/>
            </a:prstGeom>
            <a:ln w="2844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724360" y="5013360"/>
              <a:ext cx="648000" cy="360000"/>
            </a:xfrm>
            <a:prstGeom prst="line">
              <a:avLst/>
            </a:prstGeom>
            <a:ln w="2844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0" y="4653000"/>
            <a:ext cx="8459640" cy="1915920"/>
          </a:xfrm>
          <a:prstGeom prst="rightArrow">
            <a:avLst>
              <a:gd name="adj1" fmla="val 81278"/>
              <a:gd name="adj2" fmla="val 80868"/>
            </a:avLst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ut the blocks together and …</a:t>
            </a:r>
            <a:endParaRPr b="0" lang="en-US" sz="4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20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042920" y="5238720"/>
            <a:ext cx="175284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4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2" nodeType="afterEffect" fill="hold" presetClass="exit" presetID="35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9500"/>
                            </p:stCondLst>
                            <p:childTnLst>
                              <p:par>
                                <p:cTn id="429" nodeType="after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0" dur="5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7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4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4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xit" presetID="3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build a program!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16160" y="1700280"/>
            <a:ext cx="3456000" cy="4608360"/>
          </a:xfrm>
          <a:prstGeom prst="rect">
            <a:avLst/>
          </a:prstGeom>
          <a:noFill/>
          <a:ln w="2844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16160" y="1700280"/>
            <a:ext cx="3456000" cy="72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215800" y="4244760"/>
            <a:ext cx="3455640" cy="2037960"/>
            <a:chOff x="2215800" y="4244760"/>
            <a:chExt cx="3455640" cy="2037960"/>
          </a:xfrm>
        </p:grpSpPr>
        <p:sp>
          <p:nvSpPr>
            <p:cNvPr id="205" name=""/>
            <p:cNvSpPr/>
            <p:nvPr/>
          </p:nvSpPr>
          <p:spPr>
            <a:xfrm>
              <a:off x="2216160" y="4245120"/>
              <a:ext cx="3455280" cy="2037600"/>
            </a:xfrm>
            <a:prstGeom prst="rect">
              <a:avLst/>
            </a:prstGeom>
            <a:solidFill>
              <a:srgbClr val="d8d688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16160" y="4973400"/>
              <a:ext cx="1726920" cy="130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43080" y="4973400"/>
              <a:ext cx="1728000" cy="1309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215800" y="4244760"/>
              <a:ext cx="1726920" cy="728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3943080" y="4244760"/>
              <a:ext cx="1728000" cy="728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997080" y="5014440"/>
            <a:ext cx="1630080" cy="1220760"/>
            <a:chOff x="3997080" y="5014440"/>
            <a:chExt cx="1630080" cy="1220760"/>
          </a:xfrm>
        </p:grpSpPr>
        <p:sp>
          <p:nvSpPr>
            <p:cNvPr id="211" name=""/>
            <p:cNvSpPr/>
            <p:nvPr/>
          </p:nvSpPr>
          <p:spPr>
            <a:xfrm>
              <a:off x="3997440" y="5014800"/>
              <a:ext cx="1629720" cy="1220400"/>
            </a:xfrm>
            <a:prstGeom prst="rect">
              <a:avLst/>
            </a:prstGeom>
            <a:solidFill>
              <a:srgbClr val="d8d688"/>
            </a:solidFill>
            <a:ln w="2844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97440" y="5450760"/>
              <a:ext cx="814680" cy="784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12120" y="5450760"/>
              <a:ext cx="815040" cy="784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844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997080" y="5014440"/>
              <a:ext cx="814680" cy="435960"/>
            </a:xfrm>
            <a:prstGeom prst="line">
              <a:avLst/>
            </a:prstGeom>
            <a:ln w="2844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812120" y="5014440"/>
              <a:ext cx="815040" cy="435960"/>
            </a:xfrm>
            <a:prstGeom prst="line">
              <a:avLst/>
            </a:prstGeom>
            <a:ln w="2844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260440" y="5014800"/>
            <a:ext cx="1652400" cy="920880"/>
            <a:chOff x="2260440" y="5014800"/>
            <a:chExt cx="1652400" cy="920880"/>
          </a:xfrm>
        </p:grpSpPr>
        <p:sp>
          <p:nvSpPr>
            <p:cNvPr id="217" name=""/>
            <p:cNvSpPr/>
            <p:nvPr/>
          </p:nvSpPr>
          <p:spPr>
            <a:xfrm flipV="1">
              <a:off x="2260440" y="5014800"/>
              <a:ext cx="1652400" cy="920880"/>
            </a:xfrm>
            <a:prstGeom prst="rect">
              <a:avLst/>
            </a:prstGeom>
            <a:solidFill>
              <a:srgbClr val="d8d688"/>
            </a:solidFill>
            <a:ln w="2844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535840" y="5014800"/>
              <a:ext cx="1377000" cy="7232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216160" y="2452680"/>
            <a:ext cx="3456000" cy="1295280"/>
            <a:chOff x="2216160" y="2452680"/>
            <a:chExt cx="3456000" cy="1295280"/>
          </a:xfrm>
        </p:grpSpPr>
        <p:sp>
          <p:nvSpPr>
            <p:cNvPr id="220" name=""/>
            <p:cNvSpPr/>
            <p:nvPr/>
          </p:nvSpPr>
          <p:spPr>
            <a:xfrm>
              <a:off x="2216160" y="2452680"/>
              <a:ext cx="3456000" cy="1295280"/>
            </a:xfrm>
            <a:prstGeom prst="rect">
              <a:avLst/>
            </a:prstGeom>
            <a:solidFill>
              <a:srgbClr val="d8d688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76520" y="2739600"/>
              <a:ext cx="3095640" cy="10080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216160" y="3772080"/>
            <a:ext cx="3456000" cy="43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620800" y="2782800"/>
            <a:ext cx="3018960" cy="933480"/>
            <a:chOff x="2620800" y="2782800"/>
            <a:chExt cx="3018960" cy="933480"/>
          </a:xfrm>
        </p:grpSpPr>
        <p:sp>
          <p:nvSpPr>
            <p:cNvPr id="224" name=""/>
            <p:cNvSpPr/>
            <p:nvPr/>
          </p:nvSpPr>
          <p:spPr>
            <a:xfrm>
              <a:off x="2620800" y="2782800"/>
              <a:ext cx="3018960" cy="933480"/>
            </a:xfrm>
            <a:prstGeom prst="rect">
              <a:avLst/>
            </a:prstGeom>
            <a:solidFill>
              <a:srgbClr val="d8d688"/>
            </a:solidFill>
            <a:ln w="2844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20800" y="3116160"/>
              <a:ext cx="1509120" cy="5997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2844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29920" y="3116160"/>
              <a:ext cx="1509840" cy="5997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2844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2620800" y="2782800"/>
              <a:ext cx="1509120" cy="333360"/>
            </a:xfrm>
            <a:prstGeom prst="line">
              <a:avLst/>
            </a:prstGeom>
            <a:ln w="2844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29920" y="2782800"/>
              <a:ext cx="1509840" cy="333360"/>
            </a:xfrm>
            <a:prstGeom prst="line">
              <a:avLst/>
            </a:prstGeom>
            <a:ln w="2844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263680" y="5978520"/>
            <a:ext cx="1643040" cy="2649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11:44:07Z</dcterms:created>
  <dc:creator>Timmer-Arends</dc:creator>
  <dc:description/>
  <dc:language>en-US</dc:language>
  <cp:lastModifiedBy>rta</cp:lastModifiedBy>
  <dcterms:modified xsi:type="dcterms:W3CDTF">2005-01-19T02:39:13Z</dcterms:modified>
  <cp:revision>87</cp:revision>
  <dc:subject/>
  <dc:title>Program Control Structure</dc:title>
</cp:coreProperties>
</file>