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4352-B5DA-41D2-AF54-8D8A79C7BAD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e are many file compression techniques available but two have become the standard for images in regard to Web page publication: JPEG and G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presentation compares the two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information is available in Chapter 2 of the 2nd Ed of IT@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may be necessary to explain the difference between vector and bit mapped graphics. See Chap 2, IT@work 2nd 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is presentation it would be unfair to compare the vector graphics format file size with the GIF and JPEG. Hence the TIFF file size - TIFF is a bitmapped for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ote the bitmapped file size and compare it to the GIF file on the next slide. Both GIF and JPEG compress bitmapped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ook what happens to the image using JPEG! Even at highest quality the sharpness of the has been softened - look carefully - and at highest compression, well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look at the file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IF on the other hand leaves the images completely intact but with quite small file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an added activity, ask the students to graph the compressed file sizes with the original sizes (JPEG for ‘Tulip’, GIF for the tulip graph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tudents should also be reminded that compression is not the only means of reducing files sizes - lowering the resolution is another technique that could be used. Its disadvantage is that this makes it less acceptable for pr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tudents may need to be reminded about pixels, dpi and R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ixel - picture element, a point of light on a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pi - dots per inch, a measure of the quality of an image - the higher the dpi the better its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GB - Red, Green, Blue - the primary colours that go together to make any colour we can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e Chap 2, IT@work 2nd Ed for an explanations of how this kind of data is s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e  Chap 2, IT@work 2nd Ed for further details about file formats suitable for printing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ood quality printing requires a resolution of at least 300dpi (and preferably 600dpi). Photographic quality even hig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igh resolution mean large file sizes when image data is s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ternet technology, however, is such that huge files can make download times intolerably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tudents need to know that modem speeds can only give an ‘at best’ time for Internet downloads. It might be worth discussing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ust click to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buttons are provided so that this photograph can be compared with two others later, by clicking back and forth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ote the file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ote the file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ote the loss in image quality - colour have become flatter, edges ‘chucky’ (for example look at white post in left backgroun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se the button to click back and forth between this photo and the lowest compression JPEG. This may help to highlight the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ote the file size - nowhere near as good as JPEG and there has been a slight loss in quality - best seen on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s because GIF only allows 256 colours so the various shades of, say, green have been collapsed to a few different gre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effect would be more pronounced in photos with a greater range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gain use the buttons to click back and forth. The difference is much harder to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ut GIF is not intended for photograph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4AE-835D-46ED-AD05-CF79FC4A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FEE-7316-40B8-A923-5D0AC47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6D2-500D-4A40-A3B5-1F198779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428-8E5D-47D5-AE78-DB4B3007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6C7-337E-4343-827A-14628EC1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1F3-1195-4F0C-8653-795DF92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7CA-A5E9-4C6E-9402-33812B9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A09-56C2-4BE9-97D6-59728173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2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266-78AB-491F-86F4-17FEE8BB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2F6-1CF3-4C67-96BB-4FF9B4B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7F9-ABC8-4AA9-9C51-9B4664EB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4E6-D1E8-408E-82EE-3839C3A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B01A-B090-46CB-AE46-EB31568DC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33744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ublished by Macmillan Education Australia, www.macmillan.com.au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Andersen, Christophersen, Timmer-Arends 200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opying permitted for use with </a:t>
            </a: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IT @ Wor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6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Image Compres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99"/>
                </a:solidFill>
                <a:latin typeface="Arial"/>
              </a:rPr>
              <a:t>JPEG and GIF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51" name="compress1" descr=""/>
          <p:cNvPicPr/>
          <p:nvPr/>
        </p:nvPicPr>
        <p:blipFill>
          <a:blip r:embed="rId1"/>
          <a:stretch/>
        </p:blipFill>
        <p:spPr>
          <a:xfrm>
            <a:off x="2128680" y="4643280"/>
            <a:ext cx="1990800" cy="1457640"/>
          </a:xfrm>
          <a:prstGeom prst="rect">
            <a:avLst/>
          </a:prstGeom>
          <a:ln w="0">
            <a:noFill/>
          </a:ln>
        </p:spPr>
      </p:pic>
      <p:pic>
        <p:nvPicPr>
          <p:cNvPr id="52" name="compress2" descr=""/>
          <p:cNvPicPr/>
          <p:nvPr/>
        </p:nvPicPr>
        <p:blipFill>
          <a:blip r:embed="rId2"/>
          <a:stretch/>
        </p:blipFill>
        <p:spPr>
          <a:xfrm>
            <a:off x="2100240" y="4991040"/>
            <a:ext cx="200988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compress3" descr=""/>
          <p:cNvPicPr/>
          <p:nvPr/>
        </p:nvPicPr>
        <p:blipFill>
          <a:blip r:embed="rId3"/>
          <a:stretch/>
        </p:blipFill>
        <p:spPr>
          <a:xfrm>
            <a:off x="1976400" y="3576600"/>
            <a:ext cx="231444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Graph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400480"/>
            <a:ext cx="706752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SmartDraw is a vector graphics program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Vector graphics are redrawn every time they are displayed. They are not suitable for web pages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48 colours are available.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SmartDraw file size: 1.66 Kb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As a TIFF, its file size is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177 Kb.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4479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Here is a simple graphic. It was drawn using SmartDra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tulip%20-%20gr" descr=""/>
          <p:cNvPicPr/>
          <p:nvPr/>
        </p:nvPicPr>
        <p:blipFill>
          <a:blip r:embed="rId1"/>
          <a:stretch/>
        </p:blipFill>
        <p:spPr>
          <a:xfrm>
            <a:off x="6343560" y="3909960"/>
            <a:ext cx="1860480" cy="2325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Graphics: GIF vs JPE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14440" y="1828800"/>
            <a:ext cx="4163760" cy="2095560"/>
            <a:chOff x="514440" y="1828800"/>
            <a:chExt cx="4163760" cy="2095560"/>
          </a:xfrm>
        </p:grpSpPr>
        <p:pic>
          <p:nvPicPr>
            <p:cNvPr id="142" name="tulip%20-%20gr" descr=""/>
            <p:cNvPicPr/>
            <p:nvPr/>
          </p:nvPicPr>
          <p:blipFill>
            <a:blip r:embed="rId1"/>
            <a:stretch/>
          </p:blipFill>
          <p:spPr>
            <a:xfrm>
              <a:off x="514440" y="1828800"/>
              <a:ext cx="16761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55680" y="1828800"/>
              <a:ext cx="252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GI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File size </a:t>
              </a:r>
              <a:r>
                <a:rPr b="0" lang="en-AU" sz="2400" spc="-1" strike="noStrike">
                  <a:solidFill>
                    <a:srgbClr val="00cc99"/>
                  </a:solidFill>
                  <a:latin typeface="Arial"/>
                </a:rPr>
                <a:t>3.25 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232160" y="1809720"/>
            <a:ext cx="4454640" cy="2114640"/>
            <a:chOff x="4232160" y="1809720"/>
            <a:chExt cx="4454640" cy="2114640"/>
          </a:xfrm>
        </p:grpSpPr>
        <p:pic>
          <p:nvPicPr>
            <p:cNvPr id="145" name="tulip%20-%20grtr" descr=""/>
            <p:cNvPicPr/>
            <p:nvPr/>
          </p:nvPicPr>
          <p:blipFill>
            <a:blip r:embed="rId2"/>
            <a:stretch/>
          </p:blipFill>
          <p:spPr>
            <a:xfrm>
              <a:off x="7010280" y="1828800"/>
              <a:ext cx="16765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232160" y="1809720"/>
              <a:ext cx="355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GIF with a transparent backgrou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File size </a:t>
              </a:r>
              <a:r>
                <a:rPr b="0" lang="en-AU" sz="2400" spc="-1" strike="noStrike">
                  <a:solidFill>
                    <a:srgbClr val="00cc99"/>
                  </a:solidFill>
                  <a:latin typeface="Arial"/>
                </a:rPr>
                <a:t>3.25 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4440" y="4191120"/>
            <a:ext cx="5676840" cy="2092320"/>
            <a:chOff x="514440" y="4191120"/>
            <a:chExt cx="5676840" cy="2092320"/>
          </a:xfrm>
        </p:grpSpPr>
        <p:sp>
          <p:nvSpPr>
            <p:cNvPr id="148" name=""/>
            <p:cNvSpPr/>
            <p:nvPr/>
          </p:nvSpPr>
          <p:spPr>
            <a:xfrm>
              <a:off x="2155680" y="4238640"/>
              <a:ext cx="403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JPEG - lowest compression. File size </a:t>
              </a:r>
              <a:r>
                <a:rPr b="0" lang="en-AU" sz="2400" spc="-1" strike="noStrike">
                  <a:solidFill>
                    <a:srgbClr val="00cc99"/>
                  </a:solidFill>
                  <a:latin typeface="Arial"/>
                </a:rPr>
                <a:t>30.2 Kb</a:t>
              </a: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tulip%20-%20gr1" descr=""/>
            <p:cNvPicPr/>
            <p:nvPr/>
          </p:nvPicPr>
          <p:blipFill>
            <a:blip r:embed="rId3"/>
            <a:stretch/>
          </p:blipFill>
          <p:spPr>
            <a:xfrm>
              <a:off x="514440" y="4191120"/>
              <a:ext cx="1673280" cy="20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2670120" y="4191120"/>
            <a:ext cx="6016680" cy="2095560"/>
            <a:chOff x="2670120" y="4191120"/>
            <a:chExt cx="6016680" cy="2095560"/>
          </a:xfrm>
        </p:grpSpPr>
        <p:pic>
          <p:nvPicPr>
            <p:cNvPr id="151" name="tulip%20-%20gr2" descr=""/>
            <p:cNvPicPr/>
            <p:nvPr/>
          </p:nvPicPr>
          <p:blipFill>
            <a:blip r:embed="rId4"/>
            <a:stretch/>
          </p:blipFill>
          <p:spPr>
            <a:xfrm>
              <a:off x="7013520" y="4191120"/>
              <a:ext cx="167328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670120" y="5461200"/>
              <a:ext cx="437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99"/>
                  </a:solidFill>
                  <a:latin typeface="Arial"/>
                </a:rPr>
                <a:t>JPEG - highest compression. File size </a:t>
              </a:r>
              <a:r>
                <a:rPr b="0" lang="en-AU" sz="2400" spc="-1" strike="noStrike">
                  <a:solidFill>
                    <a:srgbClr val="00cc99"/>
                  </a:solidFill>
                  <a:latin typeface="Arial"/>
                </a:rPr>
                <a:t>2.41 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784600" y="3132000"/>
            <a:ext cx="38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Here is the same graphic saved a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26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285840"/>
                <a:tab algn="l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5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Developed for photo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Variable compression factor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Lossy’ compression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Good compression of photos with minimal loss of qualit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Need to balance compression against qualit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Developed for graphic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Fixed compression factor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Lossless’ compression (&lt; 256 colours)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Good compression of graphics with no loss of qualit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99"/>
                </a:solidFill>
                <a:latin typeface="Arial"/>
              </a:rPr>
              <a:t>A transparency mask can be applie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31800" y="366840"/>
            <a:ext cx="3425760" cy="1612800"/>
            <a:chOff x="631800" y="366840"/>
            <a:chExt cx="3425760" cy="1612800"/>
          </a:xfrm>
        </p:grpSpPr>
        <p:pic>
          <p:nvPicPr>
            <p:cNvPr id="158" name="tulip2%20-%20lores%20small" descr=""/>
            <p:cNvPicPr/>
            <p:nvPr/>
          </p:nvPicPr>
          <p:blipFill>
            <a:blip r:embed="rId1"/>
            <a:stretch/>
          </p:blipFill>
          <p:spPr>
            <a:xfrm>
              <a:off x="631800" y="366840"/>
              <a:ext cx="214956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81360" y="1390680"/>
              <a:ext cx="127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cc00"/>
                  </a:solidFill>
                  <a:latin typeface="Arial"/>
                </a:rPr>
                <a:t>JPE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867280" y="371520"/>
            <a:ext cx="2571840" cy="1619280"/>
            <a:chOff x="5867280" y="371520"/>
            <a:chExt cx="2571840" cy="1619280"/>
          </a:xfrm>
        </p:grpSpPr>
        <p:pic>
          <p:nvPicPr>
            <p:cNvPr id="161" name="tulip%20-%20grtr" descr=""/>
            <p:cNvPicPr/>
            <p:nvPr/>
          </p:nvPicPr>
          <p:blipFill>
            <a:blip r:embed="rId2"/>
            <a:stretch/>
          </p:blipFill>
          <p:spPr>
            <a:xfrm>
              <a:off x="7143840" y="371520"/>
              <a:ext cx="129528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867280" y="1371600"/>
              <a:ext cx="127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cc00"/>
                  </a:solidFill>
                  <a:latin typeface="Arial"/>
                </a:rPr>
                <a:t>GI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Photograp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Image size: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1200 x 960 pixel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Resolution: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300 dpi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Colour: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24-bit RGB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6765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This photo was taken with a Sony Mavica digital camera. It is not shown at ful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ulip2%20-%20orig" descr=""/>
          <p:cNvPicPr/>
          <p:nvPr/>
        </p:nvPicPr>
        <p:blipFill>
          <a:blip r:embed="rId1"/>
          <a:stretch/>
        </p:blipFill>
        <p:spPr>
          <a:xfrm>
            <a:off x="4575240" y="3246480"/>
            <a:ext cx="4111560" cy="308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46280" y="4343400"/>
            <a:ext cx="359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ulips’ will be used in the next few slides to demonstrate some aspects of JPEG and GIF file for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3439800"/>
            <a:ext cx="7628040" cy="28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When ‘Tulips’ is saved as a TIFF, a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3.51 MB</a:t>
            </a:r>
            <a:r>
              <a:rPr b="0" lang="en-AU" sz="2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file is created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Printing needs high resolution, but on the Web this TIFF file would at best take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over a minute to download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 using a 56 Kbps modem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Hence the need for compression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Why compres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647040" y="1449360"/>
            <a:ext cx="1523880" cy="1828800"/>
            <a:chOff x="6647040" y="1449360"/>
            <a:chExt cx="1523880" cy="1828800"/>
          </a:xfrm>
        </p:grpSpPr>
        <p:sp>
          <p:nvSpPr>
            <p:cNvPr id="62" name=""/>
            <p:cNvSpPr/>
            <p:nvPr/>
          </p:nvSpPr>
          <p:spPr>
            <a:xfrm>
              <a:off x="6647040" y="1449360"/>
              <a:ext cx="1523880" cy="18288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99320" y="1677960"/>
              <a:ext cx="91404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99320" y="18302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99320" y="19825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9320" y="21351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99320" y="22874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99320" y="19065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99320" y="20588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99320" y="22111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99320" y="23637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99320" y="25923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99320" y="27446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99320" y="28969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99320" y="30495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99320" y="26683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99320" y="28209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99320" y="29732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99320" y="31255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25923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27446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28969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30495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6683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8880" y="28209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8880" y="29732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8880" y="3125520"/>
              <a:ext cx="380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7920" y="25923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57920" y="27446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57920" y="28969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7920" y="30495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7920" y="26683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57920" y="282096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57920" y="297324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57920" y="3125520"/>
              <a:ext cx="360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99320" y="2481120"/>
              <a:ext cx="3106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43560" y="1817640"/>
              <a:ext cx="757080" cy="669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61280" y="1963440"/>
              <a:ext cx="304200" cy="53352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6" y="324"/>
                  </a:moveTo>
                  <a:cubicBezTo>
                    <a:pt x="11" y="273"/>
                    <a:pt x="11" y="233"/>
                    <a:pt x="54" y="204"/>
                  </a:cubicBezTo>
                  <a:cubicBezTo>
                    <a:pt x="48" y="164"/>
                    <a:pt x="38" y="176"/>
                    <a:pt x="24" y="144"/>
                  </a:cubicBezTo>
                  <a:cubicBezTo>
                    <a:pt x="19" y="132"/>
                    <a:pt x="22" y="114"/>
                    <a:pt x="18" y="102"/>
                  </a:cubicBezTo>
                  <a:cubicBezTo>
                    <a:pt x="16" y="96"/>
                    <a:pt x="0" y="60"/>
                    <a:pt x="0" y="60"/>
                  </a:cubicBezTo>
                  <a:cubicBezTo>
                    <a:pt x="12" y="24"/>
                    <a:pt x="13" y="20"/>
                    <a:pt x="54" y="6"/>
                  </a:cubicBezTo>
                  <a:cubicBezTo>
                    <a:pt x="86" y="8"/>
                    <a:pt x="120" y="0"/>
                    <a:pt x="150" y="12"/>
                  </a:cubicBezTo>
                  <a:cubicBezTo>
                    <a:pt x="162" y="17"/>
                    <a:pt x="162" y="48"/>
                    <a:pt x="162" y="48"/>
                  </a:cubicBezTo>
                  <a:cubicBezTo>
                    <a:pt x="157" y="109"/>
                    <a:pt x="170" y="127"/>
                    <a:pt x="126" y="156"/>
                  </a:cubicBezTo>
                  <a:cubicBezTo>
                    <a:pt x="119" y="189"/>
                    <a:pt x="113" y="213"/>
                    <a:pt x="144" y="234"/>
                  </a:cubicBezTo>
                  <a:cubicBezTo>
                    <a:pt x="163" y="262"/>
                    <a:pt x="192" y="301"/>
                    <a:pt x="192" y="336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65840" y="2101680"/>
              <a:ext cx="257040" cy="38592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43"/>
                  </a:moveTo>
                  <a:cubicBezTo>
                    <a:pt x="160" y="221"/>
                    <a:pt x="162" y="198"/>
                    <a:pt x="156" y="177"/>
                  </a:cubicBezTo>
                  <a:cubicBezTo>
                    <a:pt x="154" y="170"/>
                    <a:pt x="143" y="171"/>
                    <a:pt x="138" y="165"/>
                  </a:cubicBezTo>
                  <a:cubicBezTo>
                    <a:pt x="134" y="160"/>
                    <a:pt x="134" y="153"/>
                    <a:pt x="132" y="147"/>
                  </a:cubicBezTo>
                  <a:cubicBezTo>
                    <a:pt x="134" y="135"/>
                    <a:pt x="135" y="123"/>
                    <a:pt x="138" y="111"/>
                  </a:cubicBezTo>
                  <a:cubicBezTo>
                    <a:pt x="141" y="99"/>
                    <a:pt x="150" y="75"/>
                    <a:pt x="150" y="75"/>
                  </a:cubicBezTo>
                  <a:cubicBezTo>
                    <a:pt x="144" y="26"/>
                    <a:pt x="149" y="23"/>
                    <a:pt x="108" y="9"/>
                  </a:cubicBezTo>
                  <a:cubicBezTo>
                    <a:pt x="42" y="15"/>
                    <a:pt x="35" y="0"/>
                    <a:pt x="18" y="51"/>
                  </a:cubicBezTo>
                  <a:cubicBezTo>
                    <a:pt x="20" y="71"/>
                    <a:pt x="18" y="92"/>
                    <a:pt x="24" y="111"/>
                  </a:cubicBezTo>
                  <a:cubicBezTo>
                    <a:pt x="26" y="118"/>
                    <a:pt x="38" y="117"/>
                    <a:pt x="42" y="123"/>
                  </a:cubicBezTo>
                  <a:cubicBezTo>
                    <a:pt x="47" y="130"/>
                    <a:pt x="46" y="139"/>
                    <a:pt x="48" y="147"/>
                  </a:cubicBezTo>
                  <a:cubicBezTo>
                    <a:pt x="46" y="163"/>
                    <a:pt x="32" y="187"/>
                    <a:pt x="24" y="201"/>
                  </a:cubicBezTo>
                  <a:cubicBezTo>
                    <a:pt x="17" y="213"/>
                    <a:pt x="9" y="228"/>
                    <a:pt x="0" y="23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9320" y="1527120"/>
            <a:ext cx="59626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TIFF is a widely used standard image file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It is intended for use with images that are to be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printed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0880" y="38232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JPEG</a:t>
            </a:r>
            <a:br>
              <a:rPr sz="4400"/>
            </a:br>
            <a:r>
              <a:rPr b="0" lang="en-AU" sz="4000" spc="-1" strike="noStrike">
                <a:solidFill>
                  <a:srgbClr val="ffcc00"/>
                </a:solidFill>
                <a:latin typeface="Arial"/>
              </a:rPr>
              <a:t>Joint Photographic Expert Group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One of the standard image file formats for web pages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Images are stored in a compressed format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Compression causes data loss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Data loss causes a drop in image quality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When saving an image in JPEG format, the user can choose the amount of compression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7840" y="330120"/>
            <a:ext cx="40798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Tulips 1: JPE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tulip2%20-%20orig" descr=""/>
          <p:cNvPicPr/>
          <p:nvPr/>
        </p:nvPicPr>
        <p:blipFill>
          <a:blip r:embed="rId1"/>
          <a:stretch/>
        </p:blipFill>
        <p:spPr>
          <a:xfrm>
            <a:off x="1519200" y="1222200"/>
            <a:ext cx="6100920" cy="4577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26160" y="228600"/>
            <a:ext cx="3422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lowest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highest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27000" y="6002280"/>
            <a:ext cx="913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File size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203 Kb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~17 times smaller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 than the TIFF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916760" y="1798560"/>
            <a:ext cx="857520" cy="628560"/>
          </a:xfrm>
          <a:custGeom>
            <a:avLst/>
            <a:gdLst>
              <a:gd name="textAreaLeft" fmla="*/ 40680 w 857520"/>
              <a:gd name="textAreaRight" fmla="*/ 816840 w 85752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9464" h="21600">
                <a:moveTo>
                  <a:pt x="0" y="0"/>
                </a:moveTo>
                <a:lnTo>
                  <a:pt x="29464" y="0"/>
                </a:lnTo>
                <a:lnTo>
                  <a:pt x="29464" y="21600"/>
                </a:lnTo>
                <a:lnTo>
                  <a:pt x="0" y="21600"/>
                </a:lnTo>
                <a:close/>
              </a:path>
              <a:path fill="lightenLess" w="29464" h="21600">
                <a:moveTo>
                  <a:pt x="0" y="0"/>
                </a:moveTo>
                <a:lnTo>
                  <a:pt x="29464" y="0"/>
                </a:lnTo>
                <a:lnTo>
                  <a:pt x="28064" y="1400"/>
                </a:lnTo>
                <a:lnTo>
                  <a:pt x="1400" y="1400"/>
                </a:lnTo>
                <a:close/>
              </a:path>
              <a:path fill="darken" w="29464" h="21600">
                <a:moveTo>
                  <a:pt x="29464" y="0"/>
                </a:moveTo>
                <a:lnTo>
                  <a:pt x="29464" y="21600"/>
                </a:lnTo>
                <a:lnTo>
                  <a:pt x="28064" y="20200"/>
                </a:lnTo>
                <a:lnTo>
                  <a:pt x="28064" y="1400"/>
                </a:lnTo>
                <a:close/>
              </a:path>
              <a:path fill="darkenLess" w="29464" h="21600">
                <a:moveTo>
                  <a:pt x="29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4" y="20200"/>
                </a:lnTo>
                <a:close/>
              </a:path>
              <a:path fill="lighten" w="29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4" h="21600">
                <a:moveTo>
                  <a:pt x="7725" y="3794"/>
                </a:moveTo>
                <a:lnTo>
                  <a:pt x="21738" y="10800"/>
                </a:lnTo>
                <a:lnTo>
                  <a:pt x="77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916760" y="3598920"/>
            <a:ext cx="857520" cy="628560"/>
          </a:xfrm>
          <a:custGeom>
            <a:avLst/>
            <a:gdLst>
              <a:gd name="textAreaLeft" fmla="*/ 40680 w 857520"/>
              <a:gd name="textAreaRight" fmla="*/ 816840 w 85752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9464" h="21600">
                <a:moveTo>
                  <a:pt x="0" y="0"/>
                </a:moveTo>
                <a:lnTo>
                  <a:pt x="29464" y="0"/>
                </a:lnTo>
                <a:lnTo>
                  <a:pt x="29464" y="21600"/>
                </a:lnTo>
                <a:lnTo>
                  <a:pt x="0" y="21600"/>
                </a:lnTo>
                <a:close/>
              </a:path>
              <a:path fill="lightenLess" w="29464" h="21600">
                <a:moveTo>
                  <a:pt x="0" y="0"/>
                </a:moveTo>
                <a:lnTo>
                  <a:pt x="29464" y="0"/>
                </a:lnTo>
                <a:lnTo>
                  <a:pt x="28064" y="1400"/>
                </a:lnTo>
                <a:lnTo>
                  <a:pt x="1400" y="1400"/>
                </a:lnTo>
                <a:close/>
              </a:path>
              <a:path fill="darken" w="29464" h="21600">
                <a:moveTo>
                  <a:pt x="29464" y="0"/>
                </a:moveTo>
                <a:lnTo>
                  <a:pt x="29464" y="21600"/>
                </a:lnTo>
                <a:lnTo>
                  <a:pt x="28064" y="20200"/>
                </a:lnTo>
                <a:lnTo>
                  <a:pt x="28064" y="1400"/>
                </a:lnTo>
                <a:close/>
              </a:path>
              <a:path fill="darkenLess" w="29464" h="21600">
                <a:moveTo>
                  <a:pt x="29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4" y="20200"/>
                </a:lnTo>
                <a:close/>
              </a:path>
              <a:path fill="lighten" w="29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4" h="21600">
                <a:moveTo>
                  <a:pt x="7725" y="3794"/>
                </a:moveTo>
                <a:lnTo>
                  <a:pt x="21738" y="10800"/>
                </a:lnTo>
                <a:lnTo>
                  <a:pt x="77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50160" y="2441520"/>
            <a:ext cx="119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are JPE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50160" y="4232160"/>
            <a:ext cx="119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are 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920" y="359892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lick to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46000" y="330120"/>
            <a:ext cx="4042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Tulips 2: JPE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6160" y="228600"/>
            <a:ext cx="3555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highest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lowest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27000" y="6002280"/>
            <a:ext cx="913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File size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23 Kb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~153 times smaller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 than the TIFF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ulip2%20-%20high%20comp" descr=""/>
          <p:cNvPicPr/>
          <p:nvPr/>
        </p:nvPicPr>
        <p:blipFill>
          <a:blip r:embed="rId1"/>
          <a:stretch/>
        </p:blipFill>
        <p:spPr>
          <a:xfrm>
            <a:off x="1517760" y="1222200"/>
            <a:ext cx="6086520" cy="456588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358920" y="1798560"/>
            <a:ext cx="857160" cy="609840"/>
          </a:xfrm>
          <a:custGeom>
            <a:avLst/>
            <a:gdLst>
              <a:gd name="textAreaLeft" fmla="*/ 39240 w 857160"/>
              <a:gd name="textAreaRight" fmla="*/ 817920 w 857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0355" h="21600">
                <a:moveTo>
                  <a:pt x="0" y="0"/>
                </a:moveTo>
                <a:lnTo>
                  <a:pt x="30355" y="0"/>
                </a:lnTo>
                <a:lnTo>
                  <a:pt x="30355" y="21600"/>
                </a:lnTo>
                <a:lnTo>
                  <a:pt x="0" y="21600"/>
                </a:lnTo>
                <a:close/>
              </a:path>
              <a:path fill="lightenLess" w="30355" h="21600">
                <a:moveTo>
                  <a:pt x="0" y="0"/>
                </a:moveTo>
                <a:lnTo>
                  <a:pt x="30355" y="0"/>
                </a:lnTo>
                <a:lnTo>
                  <a:pt x="28955" y="1400"/>
                </a:lnTo>
                <a:lnTo>
                  <a:pt x="1400" y="1400"/>
                </a:lnTo>
                <a:close/>
              </a:path>
              <a:path fill="darken" w="30355" h="21600">
                <a:moveTo>
                  <a:pt x="30355" y="0"/>
                </a:moveTo>
                <a:lnTo>
                  <a:pt x="30355" y="21600"/>
                </a:lnTo>
                <a:lnTo>
                  <a:pt x="28955" y="20200"/>
                </a:lnTo>
                <a:lnTo>
                  <a:pt x="28955" y="1400"/>
                </a:lnTo>
                <a:close/>
              </a:path>
              <a:path fill="darkenLess" w="30355" h="21600">
                <a:moveTo>
                  <a:pt x="30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55" y="20200"/>
                </a:lnTo>
                <a:close/>
              </a:path>
              <a:path fill="lighten" w="30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55" h="21600">
                <a:moveTo>
                  <a:pt x="8171" y="10800"/>
                </a:moveTo>
                <a:lnTo>
                  <a:pt x="22184" y="3794"/>
                </a:lnTo>
                <a:lnTo>
                  <a:pt x="2218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2441520"/>
            <a:ext cx="119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ack to comp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080" y="3598920"/>
            <a:ext cx="125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lick to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20880" y="38232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GIF</a:t>
            </a:r>
            <a:br>
              <a:rPr sz="4400"/>
            </a:br>
            <a:r>
              <a:rPr b="0" lang="en-AU" sz="4000" spc="-1" strike="noStrike">
                <a:solidFill>
                  <a:srgbClr val="ffcc00"/>
                </a:solidFill>
                <a:latin typeface="Arial"/>
              </a:rPr>
              <a:t>Graphics Interchange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One of the standard image file formats for web pages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Images are stored in a compressed format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Compression does not cause data loss …</a:t>
            </a:r>
            <a:br>
              <a:rPr sz="2800"/>
            </a:b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but only if no more than 256 colours are used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GIF allows the use of a ‘transparency mask’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6000" y="330120"/>
            <a:ext cx="4042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Tulips 3: GIF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6160" y="228600"/>
            <a:ext cx="389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But photos usually have millions of col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27000" y="6002280"/>
            <a:ext cx="913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File size 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536 Kb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,</a:t>
            </a:r>
            <a:r>
              <a:rPr b="0" lang="en-AU" sz="2800" spc="-1" strike="noStrike">
                <a:solidFill>
                  <a:srgbClr val="00cc99"/>
                </a:solidFill>
                <a:latin typeface="Arial"/>
              </a:rPr>
              <a:t>~6.5 times smaller</a:t>
            </a: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 than the TIFF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358920" y="3598920"/>
            <a:ext cx="857160" cy="609480"/>
          </a:xfrm>
          <a:custGeom>
            <a:avLst/>
            <a:gdLst>
              <a:gd name="textAreaLeft" fmla="*/ 39240 w 857160"/>
              <a:gd name="textAreaRight" fmla="*/ 817920 w 857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0373" h="21600">
                <a:moveTo>
                  <a:pt x="0" y="0"/>
                </a:moveTo>
                <a:lnTo>
                  <a:pt x="30373" y="0"/>
                </a:lnTo>
                <a:lnTo>
                  <a:pt x="30373" y="21600"/>
                </a:lnTo>
                <a:lnTo>
                  <a:pt x="0" y="21600"/>
                </a:lnTo>
                <a:close/>
              </a:path>
              <a:path fill="lightenLess" w="30373" h="21600">
                <a:moveTo>
                  <a:pt x="0" y="0"/>
                </a:moveTo>
                <a:lnTo>
                  <a:pt x="30373" y="0"/>
                </a:lnTo>
                <a:lnTo>
                  <a:pt x="28973" y="1400"/>
                </a:lnTo>
                <a:lnTo>
                  <a:pt x="1400" y="1400"/>
                </a:lnTo>
                <a:close/>
              </a:path>
              <a:path fill="darken" w="30373" h="21600">
                <a:moveTo>
                  <a:pt x="30373" y="0"/>
                </a:moveTo>
                <a:lnTo>
                  <a:pt x="30373" y="21600"/>
                </a:lnTo>
                <a:lnTo>
                  <a:pt x="28973" y="20200"/>
                </a:lnTo>
                <a:lnTo>
                  <a:pt x="28973" y="1400"/>
                </a:lnTo>
                <a:close/>
              </a:path>
              <a:path fill="darkenLess" w="30373" h="21600">
                <a:moveTo>
                  <a:pt x="3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3" y="20200"/>
                </a:lnTo>
                <a:close/>
              </a:path>
              <a:path fill="lighten" w="3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73" h="21600">
                <a:moveTo>
                  <a:pt x="8180" y="10800"/>
                </a:moveTo>
                <a:lnTo>
                  <a:pt x="22193" y="3794"/>
                </a:lnTo>
                <a:lnTo>
                  <a:pt x="221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200" y="4232160"/>
            <a:ext cx="11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ack to comp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ulip2" descr=""/>
          <p:cNvPicPr/>
          <p:nvPr/>
        </p:nvPicPr>
        <p:blipFill>
          <a:blip r:embed="rId2"/>
          <a:stretch/>
        </p:blipFill>
        <p:spPr>
          <a:xfrm>
            <a:off x="1517760" y="1222200"/>
            <a:ext cx="6095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5524560" y="3127320"/>
            <a:ext cx="3619440" cy="2435400"/>
            <a:chOff x="5524560" y="3127320"/>
            <a:chExt cx="3619440" cy="2435400"/>
          </a:xfrm>
        </p:grpSpPr>
        <p:grpSp>
          <p:nvGrpSpPr>
            <p:cNvPr id="128" name=""/>
            <p:cNvGrpSpPr/>
            <p:nvPr/>
          </p:nvGrpSpPr>
          <p:grpSpPr>
            <a:xfrm>
              <a:off x="5524560" y="3733560"/>
              <a:ext cx="2305080" cy="1829160"/>
              <a:chOff x="5524560" y="3733560"/>
              <a:chExt cx="2305080" cy="1829160"/>
            </a:xfrm>
          </p:grpSpPr>
          <p:sp>
            <p:nvSpPr>
              <p:cNvPr id="129" name=""/>
              <p:cNvSpPr/>
              <p:nvPr/>
            </p:nvSpPr>
            <p:spPr>
              <a:xfrm>
                <a:off x="5524560" y="4210200"/>
                <a:ext cx="1352520" cy="1352520"/>
              </a:xfrm>
              <a:prstGeom prst="ellipse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6781680" y="3733560"/>
                <a:ext cx="1047960" cy="7808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861320" y="3127320"/>
              <a:ext cx="128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cc00"/>
                  </a:solidFill>
                  <a:latin typeface="Times New Roman"/>
                </a:rPr>
                <a:t>Look carefully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9080" y="2308320"/>
            <a:ext cx="125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lick to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Photos: JPEG vs GIF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99"/>
                </a:solidFill>
                <a:latin typeface="Arial"/>
              </a:rPr>
              <a:t>At its lowest compression, JPE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reduces file sizes much more than GIF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99"/>
                </a:solidFill>
                <a:latin typeface="Arial"/>
              </a:rPr>
              <a:t>loses less image quality than GIF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99"/>
                </a:solidFill>
                <a:latin typeface="Arial"/>
              </a:rPr>
              <a:t>JPEG’s compression factor can be increased even more, GIF’s cannot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1868120" y="5143680"/>
            <a:ext cx="141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00"/>
                </a:solidFill>
                <a:latin typeface="Arial"/>
              </a:rPr>
              <a:t>But, GIF was not designed for photographic images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caridia</cp:lastModifiedBy>
  <dcterms:modified xsi:type="dcterms:W3CDTF">2002-08-08T00:03:35Z</dcterms:modified>
  <cp:revision>51</cp:revision>
  <dc:subject/>
  <dc:title>Image Compression</dc:title>
</cp:coreProperties>
</file>