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696-FC64-4E98-9DDF-A0D1C061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D44-2245-4792-9057-58D1B5BD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CEB-A5F1-4CB8-88F4-B62A839D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E7E-35C0-47E5-BAEE-557837DB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B784-B577-413C-B807-7AD14740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3464-CA4A-44B5-A75C-AD63931F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E590-44FE-497E-8002-6ABA239B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6807-6C6B-4F49-A3A5-7C62A61E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6F9E-7DD2-429B-95E5-C31CD3BF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0243-4263-45FD-BEA0-33ECC5FF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DC53-2B1C-4340-A9C3-EF9B74EB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410-484E-4316-B44C-04FFC828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5477-86D1-48F6-B85C-477996AD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FB6F-2F7A-43F6-998C-635C0454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4693-E3CA-45FF-9FD7-76DBA63D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39E1-AD37-4234-B1A1-3BAD2738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587B-17AB-4DA0-8E0C-83F03223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963-E8A6-4B63-A325-CFFBEBA5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62F-6E4D-48AA-8DFE-CB77C32E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0D7-1CD2-4D3A-9AF3-82E3322C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FA4-3345-48A2-ADC5-4A8A3018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F25-845E-452C-AA9F-6245FA59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BEC-0640-4C8F-A0F3-242E0D97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4EEB-D37B-477C-9282-630BD00C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40C1-842A-4DF6-B288-B1291CE49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vitta36" descr=""/>
          <p:cNvPicPr/>
          <p:nvPr/>
        </p:nvPicPr>
        <p:blipFill>
          <a:blip r:embed="rId2"/>
          <a:stretch/>
        </p:blipFill>
        <p:spPr>
          <a:xfrm>
            <a:off x="0" y="0"/>
            <a:ext cx="12682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3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B9D5-91B9-4AB9-ADCF-0EBAF6ABB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vitta36" descr=""/>
          <p:cNvPicPr/>
          <p:nvPr/>
        </p:nvPicPr>
        <p:blipFill>
          <a:blip r:embed="rId2"/>
          <a:stretch/>
        </p:blipFill>
        <p:spPr>
          <a:xfrm>
            <a:off x="57240" y="38160"/>
            <a:ext cx="1268280" cy="388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vitta.org.au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nformation Processing &amp; Management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Student Exam Information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 Stan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cellin Colle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September,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xam Etiquette – After The Exam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joy yoursel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ch Off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 into your next Exa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ractice Exams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 Stanton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www.vitta.org.a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 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vid Patrao’s – part of handou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il: patrao@netspace.net.a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90920" y="2362320"/>
            <a:ext cx="3581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ank-you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 – November, 2000 (Check Da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am will be </a:t>
            </a:r>
            <a:r>
              <a:rPr b="0" i="1" lang="en-US" sz="2800" spc="-1" strike="noStrike">
                <a:solidFill>
                  <a:srgbClr val="3366ff"/>
                </a:solidFill>
                <a:latin typeface="Times New Roman"/>
              </a:rPr>
              <a:t>very differ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previous year’s Exam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 “contributes 50% to the final assessmen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the Study Design and on the Outcomes in Units 3&amp;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will not be expected to use computers in the Examination to produce solu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 preparation is important – timeline is sh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xam Structure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stions will address all Exam Cri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will be presented with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l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ooklet will contain Questions &amp; Answ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ces for responses will be provided in the Bookl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nswers in spaces provi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 Booklet gets taken up by Exam Room Supervisors – don’t leave with i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xam Structure 2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write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i)  Think! Think! Think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ii) Write more elsewhere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ut make it clear that you hav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Exam Criteria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seven Criter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ee attached handou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you cover each of these before the Ex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xamples of Question Types…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1-2 line Ques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 Briefs for a solution provided with question(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sational Profile(s) provided with question(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ual Image(s)/Cartoon(s)/Table(s) provided with question(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be asked to rearrange items in a particular or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ge of options provided and you are asked to discuss/justify/explain etc.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be an extended Case Study or Newspaper Excerpt with question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Questions – What To Look Out For?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at the 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Question Stem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ie Explain, List, Describe etc) and answer accordingly (see handou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for 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choic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in Ques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at the 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mark alloc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ach question and base time on th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s 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(RTQ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e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get bogged down e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think about what each question is as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xam Etiquette – Before The Exam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are thorough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ten to your Teacher’s ad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tend yourself - practice with sample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cuss any questions you do not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 to Exam reasonably e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pment - have all you need on ha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in tire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xam Etiquette – During Exam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pment – lay it out on desk as des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d the “Directions To Studen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Reading Time to read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 which questions you will answer first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e your time – write answers in PEN and ensure handwriting is leg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sure you cross out any incorrect answers clearl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 follow instructions to the l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7T00:14:26Z</dcterms:created>
  <dc:creator>Student</dc:creator>
  <dc:description/>
  <dc:language>en-US</dc:language>
  <cp:lastModifiedBy>Student</cp:lastModifiedBy>
  <dcterms:modified xsi:type="dcterms:W3CDTF">2000-09-09T02:36:10Z</dcterms:modified>
  <cp:revision>3</cp:revision>
  <dc:subject/>
  <dc:title>Information Processing &amp; Management</dc:title>
</cp:coreProperties>
</file>