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6F7-10CD-4055-981B-BDC4C095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961-7089-493C-B2F7-1B71D6DD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002-2C7B-4012-8AD0-143A926B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ABD-E709-4B2D-A870-254C7E06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2433-0FC1-42E3-9460-CFFE9961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81DF-681D-4478-8607-E657E31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618-7DCF-4304-A16D-638288C8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026-3B15-40A6-81E6-095BEF2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B40C-9711-4839-9CD4-4169EDBE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CD08-7A51-410C-AB81-A8DB44C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3805-CBB3-46F4-BC66-9C08207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7CE-1766-4154-88F3-8746FEF0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773-E798-40FE-B881-779312F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8459-352D-4848-8EF2-F2EFD16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0FE-5295-46E9-B3CA-D9BFACCC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54B8-E890-43D1-A1FE-CBE4F1BA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5D00-9BD7-4FB8-B359-5A2A44E7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C7B-FD83-4B4C-8A24-ABBD3358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549-D166-414B-8574-42586C25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D69-434D-4275-A607-C5E2A8B5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8CD-8551-452E-9E29-99ACAED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793-BE8E-4A84-BFEE-9EEFDEA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7FE-97E9-4691-9C40-8AAE9DF4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203-8B8E-4D37-8B9A-87C89E5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277-BF1F-4E92-BA16-F2F5827DB7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28E-9F54-452A-B7A7-38F4F4AEFA2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tworking Bas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LA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LANs are designed 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Operate within a limited geographic are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Allow Multi-access to high-bandwidth med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ontrol the network privately under local administr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Provide full-time connectivity to local servi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onnect physically adjacent devi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LANs typically consist of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Router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Hub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Workst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Network peripherals such as Print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WA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Operate over a large geographical are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Allow access over serial interfaces operating at lower spee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Provide full-time and part-time connectiv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onnect devices separated over wide, even global are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Use a range of devices such as Routers, Modems, WAN Bandwidth switch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Bandwidt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how much information can flow from one place to the next in a given amount of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bits per second (fundamental unit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Kbps, Mbps, Gbp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media bandwidth often less than physical limit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NIC ca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signalling us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throughput” = measure of actual bandwid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Importance of Bandwidt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fini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can save mon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key measure to network design and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key to understanding the Intern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demand </a:t>
            </a:r>
            <a:r>
              <a:rPr b="0" lang="en-AU" sz="3200" spc="-1" strike="noStrike">
                <a:solidFill>
                  <a:srgbClr val="402000"/>
                </a:solidFill>
                <a:latin typeface="Symbol"/>
                <a:ea typeface="Symbol"/>
              </a:rPr>
              <a:t>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 constant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572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rry inform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ts, by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onsideration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includ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ble length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os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se of installatio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otal number of computers on the med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wisted pair, fibre, coax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reless med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ST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ield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ncell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wis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UT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shielding, only twis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east $, easy to instal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oaxi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iber Opt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Wirel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6668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Chiller"/>
              </a:rPr>
              <a:t>The more difficult a media is to install, the more expensive it is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2590920"/>
            <a:ext cx="2971800" cy="2286000"/>
          </a:xfrm>
          <a:prstGeom prst="rect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Cancell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The two magnetic fields shown will cancel each other out. They also cancel out any outside magnetic fields as well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Twisting the wires can enhance this cancellation effect. By using cancellation in combination with twisting of wires, cable designers can provide an effective method of providing self-shielding for wire pairs within the network medi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Cancellation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hysical Topolog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topolog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= structure of the net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"/>
              </a:rPr>
              <a:t>physical topolog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is the actual layout of the media (wir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6" name="PhysicalTopologies" descr=""/>
          <p:cNvPicPr/>
          <p:nvPr/>
        </p:nvPicPr>
        <p:blipFill>
          <a:blip r:embed="rId1"/>
          <a:srcRect l="0" t="20467" r="4411" b="0"/>
          <a:stretch/>
        </p:blipFill>
        <p:spPr>
          <a:xfrm>
            <a:off x="2209680" y="3048120"/>
            <a:ext cx="4953240" cy="355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8880" y="5867280"/>
            <a:ext cx="1524240" cy="52056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05360" y="609588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y Knowle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ype of Networks and data communication systems and their specifications, including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l area Networks (LAN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ide area Networks (WAN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bl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ndwid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Bus Network [255]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Decentralised network where all devices are connected along a single cabl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an be peer-to-peer or client/server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an easily add or remove devi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heaper to implement than Star networ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able can only handle one message at a tim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Fault in the cable will bring down the entire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Star Network [255]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s a centralised network with each device connecting directly with the central device such as a file server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ommonly used for client/server networ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an use a hub/switch to connect to the file serv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f file server is shutdown, then the entire network is shutdow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Expensive because of the need for extra cabling and hub/switch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an also have a problem with data collision if using a hu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 Devi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Repeat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crease allowable cable length in a net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regenerat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re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The 5-4-3 Rul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you can connect </a:t>
            </a:r>
            <a:r>
              <a:rPr b="0" i="1" lang="en-AU" sz="2800" spc="-1" strike="noStrike">
                <a:solidFill>
                  <a:srgbClr val="402000"/>
                </a:solidFill>
                <a:latin typeface="Times New Roman"/>
              </a:rPr>
              <a:t>five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network segments end-to-end using </a:t>
            </a:r>
            <a:r>
              <a:rPr b="0" i="1" lang="en-AU" sz="2800" spc="-1" strike="noStrike">
                <a:solidFill>
                  <a:srgbClr val="402000"/>
                </a:solidFill>
                <a:latin typeface="Times New Roman"/>
              </a:rPr>
              <a:t>four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repeaters but only </a:t>
            </a:r>
            <a:r>
              <a:rPr b="0" i="1" lang="en-AU" sz="2800" spc="-1" strike="noStrike">
                <a:solidFill>
                  <a:srgbClr val="402000"/>
                </a:solidFill>
                <a:latin typeface="Times New Roman"/>
              </a:rPr>
              <a:t>three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segments can have hosts (computers) on them.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input and one output port on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yer 1 dev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Hub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-port repeate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time and mostly regenerate signal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transmits data received from one computer to all the other computers which are connecte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s means only one computer at a time send data, otherwise there will be a collisi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ndalone vs stack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ckable are “daisy chained” (5</a:t>
            </a:r>
            <a:r>
              <a:rPr b="0" lang="en-US" sz="24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8 maximu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ically represent one large hu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9" name="Hub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5181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Hub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ubs create a central connection point for the wiring med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increase the reliability of the net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ngle cable failure in a </a:t>
            </a:r>
            <a:r>
              <a:rPr b="0" i="1" lang="en-AU" sz="2800" spc="-1" strike="noStrike">
                <a:solidFill>
                  <a:srgbClr val="402000"/>
                </a:solidFill>
                <a:latin typeface="Times New Roman"/>
              </a:rPr>
              <a:t>bus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topology will disrupt the entire network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</a:t>
            </a: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ayer 1 devic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only regenerate the signal and </a:t>
            </a:r>
            <a:r>
              <a:rPr b="0" i="1" lang="en-AU" sz="2800" spc="-1" strike="noStrike">
                <a:solidFill>
                  <a:srgbClr val="402000"/>
                </a:solidFill>
                <a:latin typeface="Times New Roman"/>
              </a:rPr>
              <a:t>broadcast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it out </a:t>
            </a:r>
            <a:r>
              <a:rPr b="0" lang="en-AU" sz="2800" spc="-1" strike="noStrike" u="sng">
                <a:solidFill>
                  <a:srgbClr val="402000"/>
                </a:solidFill>
                <a:uFillTx/>
                <a:latin typeface="Times New Roman"/>
              </a:rPr>
              <a:t>all</a:t>
            </a: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 of their ports (network connection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0Mbps and 100Mbps availa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13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ltistation </a:t>
            </a:r>
            <a:r>
              <a:rPr b="0" lang="en-US" sz="3200" spc="-1" strike="noStrike">
                <a:solidFill>
                  <a:srgbClr val="08013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8013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its for Token R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Colli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A collision occurs when two bits from two different communicating computers are on a shared-medium at the same time. The bits are corrupted "destroyed"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Some technologies, such as Ethernet, deal with a certain quantity of collisions to negotiate whose turn it is to transmit on the shared media when communicating between hosts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In some instances collisions are a natural part of the functioning of a network. However, excessive collisions can slow the network down or bring it to a halt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2000"/>
                </a:solidFill>
                <a:latin typeface="Times New Roman"/>
              </a:rPr>
              <a:t>There are many ways to deal with collisions. One way is to detect them and simply have a set of rules for dealing with them when they occur, as in Ethern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ters traffic on a net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eeps local traffic local but allows connectivity with other parts of the LA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ters via a frame’s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destinatio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AC addr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verall network traff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eeps a table of MAC addresses relating to devices on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segment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directly connected to 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input and a single output po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yer 2 dev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witc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ulti-port bridg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port acts like a brid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witches data out the port containing the destination dev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ubs broadcast data out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ports including the one containing the destination devi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rove LAN efficienc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ull bandwidth per po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yer 2 devi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d to create VLA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8" name="Switches" descr=""/>
          <p:cNvPicPr/>
          <p:nvPr/>
        </p:nvPicPr>
        <p:blipFill>
          <a:blip r:embed="rId1"/>
          <a:srcRect l="2082" t="13890" r="10417" b="63890"/>
          <a:stretch/>
        </p:blipFill>
        <p:spPr>
          <a:xfrm>
            <a:off x="3124080" y="457200"/>
            <a:ext cx="5715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Rou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examine incoming packets (piece of dat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choose the best path for them through the networ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to the packet’s destin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switch them to the proper outgoing port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*most important traffic-regulating devices on large networ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enable virtually any type of computer to communicate with any other computer anywhere in the worl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connect networ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1" name="Router" descr=""/>
          <p:cNvPicPr/>
          <p:nvPr/>
        </p:nvPicPr>
        <p:blipFill>
          <a:blip r:embed="rId1"/>
          <a:srcRect l="0" t="65917" r="0" b="18874"/>
          <a:stretch/>
        </p:blipFill>
        <p:spPr>
          <a:xfrm>
            <a:off x="2743200" y="762120"/>
            <a:ext cx="6019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y Knowle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ype of Network topologies, including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Ser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A very powerful dedicated computer on a network which centralises the processing of particular functions e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File server for staff/student acce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Print ser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Email ser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The use of a server means that all data can be accessed by any computer on the network. So no need for dedicated workstation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Network protoc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s a widely used hardware protocol that defines the way data enters a network and travels to its destin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Used in both Bus and Star networ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Transmits data at 10Mbps over twisted pair c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Network protoc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2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Transmission Control Protocol/Internet Protoco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s a widely used software protocol for networ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Used to connect LANs to the Intern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s a collection of protocols, includ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DNS (Domain Name Syste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FTP (File Transfer Protocol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Network Operating system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s the software that allows a workstation to connect to a LA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It manages a range of network functions for the client, includ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Connecting to the intern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Prioritising print job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Network access permiss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2000"/>
                </a:solidFill>
                <a:latin typeface="Times New Roman"/>
              </a:rPr>
              <a:t>Examples: Novell Netware, Windows NT, 2000 and XP, UNIX, Linux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ey Knowle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Network operating systems and architecture and components, such a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twork ca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ut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toc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twork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terface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rd (NIC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so called a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LAN Adap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seria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connection to net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parallel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connection to the compu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IC sel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ype of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ype of med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ype of system bus (PCI/ IS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 install a NIC 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NIC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3836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3657600"/>
            <a:ext cx="2209680" cy="533520"/>
          </a:xfrm>
          <a:prstGeom prst="wedgeRectCallout">
            <a:avLst>
              <a:gd name="adj1" fmla="val 74064"/>
              <a:gd name="adj2" fmla="val 75296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RJ45 po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4267080"/>
            <a:ext cx="1905120" cy="533520"/>
          </a:xfrm>
          <a:prstGeom prst="wedgeRoundRectCallout">
            <a:avLst>
              <a:gd name="adj1" fmla="val 84000"/>
              <a:gd name="adj2" fmla="val 64879"/>
              <a:gd name="adj3" fmla="val 16667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UI po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76920"/>
            <a:ext cx="2743200" cy="685800"/>
          </a:xfrm>
          <a:prstGeom prst="wedgeEllipseCallout">
            <a:avLst>
              <a:gd name="adj1" fmla="val 50986"/>
              <a:gd name="adj2" fmla="val 65972"/>
            </a:avLst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Coaxial Po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8760" y="3733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n old NI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Program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Web Brows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prets HTM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etscape Communicator, Internet Explor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Plugi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d when “normal” browsers cannot display a specific file typ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inary Number Syst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bi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r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ly digits are 0 and 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cimal is 0 to 9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d3333"/>
                </a:solidFill>
                <a:uFillTx/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ary dig</a:t>
            </a:r>
            <a:r>
              <a:rPr b="1" lang="en-US" sz="3200" spc="-1" strike="noStrike" u="sng">
                <a:solidFill>
                  <a:srgbClr val="cd3333"/>
                </a:solidFill>
                <a:uFillTx/>
                <a:latin typeface="Times New Roman"/>
              </a:rPr>
              <a:t>i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b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a transfer is via bi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-284400">
              <a:lnSpc>
                <a:spcPct val="11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8 bits = 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16680" indent="-23724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e </a:t>
            </a:r>
            <a:r>
              <a:rPr b="1" lang="en-US" sz="2800" spc="-1" strike="noStrike">
                <a:solidFill>
                  <a:srgbClr val="0f07b3"/>
                </a:solidFill>
                <a:latin typeface="Times New Roman"/>
              </a:rPr>
              <a:t>BYTE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6633"/>
                </a:solidFill>
                <a:latin typeface="Times New Roman"/>
              </a:rPr>
              <a:t>Units of Infor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8477" r="0" b="0"/>
          <a:stretch/>
        </p:blipFill>
        <p:spPr>
          <a:xfrm>
            <a:off x="1447920" y="1828800"/>
            <a:ext cx="69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twork 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network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55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neaker net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ocal Area Network (LA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55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parate LANs for a compan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de Area Network (WA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erconnect LA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04:49:38Z</dcterms:created>
  <dc:creator>Roy Smalley</dc:creator>
  <dc:description/>
  <dc:language>en-US</dc:language>
  <cp:lastModifiedBy>Chisholm Institute</cp:lastModifiedBy>
  <cp:lastPrinted>2000-06-19T06:15:00Z</cp:lastPrinted>
  <dcterms:modified xsi:type="dcterms:W3CDTF">2004-07-26T06:05:48Z</dcterms:modified>
  <cp:revision>36</cp:revision>
  <dc:subject>IPM Unit 4</dc:subject>
  <dc:title>Networking</dc:title>
</cp:coreProperties>
</file>