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_rels/notesSlide10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6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110.png" ContentType="image/png"/>
  <Override PartName="/ppt/media/image57.png" ContentType="image/png"/>
  <Override PartName="/ppt/media/image56.png" ContentType="image/png"/>
  <Override PartName="/ppt/media/image53.gif" ContentType="image/gif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3.gif" ContentType="image/gif"/>
  <Override PartName="/ppt/media/image45.gif" ContentType="image/gif"/>
  <Override PartName="/ppt/media/image48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35.gif" ContentType="image/gif"/>
  <Override PartName="/ppt/media/image31.png" ContentType="image/png"/>
  <Override PartName="/ppt/media/image30.gif" ContentType="image/gif"/>
  <Override PartName="/ppt/media/image33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38.gif" ContentType="image/gif"/>
  <Override PartName="/ppt/media/image63.wmf" ContentType="image/x-wmf"/>
  <Override PartName="/ppt/media/image8.gif" ContentType="image/gif"/>
  <Override PartName="/ppt/media/image88.png" ContentType="image/png"/>
  <Override PartName="/ppt/media/image37.gif" ContentType="image/gif"/>
  <Override PartName="/ppt/media/image62.wmf" ContentType="image/x-wmf"/>
  <Override PartName="/ppt/media/image7.gif" ContentType="image/gif"/>
  <Override PartName="/ppt/media/image87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29.png" ContentType="image/png"/>
  <Override PartName="/ppt/media/image26.gif" ContentType="image/gif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70.png" ContentType="image/png"/>
  <Override PartName="/ppt/media/image66.gif" ContentType="image/gif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gif" ContentType="image/gif"/>
  <Override PartName="/ppt/media/image76.png" ContentType="image/png"/>
  <Override PartName="/ppt/media/image74.png" ContentType="image/png"/>
  <Override PartName="/ppt/media/image75.png" ContentType="image/png"/>
  <Override PartName="/ppt/media/image77.png" ContentType="image/png"/>
  <Override PartName="/ppt/media/image84.png" ContentType="image/png"/>
  <Override PartName="/ppt/media/image111.gif" ContentType="image/gif"/>
  <Override PartName="/ppt/media/image97.png" ContentType="image/png"/>
  <Override PartName="/ppt/media/image60.png" ContentType="image/png"/>
  <Override PartName="/ppt/media/image103.png" ContentType="image/png"/>
  <Override PartName="/ppt/media/image106.png" ContentType="image/png"/>
  <Override PartName="/ppt/media/image99.png" ContentType="image/png"/>
  <Override PartName="/ppt/media/image23.wmf" ContentType="image/x-wmf"/>
  <Override PartName="/ppt/media/image89.png" ContentType="image/png"/>
  <Override PartName="/ppt/media/image91.png" ContentType="image/png"/>
  <Override PartName="/ppt/media/image85.png" ContentType="image/png"/>
  <Override PartName="/ppt/media/image105.png" ContentType="image/png"/>
  <Override PartName="/ppt/media/image98.png" ContentType="image/png"/>
  <Override PartName="/ppt/media/image112.gif" ContentType="image/gif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92.png" ContentType="image/png"/>
  <Override PartName="/ppt/media/image20.gif" ContentType="image/gif"/>
  <Override PartName="/ppt/media/image13.png" ContentType="image/png"/>
  <Override PartName="/ppt/media/image96.png" ContentType="image/png"/>
  <Override PartName="/ppt/media/image93.gif" ContentType="image/gif"/>
  <Override PartName="/ppt/media/image28.gif" ContentType="image/gif"/>
  <Override PartName="/ppt/media/image27.wmf" ContentType="image/x-wmf"/>
  <Override PartName="/ppt/media/image67.gif" ContentType="image/gif"/>
  <Override PartName="/ppt/media/image24.png" ContentType="image/png"/>
  <Override PartName="/ppt/media/image22.wmf" ContentType="image/x-wmf"/>
  <Override PartName="/ppt/media/image65.png" ContentType="image/png"/>
  <Override PartName="/ppt/media/image19.wmf" ContentType="image/x-wmf"/>
  <Override PartName="/ppt/media/image58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07.png" ContentType="image/png"/>
  <Override PartName="/ppt/media/image10.png" ContentType="image/png"/>
  <Override PartName="/ppt/media/image104.gif" ContentType="image/gif"/>
  <Override PartName="/ppt/media/image78.wmf" ContentType="image/x-wmf"/>
  <Override PartName="/ppt/media/image3.png" ContentType="image/png"/>
  <Override PartName="/ppt/media/image15.png" ContentType="image/png"/>
  <Override PartName="/ppt/media/image80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A38B-A758-4593-9500-4751A0DA1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nd talk about Grayscale,Pure white and Black Scale to fit paper and Fram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nd talk about Grayscale,Pure white and Black Scale to fit paper and Fram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nd talk about Grayscale,Pure white and Black Scale to fit paper and Fram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nd talk about Grayscale,Pure white and Black Scale to fit paper and Fram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nd talk about Grayscale,Pure white and Black Scale to fit paper and Fram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nd talk about Grayscale,Pure white and Black Scale to fit paper and Fram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u Bar- similar to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bars – Formatting and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Outline- 5 views Normal,Outline, Slide, Slide Sorter, Slide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View with a place to add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transitions are how the slides change from one slid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e how text appears on th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e how text appears on th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e how text appears on th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Preview to see how your slide will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an item before you can choose the entry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an item before you can choose the entry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an item before you can choose the entry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an item before you can choose the entry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an item before you can choose the entry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vigate to where your picture is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lso copy and paste any picture int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paste into tex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ow this is done on this table from normal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ow this is done on this table from normal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ow this is done on this table from normal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ow this is done on this table from normal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bottom left of scr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ize to show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bottom left of scr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ize to show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note cross hairs in Red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9B2-160D-495C-B25A-0AA8D432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115-B3CE-46BE-94B8-23F2AC06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EB8-2FE7-4376-935B-8EEC53C3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44E-8275-4CC3-B639-A43E5631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0E88-6572-40F5-BCD4-6418938F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D25A-88E4-426D-A570-94885C09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B4B3-57C6-401A-B379-FAC03817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35A9-B362-4EE8-9293-74D3DFF5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9B90-3EA8-4D2A-AE75-A729C180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DDAA-C93E-450E-989E-F4AA510B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4FEE-DBE1-4B17-AAFA-68D1CD8C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76E-FB4B-47B5-9E2D-4F1C85F3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992C-71F8-4230-B30D-44202589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1A9C-2455-4A05-A953-45BC771F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EC53-184A-4F2D-BE37-3D5937DF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A208-532D-4460-94EB-D9557329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8B0A-6321-4152-963F-E1B595CD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445-F788-4495-987D-D60B37BB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035-4D55-45CA-8D3C-BBA7E44F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16D-C0B0-47FF-831A-1173BE9E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221-638E-45DB-AE72-D3AD03AA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D8C-9C34-4361-A8A2-54DE5B8B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1F0-1E5F-41A0-8B2F-B8F91343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A11-FCA4-43E6-8DB7-4A278CBE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1EF2-FCB9-43B3-9939-78BE1444635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459F-F00C-4FAD-BF18-59EC04BEB11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21.png"/><Relationship Id="rId6" Type="http://schemas.openxmlformats.org/officeDocument/2006/relationships/slide" Target="slide4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46.xml"/><Relationship Id="rId10" Type="http://schemas.openxmlformats.org/officeDocument/2006/relationships/slide" Target="slide72.xml"/><Relationship Id="rId11" Type="http://schemas.openxmlformats.org/officeDocument/2006/relationships/slide" Target="slide72.xml"/><Relationship Id="rId12" Type="http://schemas.openxmlformats.org/officeDocument/2006/relationships/slide" Target="slide29.xml"/><Relationship Id="rId13" Type="http://schemas.openxmlformats.org/officeDocument/2006/relationships/slide" Target="slide79.xml"/><Relationship Id="rId14" Type="http://schemas.openxmlformats.org/officeDocument/2006/relationships/slide" Target="slide73.xml"/><Relationship Id="rId15" Type="http://schemas.openxmlformats.org/officeDocument/2006/relationships/slide" Target="slide73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85.xml"/><Relationship Id="rId19" Type="http://schemas.openxmlformats.org/officeDocument/2006/relationships/slide" Target="slide88.xml"/><Relationship Id="rId20" Type="http://schemas.openxmlformats.org/officeDocument/2006/relationships/slide" Target="slide90.xml"/><Relationship Id="rId21" Type="http://schemas.openxmlformats.org/officeDocument/2006/relationships/slide" Target="slide90.xml"/><Relationship Id="rId22" Type="http://schemas.openxmlformats.org/officeDocument/2006/relationships/slide" Target="slide100.xml"/><Relationship Id="rId2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5.png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46.xml"/><Relationship Id="rId6" Type="http://schemas.openxmlformats.org/officeDocument/2006/relationships/slide" Target="slide72.xml"/><Relationship Id="rId7" Type="http://schemas.openxmlformats.org/officeDocument/2006/relationships/slide" Target="slide72.xml"/><Relationship Id="rId8" Type="http://schemas.openxmlformats.org/officeDocument/2006/relationships/slide" Target="slide29.xml"/><Relationship Id="rId9" Type="http://schemas.openxmlformats.org/officeDocument/2006/relationships/slide" Target="slide79.xml"/><Relationship Id="rId10" Type="http://schemas.openxmlformats.org/officeDocument/2006/relationships/slide" Target="slide73.xml"/><Relationship Id="rId11" Type="http://schemas.openxmlformats.org/officeDocument/2006/relationships/slide" Target="slide73.xml"/><Relationship Id="rId12" Type="http://schemas.openxmlformats.org/officeDocument/2006/relationships/slide" Target="slide85.xml"/><Relationship Id="rId13" Type="http://schemas.openxmlformats.org/officeDocument/2006/relationships/slide" Target="slide85.xml"/><Relationship Id="rId14" Type="http://schemas.openxmlformats.org/officeDocument/2006/relationships/slide" Target="slide88.xml"/><Relationship Id="rId15" Type="http://schemas.openxmlformats.org/officeDocument/2006/relationships/slide" Target="slide90.xml"/><Relationship Id="rId16" Type="http://schemas.openxmlformats.org/officeDocument/2006/relationships/slide" Target="slide90.xml"/><Relationship Id="rId17" Type="http://schemas.openxmlformats.org/officeDocument/2006/relationships/slide" Target="slide100.xml"/><Relationship Id="rId18" Type="http://schemas.openxmlformats.org/officeDocument/2006/relationships/image" Target="../media/image111.gif"/><Relationship Id="rId19" Type="http://schemas.openxmlformats.org/officeDocument/2006/relationships/image" Target="../media/image112.gif"/><Relationship Id="rId2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9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15.xml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" Target="slide4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46.xml"/><Relationship Id="rId11" Type="http://schemas.openxmlformats.org/officeDocument/2006/relationships/slide" Target="slide72.xml"/><Relationship Id="rId12" Type="http://schemas.openxmlformats.org/officeDocument/2006/relationships/slide" Target="slide72.xml"/><Relationship Id="rId13" Type="http://schemas.openxmlformats.org/officeDocument/2006/relationships/slide" Target="slide29.xml"/><Relationship Id="rId14" Type="http://schemas.openxmlformats.org/officeDocument/2006/relationships/slide" Target="slide79.xml"/><Relationship Id="rId15" Type="http://schemas.openxmlformats.org/officeDocument/2006/relationships/slide" Target="slide73.xml"/><Relationship Id="rId16" Type="http://schemas.openxmlformats.org/officeDocument/2006/relationships/slide" Target="slide73.xml"/><Relationship Id="rId17" Type="http://schemas.openxmlformats.org/officeDocument/2006/relationships/slide" Target="slide85.xml"/><Relationship Id="rId18" Type="http://schemas.openxmlformats.org/officeDocument/2006/relationships/slide" Target="slide85.xml"/><Relationship Id="rId19" Type="http://schemas.openxmlformats.org/officeDocument/2006/relationships/slide" Target="slide85.xml"/><Relationship Id="rId20" Type="http://schemas.openxmlformats.org/officeDocument/2006/relationships/slide" Target="slide88.xml"/><Relationship Id="rId21" Type="http://schemas.openxmlformats.org/officeDocument/2006/relationships/slide" Target="slide90.xml"/><Relationship Id="rId22" Type="http://schemas.openxmlformats.org/officeDocument/2006/relationships/slide" Target="slide90.xml"/><Relationship Id="rId23" Type="http://schemas.openxmlformats.org/officeDocument/2006/relationships/slide" Target="slide100.xml"/><Relationship Id="rId2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" Target="slide4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46.xml"/><Relationship Id="rId9" Type="http://schemas.openxmlformats.org/officeDocument/2006/relationships/slide" Target="slide72.xml"/><Relationship Id="rId10" Type="http://schemas.openxmlformats.org/officeDocument/2006/relationships/slide" Target="slide72.xml"/><Relationship Id="rId11" Type="http://schemas.openxmlformats.org/officeDocument/2006/relationships/slide" Target="slide29.xml"/><Relationship Id="rId12" Type="http://schemas.openxmlformats.org/officeDocument/2006/relationships/slide" Target="slide79.xml"/><Relationship Id="rId13" Type="http://schemas.openxmlformats.org/officeDocument/2006/relationships/slide" Target="slide73.xml"/><Relationship Id="rId14" Type="http://schemas.openxmlformats.org/officeDocument/2006/relationships/slide" Target="slide73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88.xml"/><Relationship Id="rId19" Type="http://schemas.openxmlformats.org/officeDocument/2006/relationships/slide" Target="slide90.xml"/><Relationship Id="rId20" Type="http://schemas.openxmlformats.org/officeDocument/2006/relationships/slide" Target="slide90.xml"/><Relationship Id="rId21" Type="http://schemas.openxmlformats.org/officeDocument/2006/relationships/slide" Target="slide100.xml"/><Relationship Id="rId22" Type="http://schemas.openxmlformats.org/officeDocument/2006/relationships/image" Target="../media/image30.gif"/><Relationship Id="rId2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4.png"/><Relationship Id="rId3" Type="http://schemas.openxmlformats.org/officeDocument/2006/relationships/slide" Target="slide24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4.png"/><Relationship Id="rId3" Type="http://schemas.openxmlformats.org/officeDocument/2006/relationships/image" Target="../media/image33.png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6.xml"/><Relationship Id="rId3" Type="http://schemas.openxmlformats.org/officeDocument/2006/relationships/image" Target="../media/image34.pn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6.xml"/><Relationship Id="rId3" Type="http://schemas.openxmlformats.org/officeDocument/2006/relationships/image" Target="../media/image34.png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46.xml"/><Relationship Id="rId6" Type="http://schemas.openxmlformats.org/officeDocument/2006/relationships/slide" Target="slide72.xml"/><Relationship Id="rId7" Type="http://schemas.openxmlformats.org/officeDocument/2006/relationships/slide" Target="slide72.xml"/><Relationship Id="rId8" Type="http://schemas.openxmlformats.org/officeDocument/2006/relationships/slide" Target="slide29.xml"/><Relationship Id="rId9" Type="http://schemas.openxmlformats.org/officeDocument/2006/relationships/slide" Target="slide79.xml"/><Relationship Id="rId10" Type="http://schemas.openxmlformats.org/officeDocument/2006/relationships/slide" Target="slide73.xml"/><Relationship Id="rId11" Type="http://schemas.openxmlformats.org/officeDocument/2006/relationships/slide" Target="slide73.xml"/><Relationship Id="rId12" Type="http://schemas.openxmlformats.org/officeDocument/2006/relationships/slide" Target="slide85.xml"/><Relationship Id="rId13" Type="http://schemas.openxmlformats.org/officeDocument/2006/relationships/slide" Target="slide85.xml"/><Relationship Id="rId14" Type="http://schemas.openxmlformats.org/officeDocument/2006/relationships/slide" Target="slide88.xml"/><Relationship Id="rId15" Type="http://schemas.openxmlformats.org/officeDocument/2006/relationships/slide" Target="slide90.xml"/><Relationship Id="rId16" Type="http://schemas.openxmlformats.org/officeDocument/2006/relationships/slide" Target="slide90.xml"/><Relationship Id="rId17" Type="http://schemas.openxmlformats.org/officeDocument/2006/relationships/slide" Target="slide100.xml"/><Relationship Id="rId18" Type="http://schemas.openxmlformats.org/officeDocument/2006/relationships/image" Target="../media/image4.png"/><Relationship Id="rId19" Type="http://schemas.openxmlformats.org/officeDocument/2006/relationships/hyperlink" Target="http://www.presentersuniversity.com/index.cfm" TargetMode="External"/><Relationship Id="rId20" Type="http://schemas.openxmlformats.org/officeDocument/2006/relationships/hyperlink" Target="http://www.presentersuniversity.com/index.cfm" TargetMode="External"/><Relationship Id="rId21" Type="http://schemas.openxmlformats.org/officeDocument/2006/relationships/image" Target="../media/image4.png"/><Relationship Id="rId22" Type="http://schemas.openxmlformats.org/officeDocument/2006/relationships/hyperlink" Target="http://www.websiteestates.com/ppoint.html" TargetMode="External"/><Relationship Id="rId23" Type="http://schemas.openxmlformats.org/officeDocument/2006/relationships/hyperlink" Target="http://www.websiteestates.com/ppoint.html" TargetMode="External"/><Relationship Id="rId24" Type="http://schemas.openxmlformats.org/officeDocument/2006/relationships/hyperlink" Target="http://www.websiteestates.com/ppoint.html" TargetMode="External"/><Relationship Id="rId25" Type="http://schemas.openxmlformats.org/officeDocument/2006/relationships/hyperlink" Target="http://www.websiteestates.com/ppoint.html" TargetMode="External"/><Relationship Id="rId26" Type="http://schemas.openxmlformats.org/officeDocument/2006/relationships/hyperlink" Target="http://www.websiteestates.com/ppoint.html" TargetMode="External"/><Relationship Id="rId27" Type="http://schemas.openxmlformats.org/officeDocument/2006/relationships/image" Target="../media/image4.png"/><Relationship Id="rId28" Type="http://schemas.openxmlformats.org/officeDocument/2006/relationships/hyperlink" Target="http://www.graphicsland.com/powerpoint-templates.htm" TargetMode="External"/><Relationship Id="rId29" Type="http://schemas.openxmlformats.org/officeDocument/2006/relationships/hyperlink" Target="http://www.graphicsland.com/powerpoint-templates.htm" TargetMode="External"/><Relationship Id="rId30" Type="http://schemas.openxmlformats.org/officeDocument/2006/relationships/image" Target="../media/image4.png"/><Relationship Id="rId31" Type="http://schemas.openxmlformats.org/officeDocument/2006/relationships/hyperlink" Target="http://officeupdate.microsoft.com/templategallery/" TargetMode="External"/><Relationship Id="rId32" Type="http://schemas.openxmlformats.org/officeDocument/2006/relationships/image" Target="../media/image4.png"/><Relationship Id="rId33" Type="http://schemas.openxmlformats.org/officeDocument/2006/relationships/hyperlink" Target="http://www.brainybetty.com/bbo1.htm" TargetMode="External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6.png"/><Relationship Id="rId4" Type="http://schemas.openxmlformats.org/officeDocument/2006/relationships/slide" Target="slide4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46.xml"/><Relationship Id="rId8" Type="http://schemas.openxmlformats.org/officeDocument/2006/relationships/slide" Target="slide72.xml"/><Relationship Id="rId9" Type="http://schemas.openxmlformats.org/officeDocument/2006/relationships/slide" Target="slide72.xml"/><Relationship Id="rId10" Type="http://schemas.openxmlformats.org/officeDocument/2006/relationships/slide" Target="slide29.xml"/><Relationship Id="rId11" Type="http://schemas.openxmlformats.org/officeDocument/2006/relationships/slide" Target="slide79.xml"/><Relationship Id="rId12" Type="http://schemas.openxmlformats.org/officeDocument/2006/relationships/slide" Target="slide73.xml"/><Relationship Id="rId13" Type="http://schemas.openxmlformats.org/officeDocument/2006/relationships/slide" Target="slide73.xml"/><Relationship Id="rId14" Type="http://schemas.openxmlformats.org/officeDocument/2006/relationships/slide" Target="slide85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8.xml"/><Relationship Id="rId18" Type="http://schemas.openxmlformats.org/officeDocument/2006/relationships/slide" Target="slide90.xml"/><Relationship Id="rId19" Type="http://schemas.openxmlformats.org/officeDocument/2006/relationships/slide" Target="slide90.xml"/><Relationship Id="rId20" Type="http://schemas.openxmlformats.org/officeDocument/2006/relationships/slide" Target="slide100.xml"/><Relationship Id="rId21" Type="http://schemas.openxmlformats.org/officeDocument/2006/relationships/image" Target="../media/image37.gif"/><Relationship Id="rId22" Type="http://schemas.openxmlformats.org/officeDocument/2006/relationships/image" Target="../media/image38.gif"/><Relationship Id="rId2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4.png"/><Relationship Id="rId3" Type="http://schemas.openxmlformats.org/officeDocument/2006/relationships/slide" Target="slide3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4.png"/><Relationship Id="rId3" Type="http://schemas.openxmlformats.org/officeDocument/2006/relationships/slide" Target="slide24.xml"/><Relationship Id="rId4" Type="http://schemas.openxmlformats.org/officeDocument/2006/relationships/image" Target="../media/image39.png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41.png"/><Relationship Id="rId3" Type="http://schemas.openxmlformats.org/officeDocument/2006/relationships/image" Target="../media/image4.png"/><Relationship Id="rId4" Type="http://schemas.openxmlformats.org/officeDocument/2006/relationships/slide" Target="slide35.xml"/><Relationship Id="rId5" Type="http://schemas.openxmlformats.org/officeDocument/2006/relationships/slide" Target="slide4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46.xml"/><Relationship Id="rId9" Type="http://schemas.openxmlformats.org/officeDocument/2006/relationships/slide" Target="slide72.xml"/><Relationship Id="rId10" Type="http://schemas.openxmlformats.org/officeDocument/2006/relationships/slide" Target="slide72.xml"/><Relationship Id="rId11" Type="http://schemas.openxmlformats.org/officeDocument/2006/relationships/slide" Target="slide29.xml"/><Relationship Id="rId12" Type="http://schemas.openxmlformats.org/officeDocument/2006/relationships/slide" Target="slide79.xml"/><Relationship Id="rId13" Type="http://schemas.openxmlformats.org/officeDocument/2006/relationships/slide" Target="slide73.xml"/><Relationship Id="rId14" Type="http://schemas.openxmlformats.org/officeDocument/2006/relationships/slide" Target="slide73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88.xml"/><Relationship Id="rId19" Type="http://schemas.openxmlformats.org/officeDocument/2006/relationships/slide" Target="slide90.xml"/><Relationship Id="rId20" Type="http://schemas.openxmlformats.org/officeDocument/2006/relationships/slide" Target="slide90.xml"/><Relationship Id="rId21" Type="http://schemas.openxmlformats.org/officeDocument/2006/relationships/slide" Target="slide100.xml"/><Relationship Id="rId2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" Target="slide37.xml"/><Relationship Id="rId4" Type="http://schemas.openxmlformats.org/officeDocument/2006/relationships/slide" Target="slide39.xml"/><Relationship Id="rId5" Type="http://schemas.openxmlformats.org/officeDocument/2006/relationships/slide" Target="slide36.xml"/><Relationship Id="rId6" Type="http://schemas.openxmlformats.org/officeDocument/2006/relationships/slide" Target="slide44.xml"/><Relationship Id="rId7" Type="http://schemas.openxmlformats.org/officeDocument/2006/relationships/slide" Target="slide37.xml"/><Relationship Id="rId8" Type="http://schemas.openxmlformats.org/officeDocument/2006/relationships/slide" Target="slide4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46.xml"/><Relationship Id="rId12" Type="http://schemas.openxmlformats.org/officeDocument/2006/relationships/slide" Target="slide72.xml"/><Relationship Id="rId13" Type="http://schemas.openxmlformats.org/officeDocument/2006/relationships/slide" Target="slide72.xml"/><Relationship Id="rId14" Type="http://schemas.openxmlformats.org/officeDocument/2006/relationships/slide" Target="slide29.xml"/><Relationship Id="rId15" Type="http://schemas.openxmlformats.org/officeDocument/2006/relationships/slide" Target="slide79.xml"/><Relationship Id="rId16" Type="http://schemas.openxmlformats.org/officeDocument/2006/relationships/slide" Target="slide73.xml"/><Relationship Id="rId17" Type="http://schemas.openxmlformats.org/officeDocument/2006/relationships/slide" Target="slide73.xml"/><Relationship Id="rId18" Type="http://schemas.openxmlformats.org/officeDocument/2006/relationships/slide" Target="slide85.xml"/><Relationship Id="rId19" Type="http://schemas.openxmlformats.org/officeDocument/2006/relationships/slide" Target="slide85.xml"/><Relationship Id="rId20" Type="http://schemas.openxmlformats.org/officeDocument/2006/relationships/slide" Target="slide85.xml"/><Relationship Id="rId21" Type="http://schemas.openxmlformats.org/officeDocument/2006/relationships/slide" Target="slide88.xml"/><Relationship Id="rId22" Type="http://schemas.openxmlformats.org/officeDocument/2006/relationships/slide" Target="slide90.xml"/><Relationship Id="rId23" Type="http://schemas.openxmlformats.org/officeDocument/2006/relationships/slide" Target="slide90.xml"/><Relationship Id="rId24" Type="http://schemas.openxmlformats.org/officeDocument/2006/relationships/slide" Target="slide100.xml"/><Relationship Id="rId2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slide35.xml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35.xm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38.xml"/><Relationship Id="rId6" Type="http://schemas.openxmlformats.org/officeDocument/2006/relationships/image" Target="../media/image45.gi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46.png"/><Relationship Id="rId3" Type="http://schemas.openxmlformats.org/officeDocument/2006/relationships/slide" Target="slide35.xm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5.gif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3.xml"/><Relationship Id="rId5" Type="http://schemas.openxmlformats.org/officeDocument/2006/relationships/image" Target="../media/image4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" Target="slide4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46.xml"/><Relationship Id="rId13" Type="http://schemas.openxmlformats.org/officeDocument/2006/relationships/slide" Target="slide72.xml"/><Relationship Id="rId14" Type="http://schemas.openxmlformats.org/officeDocument/2006/relationships/slide" Target="slide72.xml"/><Relationship Id="rId15" Type="http://schemas.openxmlformats.org/officeDocument/2006/relationships/slide" Target="slide29.xml"/><Relationship Id="rId16" Type="http://schemas.openxmlformats.org/officeDocument/2006/relationships/slide" Target="slide79.xml"/><Relationship Id="rId17" Type="http://schemas.openxmlformats.org/officeDocument/2006/relationships/slide" Target="slide73.xml"/><Relationship Id="rId18" Type="http://schemas.openxmlformats.org/officeDocument/2006/relationships/slide" Target="slide73.xml"/><Relationship Id="rId19" Type="http://schemas.openxmlformats.org/officeDocument/2006/relationships/slide" Target="slide85.xml"/><Relationship Id="rId20" Type="http://schemas.openxmlformats.org/officeDocument/2006/relationships/slide" Target="slide85.xml"/><Relationship Id="rId21" Type="http://schemas.openxmlformats.org/officeDocument/2006/relationships/slide" Target="slide85.xml"/><Relationship Id="rId22" Type="http://schemas.openxmlformats.org/officeDocument/2006/relationships/slide" Target="slide88.xml"/><Relationship Id="rId23" Type="http://schemas.openxmlformats.org/officeDocument/2006/relationships/slide" Target="slide90.xml"/><Relationship Id="rId24" Type="http://schemas.openxmlformats.org/officeDocument/2006/relationships/slide" Target="slide90.xml"/><Relationship Id="rId25" Type="http://schemas.openxmlformats.org/officeDocument/2006/relationships/slide" Target="slide100.xm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39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1.xml"/><Relationship Id="rId6" Type="http://schemas.openxmlformats.org/officeDocument/2006/relationships/slide" Target="slide42.xml"/><Relationship Id="rId7" Type="http://schemas.openxmlformats.org/officeDocument/2006/relationships/image" Target="../media/image4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42.xml"/><Relationship Id="rId3" Type="http://schemas.openxmlformats.org/officeDocument/2006/relationships/slide" Target="slide40.xml"/><Relationship Id="rId4" Type="http://schemas.openxmlformats.org/officeDocument/2006/relationships/slide" Target="slide39.xml"/><Relationship Id="rId5" Type="http://schemas.openxmlformats.org/officeDocument/2006/relationships/image" Target="../media/image4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" Target="slide35.xml"/><Relationship Id="rId5" Type="http://schemas.openxmlformats.org/officeDocument/2006/relationships/image" Target="../media/image50.png"/><Relationship Id="rId6" Type="http://schemas.openxmlformats.org/officeDocument/2006/relationships/slide" Target="slide41.xml"/><Relationship Id="rId7" Type="http://schemas.openxmlformats.org/officeDocument/2006/relationships/slide" Target="slide40.xml"/><Relationship Id="rId8" Type="http://schemas.openxmlformats.org/officeDocument/2006/relationships/slide" Target="slide39.xml"/><Relationship Id="rId9" Type="http://schemas.openxmlformats.org/officeDocument/2006/relationships/slide" Target="slide43.xml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1.png"/><Relationship Id="rId3" Type="http://schemas.openxmlformats.org/officeDocument/2006/relationships/slide" Target="slide44.xm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41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slide45.xm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4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2.png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46.xml"/><Relationship Id="rId11" Type="http://schemas.openxmlformats.org/officeDocument/2006/relationships/slide" Target="slide72.xml"/><Relationship Id="rId12" Type="http://schemas.openxmlformats.org/officeDocument/2006/relationships/slide" Target="slide72.xml"/><Relationship Id="rId13" Type="http://schemas.openxmlformats.org/officeDocument/2006/relationships/slide" Target="slide29.xml"/><Relationship Id="rId14" Type="http://schemas.openxmlformats.org/officeDocument/2006/relationships/slide" Target="slide79.xml"/><Relationship Id="rId15" Type="http://schemas.openxmlformats.org/officeDocument/2006/relationships/slide" Target="slide73.xml"/><Relationship Id="rId16" Type="http://schemas.openxmlformats.org/officeDocument/2006/relationships/slide" Target="slide73.xml"/><Relationship Id="rId17" Type="http://schemas.openxmlformats.org/officeDocument/2006/relationships/slide" Target="slide85.xml"/><Relationship Id="rId18" Type="http://schemas.openxmlformats.org/officeDocument/2006/relationships/slide" Target="slide85.xml"/><Relationship Id="rId19" Type="http://schemas.openxmlformats.org/officeDocument/2006/relationships/slide" Target="slide85.xml"/><Relationship Id="rId20" Type="http://schemas.openxmlformats.org/officeDocument/2006/relationships/slide" Target="slide88.xml"/><Relationship Id="rId21" Type="http://schemas.openxmlformats.org/officeDocument/2006/relationships/slide" Target="slide90.xml"/><Relationship Id="rId22" Type="http://schemas.openxmlformats.org/officeDocument/2006/relationships/slide" Target="slide90.xml"/><Relationship Id="rId23" Type="http://schemas.openxmlformats.org/officeDocument/2006/relationships/slide" Target="slide100.xml"/><Relationship Id="rId2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4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46.xml"/><Relationship Id="rId8" Type="http://schemas.openxmlformats.org/officeDocument/2006/relationships/slide" Target="slide72.xml"/><Relationship Id="rId9" Type="http://schemas.openxmlformats.org/officeDocument/2006/relationships/slide" Target="slide72.xml"/><Relationship Id="rId10" Type="http://schemas.openxmlformats.org/officeDocument/2006/relationships/slide" Target="slide29.xml"/><Relationship Id="rId11" Type="http://schemas.openxmlformats.org/officeDocument/2006/relationships/slide" Target="slide79.xml"/><Relationship Id="rId12" Type="http://schemas.openxmlformats.org/officeDocument/2006/relationships/slide" Target="slide73.xml"/><Relationship Id="rId13" Type="http://schemas.openxmlformats.org/officeDocument/2006/relationships/slide" Target="slide73.xml"/><Relationship Id="rId14" Type="http://schemas.openxmlformats.org/officeDocument/2006/relationships/slide" Target="slide85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8.xml"/><Relationship Id="rId18" Type="http://schemas.openxmlformats.org/officeDocument/2006/relationships/slide" Target="slide90.xml"/><Relationship Id="rId19" Type="http://schemas.openxmlformats.org/officeDocument/2006/relationships/slide" Target="slide90.xml"/><Relationship Id="rId20" Type="http://schemas.openxmlformats.org/officeDocument/2006/relationships/slide" Target="slide100.xml"/><Relationship Id="rId21" Type="http://schemas.openxmlformats.org/officeDocument/2006/relationships/image" Target="../media/image53.gif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46.xml"/><Relationship Id="rId9" Type="http://schemas.openxmlformats.org/officeDocument/2006/relationships/slide" Target="slide72.xml"/><Relationship Id="rId10" Type="http://schemas.openxmlformats.org/officeDocument/2006/relationships/slide" Target="slide72.xml"/><Relationship Id="rId11" Type="http://schemas.openxmlformats.org/officeDocument/2006/relationships/slide" Target="slide29.xml"/><Relationship Id="rId12" Type="http://schemas.openxmlformats.org/officeDocument/2006/relationships/slide" Target="slide79.xml"/><Relationship Id="rId13" Type="http://schemas.openxmlformats.org/officeDocument/2006/relationships/slide" Target="slide73.xml"/><Relationship Id="rId14" Type="http://schemas.openxmlformats.org/officeDocument/2006/relationships/slide" Target="slide73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88.xml"/><Relationship Id="rId19" Type="http://schemas.openxmlformats.org/officeDocument/2006/relationships/slide" Target="slide90.xml"/><Relationship Id="rId20" Type="http://schemas.openxmlformats.org/officeDocument/2006/relationships/slide" Target="slide90.xml"/><Relationship Id="rId21" Type="http://schemas.openxmlformats.org/officeDocument/2006/relationships/slide" Target="slide100.xml"/><Relationship Id="rId2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49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5.png"/><Relationship Id="rId3" Type="http://schemas.openxmlformats.org/officeDocument/2006/relationships/slide" Target="slide66.xml"/><Relationship Id="rId4" Type="http://schemas.openxmlformats.org/officeDocument/2006/relationships/slide" Target="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18.xml"/><Relationship Id="rId5" Type="http://schemas.openxmlformats.org/officeDocument/2006/relationships/image" Target="../media/image16.png"/><Relationship Id="rId6" Type="http://schemas.openxmlformats.org/officeDocument/2006/relationships/slide" Target="slide4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46.xml"/><Relationship Id="rId10" Type="http://schemas.openxmlformats.org/officeDocument/2006/relationships/slide" Target="slide72.xml"/><Relationship Id="rId11" Type="http://schemas.openxmlformats.org/officeDocument/2006/relationships/slide" Target="slide72.xml"/><Relationship Id="rId12" Type="http://schemas.openxmlformats.org/officeDocument/2006/relationships/slide" Target="slide29.xml"/><Relationship Id="rId13" Type="http://schemas.openxmlformats.org/officeDocument/2006/relationships/slide" Target="slide79.xml"/><Relationship Id="rId14" Type="http://schemas.openxmlformats.org/officeDocument/2006/relationships/slide" Target="slide73.xml"/><Relationship Id="rId15" Type="http://schemas.openxmlformats.org/officeDocument/2006/relationships/slide" Target="slide73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85.xml"/><Relationship Id="rId19" Type="http://schemas.openxmlformats.org/officeDocument/2006/relationships/slide" Target="slide88.xml"/><Relationship Id="rId20" Type="http://schemas.openxmlformats.org/officeDocument/2006/relationships/slide" Target="slide90.xml"/><Relationship Id="rId21" Type="http://schemas.openxmlformats.org/officeDocument/2006/relationships/slide" Target="slide90.xml"/><Relationship Id="rId22" Type="http://schemas.openxmlformats.org/officeDocument/2006/relationships/slide" Target="slide100.xml"/><Relationship Id="rId2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55.xml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55.xml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55.xml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" Target="slide56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" Target="slide58.xml"/><Relationship Id="rId4" Type="http://schemas.openxmlformats.org/officeDocument/2006/relationships/slide" Target="slide57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" Target="slide58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slide" Target="slide4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46.xml"/><Relationship Id="rId11" Type="http://schemas.openxmlformats.org/officeDocument/2006/relationships/slide" Target="slide72.xml"/><Relationship Id="rId12" Type="http://schemas.openxmlformats.org/officeDocument/2006/relationships/slide" Target="slide72.xml"/><Relationship Id="rId13" Type="http://schemas.openxmlformats.org/officeDocument/2006/relationships/slide" Target="slide29.xml"/><Relationship Id="rId14" Type="http://schemas.openxmlformats.org/officeDocument/2006/relationships/slide" Target="slide79.xml"/><Relationship Id="rId15" Type="http://schemas.openxmlformats.org/officeDocument/2006/relationships/slide" Target="slide73.xml"/><Relationship Id="rId16" Type="http://schemas.openxmlformats.org/officeDocument/2006/relationships/slide" Target="slide73.xml"/><Relationship Id="rId17" Type="http://schemas.openxmlformats.org/officeDocument/2006/relationships/slide" Target="slide85.xml"/><Relationship Id="rId18" Type="http://schemas.openxmlformats.org/officeDocument/2006/relationships/slide" Target="slide85.xml"/><Relationship Id="rId19" Type="http://schemas.openxmlformats.org/officeDocument/2006/relationships/slide" Target="slide85.xml"/><Relationship Id="rId20" Type="http://schemas.openxmlformats.org/officeDocument/2006/relationships/slide" Target="slide88.xml"/><Relationship Id="rId21" Type="http://schemas.openxmlformats.org/officeDocument/2006/relationships/slide" Target="slide90.xml"/><Relationship Id="rId22" Type="http://schemas.openxmlformats.org/officeDocument/2006/relationships/slide" Target="slide90.xml"/><Relationship Id="rId23" Type="http://schemas.openxmlformats.org/officeDocument/2006/relationships/slide" Target="slide100.xml"/><Relationship Id="rId2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" Target="slide64.xml"/><Relationship Id="rId4" Type="http://schemas.openxmlformats.org/officeDocument/2006/relationships/slide" Target="slide63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slide" Target="slide59.xml"/><Relationship Id="rId4" Type="http://schemas.openxmlformats.org/officeDocument/2006/relationships/image" Target="../media/image66.gi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slide" Target="slide59.xml"/><Relationship Id="rId4" Type="http://schemas.openxmlformats.org/officeDocument/2006/relationships/image" Target="../media/image67.gif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68.xml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slide" Target="slide71.xm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" Target="slide67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67.xml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18.png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67.xml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42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46.xml"/><Relationship Id="rId9" Type="http://schemas.openxmlformats.org/officeDocument/2006/relationships/slide" Target="slide72.xml"/><Relationship Id="rId10" Type="http://schemas.openxmlformats.org/officeDocument/2006/relationships/slide" Target="slide72.xml"/><Relationship Id="rId11" Type="http://schemas.openxmlformats.org/officeDocument/2006/relationships/slide" Target="slide29.xml"/><Relationship Id="rId12" Type="http://schemas.openxmlformats.org/officeDocument/2006/relationships/slide" Target="slide79.xml"/><Relationship Id="rId13" Type="http://schemas.openxmlformats.org/officeDocument/2006/relationships/slide" Target="slide73.xml"/><Relationship Id="rId14" Type="http://schemas.openxmlformats.org/officeDocument/2006/relationships/slide" Target="slide73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8.xml"/><Relationship Id="rId18" Type="http://schemas.openxmlformats.org/officeDocument/2006/relationships/slide" Target="slide90.xml"/><Relationship Id="rId19" Type="http://schemas.openxmlformats.org/officeDocument/2006/relationships/slide" Target="slide90.xml"/><Relationship Id="rId20" Type="http://schemas.openxmlformats.org/officeDocument/2006/relationships/slide" Target="slide100.xml"/><Relationship Id="rId21" Type="http://schemas.openxmlformats.org/officeDocument/2006/relationships/image" Target="../media/image73.gif"/><Relationship Id="rId2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4.png"/><Relationship Id="rId7" Type="http://schemas.openxmlformats.org/officeDocument/2006/relationships/slide" Target="slide4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46.xml"/><Relationship Id="rId11" Type="http://schemas.openxmlformats.org/officeDocument/2006/relationships/slide" Target="slide72.xml"/><Relationship Id="rId12" Type="http://schemas.openxmlformats.org/officeDocument/2006/relationships/slide" Target="slide72.xml"/><Relationship Id="rId13" Type="http://schemas.openxmlformats.org/officeDocument/2006/relationships/slide" Target="slide29.xml"/><Relationship Id="rId14" Type="http://schemas.openxmlformats.org/officeDocument/2006/relationships/slide" Target="slide79.xml"/><Relationship Id="rId15" Type="http://schemas.openxmlformats.org/officeDocument/2006/relationships/slide" Target="slide73.xml"/><Relationship Id="rId16" Type="http://schemas.openxmlformats.org/officeDocument/2006/relationships/slide" Target="slide73.xml"/><Relationship Id="rId17" Type="http://schemas.openxmlformats.org/officeDocument/2006/relationships/slide" Target="slide85.xml"/><Relationship Id="rId18" Type="http://schemas.openxmlformats.org/officeDocument/2006/relationships/slide" Target="slide85.xml"/><Relationship Id="rId19" Type="http://schemas.openxmlformats.org/officeDocument/2006/relationships/slide" Target="slide85.xml"/><Relationship Id="rId20" Type="http://schemas.openxmlformats.org/officeDocument/2006/relationships/slide" Target="slide88.xml"/><Relationship Id="rId21" Type="http://schemas.openxmlformats.org/officeDocument/2006/relationships/slide" Target="slide90.xml"/><Relationship Id="rId22" Type="http://schemas.openxmlformats.org/officeDocument/2006/relationships/slide" Target="slide90.xml"/><Relationship Id="rId23" Type="http://schemas.openxmlformats.org/officeDocument/2006/relationships/slide" Target="slide100.xml"/><Relationship Id="rId24" Type="http://schemas.openxmlformats.org/officeDocument/2006/relationships/slideLayout" Target="../slideLayouts/slideLayout3.xml"/><Relationship Id="rId2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sturgis.k12.mi.us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" Target="slide75.xml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" Target="slide78.xml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9.png"/><Relationship Id="rId5" Type="http://schemas.openxmlformats.org/officeDocument/2006/relationships/slide" Target="slide4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46.xml"/><Relationship Id="rId9" Type="http://schemas.openxmlformats.org/officeDocument/2006/relationships/slide" Target="slide72.xml"/><Relationship Id="rId10" Type="http://schemas.openxmlformats.org/officeDocument/2006/relationships/slide" Target="slide72.xml"/><Relationship Id="rId11" Type="http://schemas.openxmlformats.org/officeDocument/2006/relationships/slide" Target="slide29.xml"/><Relationship Id="rId12" Type="http://schemas.openxmlformats.org/officeDocument/2006/relationships/slide" Target="slide79.xml"/><Relationship Id="rId13" Type="http://schemas.openxmlformats.org/officeDocument/2006/relationships/slide" Target="slide73.xml"/><Relationship Id="rId14" Type="http://schemas.openxmlformats.org/officeDocument/2006/relationships/slide" Target="slide73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88.xml"/><Relationship Id="rId19" Type="http://schemas.openxmlformats.org/officeDocument/2006/relationships/slide" Target="slide90.xml"/><Relationship Id="rId20" Type="http://schemas.openxmlformats.org/officeDocument/2006/relationships/slide" Target="slide90.xml"/><Relationship Id="rId21" Type="http://schemas.openxmlformats.org/officeDocument/2006/relationships/slide" Target="slide100.xml"/><Relationship Id="rId2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" Target="slide81.xm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82.png"/><Relationship Id="rId7" Type="http://schemas.openxmlformats.org/officeDocument/2006/relationships/image" Target="../media/image4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4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slide" Target="slide82.xml"/><Relationship Id="rId14" Type="http://schemas.openxmlformats.org/officeDocument/2006/relationships/slide" Target="slide83.xml"/><Relationship Id="rId15" Type="http://schemas.openxmlformats.org/officeDocument/2006/relationships/slide" Target="slide84.xml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4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" Target="slide39.xml"/><Relationship Id="rId10" Type="http://schemas.openxmlformats.org/officeDocument/2006/relationships/image" Target="../media/image83.png"/><Relationship Id="rId11" Type="http://schemas.openxmlformats.org/officeDocument/2006/relationships/image" Target="../media/image84.png"/><Relationship Id="rId12" Type="http://schemas.openxmlformats.org/officeDocument/2006/relationships/image" Target="../media/image4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slide" Target="slide81.xml"/><Relationship Id="rId17" Type="http://schemas.openxmlformats.org/officeDocument/2006/relationships/slide" Target="slide83.xml"/><Relationship Id="rId18" Type="http://schemas.openxmlformats.org/officeDocument/2006/relationships/slide" Target="slide84.xml"/><Relationship Id="rId19" Type="http://schemas.openxmlformats.org/officeDocument/2006/relationships/slideLayout" Target="../slideLayouts/slideLayout3.xml"/><Relationship Id="rId20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4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4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85.png"/><Relationship Id="rId14" Type="http://schemas.openxmlformats.org/officeDocument/2006/relationships/slide" Target="slide82.xml"/><Relationship Id="rId15" Type="http://schemas.openxmlformats.org/officeDocument/2006/relationships/slide" Target="slide81.xml"/><Relationship Id="rId16" Type="http://schemas.openxmlformats.org/officeDocument/2006/relationships/slide" Target="slide84.xml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46.xml"/><Relationship Id="rId6" Type="http://schemas.openxmlformats.org/officeDocument/2006/relationships/slide" Target="slide72.xml"/><Relationship Id="rId7" Type="http://schemas.openxmlformats.org/officeDocument/2006/relationships/slide" Target="slide72.xml"/><Relationship Id="rId8" Type="http://schemas.openxmlformats.org/officeDocument/2006/relationships/slide" Target="slide29.xml"/><Relationship Id="rId9" Type="http://schemas.openxmlformats.org/officeDocument/2006/relationships/slide" Target="slide79.xml"/><Relationship Id="rId10" Type="http://schemas.openxmlformats.org/officeDocument/2006/relationships/slide" Target="slide73.xml"/><Relationship Id="rId11" Type="http://schemas.openxmlformats.org/officeDocument/2006/relationships/slide" Target="slide73.xml"/><Relationship Id="rId12" Type="http://schemas.openxmlformats.org/officeDocument/2006/relationships/slide" Target="slide85.xml"/><Relationship Id="rId13" Type="http://schemas.openxmlformats.org/officeDocument/2006/relationships/slide" Target="slide85.xml"/><Relationship Id="rId14" Type="http://schemas.openxmlformats.org/officeDocument/2006/relationships/slide" Target="slide88.xml"/><Relationship Id="rId15" Type="http://schemas.openxmlformats.org/officeDocument/2006/relationships/slide" Target="slide90.xml"/><Relationship Id="rId16" Type="http://schemas.openxmlformats.org/officeDocument/2006/relationships/slide" Target="slide90.xml"/><Relationship Id="rId17" Type="http://schemas.openxmlformats.org/officeDocument/2006/relationships/slide" Target="slide100.xml"/><Relationship Id="rId18" Type="http://schemas.openxmlformats.org/officeDocument/2006/relationships/image" Target="../media/image4.png"/><Relationship Id="rId19" Type="http://schemas.openxmlformats.org/officeDocument/2006/relationships/image" Target="../media/image86.png"/><Relationship Id="rId20" Type="http://schemas.openxmlformats.org/officeDocument/2006/relationships/slide" Target="slide85.xml"/><Relationship Id="rId2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8.png"/><Relationship Id="rId5" Type="http://schemas.openxmlformats.org/officeDocument/2006/relationships/image" Target="../media/image86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9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hyperlink" Target="file:///Word2002%5B1%5D.ppt" TargetMode="External"/><Relationship Id="rId8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gi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90.png"/><Relationship Id="rId7" Type="http://schemas.openxmlformats.org/officeDocument/2006/relationships/image" Target="../media/image94.png"/><Relationship Id="rId8" Type="http://schemas.openxmlformats.org/officeDocument/2006/relationships/image" Target="../media/image95.png"/><Relationship Id="rId9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97.png"/><Relationship Id="rId4" Type="http://schemas.openxmlformats.org/officeDocument/2006/relationships/image" Target="../media/image97.png"/><Relationship Id="rId5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95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png"/><Relationship Id="rId3" Type="http://schemas.openxmlformats.org/officeDocument/2006/relationships/image" Target="../media/image95.png"/><Relationship Id="rId4" Type="http://schemas.openxmlformats.org/officeDocument/2006/relationships/image" Target="../media/image94.png"/><Relationship Id="rId5" Type="http://schemas.openxmlformats.org/officeDocument/2006/relationships/image" Target="../media/image101.png"/><Relationship Id="rId6" Type="http://schemas.openxmlformats.org/officeDocument/2006/relationships/image" Target="../media/image10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46.xml"/><Relationship Id="rId6" Type="http://schemas.openxmlformats.org/officeDocument/2006/relationships/slide" Target="slide72.xml"/><Relationship Id="rId7" Type="http://schemas.openxmlformats.org/officeDocument/2006/relationships/slide" Target="slide72.xml"/><Relationship Id="rId8" Type="http://schemas.openxmlformats.org/officeDocument/2006/relationships/slide" Target="slide29.xml"/><Relationship Id="rId9" Type="http://schemas.openxmlformats.org/officeDocument/2006/relationships/slide" Target="slide79.xml"/><Relationship Id="rId10" Type="http://schemas.openxmlformats.org/officeDocument/2006/relationships/slide" Target="slide73.xml"/><Relationship Id="rId11" Type="http://schemas.openxmlformats.org/officeDocument/2006/relationships/slide" Target="slide73.xml"/><Relationship Id="rId12" Type="http://schemas.openxmlformats.org/officeDocument/2006/relationships/slide" Target="slide85.xml"/><Relationship Id="rId13" Type="http://schemas.openxmlformats.org/officeDocument/2006/relationships/slide" Target="slide85.xml"/><Relationship Id="rId14" Type="http://schemas.openxmlformats.org/officeDocument/2006/relationships/slide" Target="slide88.xml"/><Relationship Id="rId15" Type="http://schemas.openxmlformats.org/officeDocument/2006/relationships/slide" Target="slide90.xml"/><Relationship Id="rId16" Type="http://schemas.openxmlformats.org/officeDocument/2006/relationships/slide" Target="slide90.xml"/><Relationship Id="rId17" Type="http://schemas.openxmlformats.org/officeDocument/2006/relationships/slide" Target="slide100.xml"/><Relationship Id="rId18" Type="http://schemas.openxmlformats.org/officeDocument/2006/relationships/image" Target="../media/image4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104.gif"/><Relationship Id="rId2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owerPoint Bas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the arrow button to advance to the next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343400" y="5029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296945" descr=""/>
          <p:cNvPicPr/>
          <p:nvPr/>
        </p:nvPicPr>
        <p:blipFill>
          <a:blip r:embed="rId2"/>
          <a:stretch/>
        </p:blipFill>
        <p:spPr>
          <a:xfrm>
            <a:off x="3657600" y="2057400"/>
            <a:ext cx="16765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Second way to Insert a slide 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22400" y="3470400"/>
            <a:ext cx="434052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Common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0" y="1828800"/>
            <a:ext cx="8915400" cy="514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001000" y="2057400"/>
            <a:ext cx="8380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7543800" y="198108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467480" y="2362320"/>
            <a:ext cx="10670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ices for Printing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4000320" cy="443844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304920" y="17524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y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" y="33526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cide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WHICH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934320" y="3124080"/>
            <a:ext cx="144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ter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Cop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9480" y="44956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you want to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nextslide"/>
          </p:cNvPr>
          <p:cNvSpPr/>
          <p:nvPr/>
        </p:nvSpPr>
        <p:spPr>
          <a:xfrm>
            <a:off x="8077320" y="6114960"/>
            <a:ext cx="914400" cy="438120"/>
          </a:xfrm>
          <a:custGeom>
            <a:avLst/>
            <a:gdLst>
              <a:gd name="textAreaLeft" fmla="*/ 28080 w 914400"/>
              <a:gd name="textAreaRight" fmla="*/ 886320 w 914400"/>
              <a:gd name="textAreaTop" fmla="*/ 28080 h 438120"/>
              <a:gd name="textAreaBottom" fmla="*/ 410040 h 438120"/>
            </a:gdLst>
            <a:ahLst/>
            <a:rect l="textAreaLeft" t="textAreaTop" r="textAreaRight" b="textAreaBottom"/>
            <a:pathLst>
              <a:path w="45062" h="21600">
                <a:moveTo>
                  <a:pt x="0" y="0"/>
                </a:moveTo>
                <a:lnTo>
                  <a:pt x="45062" y="0"/>
                </a:lnTo>
                <a:lnTo>
                  <a:pt x="45062" y="21600"/>
                </a:lnTo>
                <a:lnTo>
                  <a:pt x="0" y="21600"/>
                </a:lnTo>
                <a:close/>
              </a:path>
              <a:path fill="lightenLess" w="45062" h="21600">
                <a:moveTo>
                  <a:pt x="0" y="0"/>
                </a:moveTo>
                <a:lnTo>
                  <a:pt x="45062" y="0"/>
                </a:lnTo>
                <a:lnTo>
                  <a:pt x="43662" y="1400"/>
                </a:lnTo>
                <a:lnTo>
                  <a:pt x="1400" y="1400"/>
                </a:lnTo>
                <a:close/>
              </a:path>
              <a:path fill="darken" w="45062" h="21600">
                <a:moveTo>
                  <a:pt x="45062" y="0"/>
                </a:moveTo>
                <a:lnTo>
                  <a:pt x="45062" y="21600"/>
                </a:lnTo>
                <a:lnTo>
                  <a:pt x="43662" y="20200"/>
                </a:lnTo>
                <a:lnTo>
                  <a:pt x="43662" y="1400"/>
                </a:lnTo>
                <a:close/>
              </a:path>
              <a:path fill="darkenLess" w="45062" h="21600">
                <a:moveTo>
                  <a:pt x="45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62" y="20200"/>
                </a:lnTo>
                <a:close/>
              </a:path>
              <a:path fill="lighten" w="45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062" h="21600">
                <a:moveTo>
                  <a:pt x="15525" y="3794"/>
                </a:moveTo>
                <a:lnTo>
                  <a:pt x="29538" y="10800"/>
                </a:lnTo>
                <a:lnTo>
                  <a:pt x="1552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>
            <a:hlinkClick r:id="" action="ppaction://hlinkshowjump?jump=nextslide"/>
          </p:cNvPr>
          <p:cNvSpPr/>
          <p:nvPr/>
        </p:nvSpPr>
        <p:spPr>
          <a:xfrm>
            <a:off x="5486400" y="5683320"/>
            <a:ext cx="609480" cy="43164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0492" h="21600">
                <a:moveTo>
                  <a:pt x="0" y="0"/>
                </a:moveTo>
                <a:lnTo>
                  <a:pt x="30492" y="0"/>
                </a:lnTo>
                <a:lnTo>
                  <a:pt x="30492" y="21600"/>
                </a:lnTo>
                <a:lnTo>
                  <a:pt x="0" y="21600"/>
                </a:lnTo>
                <a:close/>
              </a:path>
              <a:path fill="lightenLess" w="30492" h="21600">
                <a:moveTo>
                  <a:pt x="0" y="0"/>
                </a:moveTo>
                <a:lnTo>
                  <a:pt x="30492" y="0"/>
                </a:lnTo>
                <a:lnTo>
                  <a:pt x="29092" y="1400"/>
                </a:lnTo>
                <a:lnTo>
                  <a:pt x="1400" y="1400"/>
                </a:lnTo>
                <a:close/>
              </a:path>
              <a:path fill="darken" w="30492" h="21600">
                <a:moveTo>
                  <a:pt x="30492" y="0"/>
                </a:moveTo>
                <a:lnTo>
                  <a:pt x="30492" y="21600"/>
                </a:lnTo>
                <a:lnTo>
                  <a:pt x="29092" y="20200"/>
                </a:lnTo>
                <a:lnTo>
                  <a:pt x="29092" y="1400"/>
                </a:lnTo>
                <a:close/>
              </a:path>
              <a:path fill="darkenLess" w="30492" h="21600">
                <a:moveTo>
                  <a:pt x="3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2" y="20200"/>
                </a:lnTo>
                <a:close/>
              </a:path>
              <a:path fill="lighten" w="3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HAT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To Pr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1752480"/>
            <a:ext cx="396216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hoo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slides on a full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Prints Slides with room to t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ose number of slide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lick on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 to see more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s Pages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ints only you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000680" cy="4438440"/>
          </a:xfrm>
          <a:prstGeom prst="rect">
            <a:avLst/>
          </a:prstGeom>
          <a:ln w="0">
            <a:noFill/>
          </a:ln>
        </p:spPr>
      </p:pic>
      <p:sp>
        <p:nvSpPr>
          <p:cNvPr id="863" name="">
            <a:hlinkClick r:id="" action="ppaction://hlinkshowjump?jump=nextslide"/>
          </p:cNvPr>
          <p:cNvSpPr/>
          <p:nvPr/>
        </p:nvSpPr>
        <p:spPr>
          <a:xfrm>
            <a:off x="7010280" y="5791320"/>
            <a:ext cx="533520" cy="323640"/>
          </a:xfrm>
          <a:custGeom>
            <a:avLst/>
            <a:gdLst>
              <a:gd name="textAreaLeft" fmla="*/ 20880 w 533520"/>
              <a:gd name="textAreaRight" fmla="*/ 512640 w 5335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5592" h="21600">
                <a:moveTo>
                  <a:pt x="0" y="0"/>
                </a:moveTo>
                <a:lnTo>
                  <a:pt x="35592" y="0"/>
                </a:lnTo>
                <a:lnTo>
                  <a:pt x="35592" y="21600"/>
                </a:lnTo>
                <a:lnTo>
                  <a:pt x="0" y="21600"/>
                </a:lnTo>
                <a:close/>
              </a:path>
              <a:path fill="lightenLess" w="35592" h="21600">
                <a:moveTo>
                  <a:pt x="0" y="0"/>
                </a:moveTo>
                <a:lnTo>
                  <a:pt x="35592" y="0"/>
                </a:lnTo>
                <a:lnTo>
                  <a:pt x="34192" y="1400"/>
                </a:lnTo>
                <a:lnTo>
                  <a:pt x="1400" y="1400"/>
                </a:lnTo>
                <a:close/>
              </a:path>
              <a:path fill="darken" w="35592" h="21600">
                <a:moveTo>
                  <a:pt x="35592" y="0"/>
                </a:moveTo>
                <a:lnTo>
                  <a:pt x="35592" y="21600"/>
                </a:lnTo>
                <a:lnTo>
                  <a:pt x="34192" y="20200"/>
                </a:lnTo>
                <a:lnTo>
                  <a:pt x="34192" y="1400"/>
                </a:lnTo>
                <a:close/>
              </a:path>
              <a:path fill="darkenLess" w="35592" h="21600">
                <a:moveTo>
                  <a:pt x="3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2" y="20200"/>
                </a:lnTo>
                <a:close/>
              </a:path>
              <a:path fill="lighten" w="3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343400" y="48006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HAT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To Pr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1752480"/>
            <a:ext cx="396216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hoo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slides on a full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Prints Slides with room to t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hoose number of slide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ose Horizontal or Vertic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s Pages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ints only you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nextslide"/>
          </p:cNvPr>
          <p:cNvSpPr/>
          <p:nvPr/>
        </p:nvSpPr>
        <p:spPr>
          <a:xfrm>
            <a:off x="7010280" y="5791320"/>
            <a:ext cx="533520" cy="323640"/>
          </a:xfrm>
          <a:custGeom>
            <a:avLst/>
            <a:gdLst>
              <a:gd name="textAreaLeft" fmla="*/ 20880 w 533520"/>
              <a:gd name="textAreaRight" fmla="*/ 512640 w 5335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5592" h="21600">
                <a:moveTo>
                  <a:pt x="0" y="0"/>
                </a:moveTo>
                <a:lnTo>
                  <a:pt x="35592" y="0"/>
                </a:lnTo>
                <a:lnTo>
                  <a:pt x="35592" y="21600"/>
                </a:lnTo>
                <a:lnTo>
                  <a:pt x="0" y="21600"/>
                </a:lnTo>
                <a:close/>
              </a:path>
              <a:path fill="lightenLess" w="35592" h="21600">
                <a:moveTo>
                  <a:pt x="0" y="0"/>
                </a:moveTo>
                <a:lnTo>
                  <a:pt x="35592" y="0"/>
                </a:lnTo>
                <a:lnTo>
                  <a:pt x="34192" y="1400"/>
                </a:lnTo>
                <a:lnTo>
                  <a:pt x="1400" y="1400"/>
                </a:lnTo>
                <a:close/>
              </a:path>
              <a:path fill="darken" w="35592" h="21600">
                <a:moveTo>
                  <a:pt x="35592" y="0"/>
                </a:moveTo>
                <a:lnTo>
                  <a:pt x="35592" y="21600"/>
                </a:lnTo>
                <a:lnTo>
                  <a:pt x="34192" y="20200"/>
                </a:lnTo>
                <a:lnTo>
                  <a:pt x="34192" y="1400"/>
                </a:lnTo>
                <a:close/>
              </a:path>
              <a:path fill="darkenLess" w="35592" h="21600">
                <a:moveTo>
                  <a:pt x="3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2" y="20200"/>
                </a:lnTo>
                <a:close/>
              </a:path>
              <a:path fill="lighten" w="3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7238880" y="495288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000680" cy="443880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6553080" y="4572000"/>
            <a:ext cx="6858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HAT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To Pr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1752480"/>
            <a:ext cx="396216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hoo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slides on a full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Prints Slides with room to t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hoose number of slide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ose Horizontal or Vertic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s Pages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ints only you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7010280" y="5791320"/>
            <a:ext cx="533520" cy="323640"/>
          </a:xfrm>
          <a:custGeom>
            <a:avLst/>
            <a:gdLst>
              <a:gd name="textAreaLeft" fmla="*/ 20880 w 533520"/>
              <a:gd name="textAreaRight" fmla="*/ 512640 w 5335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5592" h="21600">
                <a:moveTo>
                  <a:pt x="0" y="0"/>
                </a:moveTo>
                <a:lnTo>
                  <a:pt x="35592" y="0"/>
                </a:lnTo>
                <a:lnTo>
                  <a:pt x="35592" y="21600"/>
                </a:lnTo>
                <a:lnTo>
                  <a:pt x="0" y="21600"/>
                </a:lnTo>
                <a:close/>
              </a:path>
              <a:path fill="lightenLess" w="35592" h="21600">
                <a:moveTo>
                  <a:pt x="0" y="0"/>
                </a:moveTo>
                <a:lnTo>
                  <a:pt x="35592" y="0"/>
                </a:lnTo>
                <a:lnTo>
                  <a:pt x="34192" y="1400"/>
                </a:lnTo>
                <a:lnTo>
                  <a:pt x="1400" y="1400"/>
                </a:lnTo>
                <a:close/>
              </a:path>
              <a:path fill="darken" w="35592" h="21600">
                <a:moveTo>
                  <a:pt x="35592" y="0"/>
                </a:moveTo>
                <a:lnTo>
                  <a:pt x="35592" y="21600"/>
                </a:lnTo>
                <a:lnTo>
                  <a:pt x="34192" y="20200"/>
                </a:lnTo>
                <a:lnTo>
                  <a:pt x="34192" y="1400"/>
                </a:lnTo>
                <a:close/>
              </a:path>
              <a:path fill="darkenLess" w="35592" h="21600">
                <a:moveTo>
                  <a:pt x="3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2" y="20200"/>
                </a:lnTo>
                <a:close/>
              </a:path>
              <a:path fill="lighten" w="3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nextslide"/>
          </p:cNvPr>
          <p:cNvSpPr/>
          <p:nvPr/>
        </p:nvSpPr>
        <p:spPr>
          <a:xfrm>
            <a:off x="7238880" y="495288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000680" cy="44388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6705720" y="4495680"/>
            <a:ext cx="533160" cy="129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HAT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To Pr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752480"/>
            <a:ext cx="396216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hoo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slides on a full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Prints Slides with room to t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hoose number of slide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ose Horizontal or Vertic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s Pages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ints only you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>
            <a:hlinkClick r:id="" action="ppaction://hlinkshowjump?jump=nextslide"/>
          </p:cNvPr>
          <p:cNvSpPr/>
          <p:nvPr/>
        </p:nvSpPr>
        <p:spPr>
          <a:xfrm>
            <a:off x="7010280" y="5791320"/>
            <a:ext cx="533520" cy="323640"/>
          </a:xfrm>
          <a:custGeom>
            <a:avLst/>
            <a:gdLst>
              <a:gd name="textAreaLeft" fmla="*/ 20880 w 533520"/>
              <a:gd name="textAreaRight" fmla="*/ 512640 w 5335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5592" h="21600">
                <a:moveTo>
                  <a:pt x="0" y="0"/>
                </a:moveTo>
                <a:lnTo>
                  <a:pt x="35592" y="0"/>
                </a:lnTo>
                <a:lnTo>
                  <a:pt x="35592" y="21600"/>
                </a:lnTo>
                <a:lnTo>
                  <a:pt x="0" y="21600"/>
                </a:lnTo>
                <a:close/>
              </a:path>
              <a:path fill="lightenLess" w="35592" h="21600">
                <a:moveTo>
                  <a:pt x="0" y="0"/>
                </a:moveTo>
                <a:lnTo>
                  <a:pt x="35592" y="0"/>
                </a:lnTo>
                <a:lnTo>
                  <a:pt x="34192" y="1400"/>
                </a:lnTo>
                <a:lnTo>
                  <a:pt x="1400" y="1400"/>
                </a:lnTo>
                <a:close/>
              </a:path>
              <a:path fill="darken" w="35592" h="21600">
                <a:moveTo>
                  <a:pt x="35592" y="0"/>
                </a:moveTo>
                <a:lnTo>
                  <a:pt x="35592" y="21600"/>
                </a:lnTo>
                <a:lnTo>
                  <a:pt x="34192" y="20200"/>
                </a:lnTo>
                <a:lnTo>
                  <a:pt x="34192" y="1400"/>
                </a:lnTo>
                <a:close/>
              </a:path>
              <a:path fill="darkenLess" w="35592" h="21600">
                <a:moveTo>
                  <a:pt x="3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2" y="20200"/>
                </a:lnTo>
                <a:close/>
              </a:path>
              <a:path fill="lighten" w="3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7238880" y="495288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00068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HAT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To Pr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33520" y="1752480"/>
            <a:ext cx="396216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hoo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slides on a full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Prints Slides with room to t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ose number of slide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lick on Vertical or Horizontal Order to see the layou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s Pages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ints only you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nextslide"/>
          </p:cNvPr>
          <p:cNvSpPr/>
          <p:nvPr/>
        </p:nvSpPr>
        <p:spPr>
          <a:xfrm>
            <a:off x="7010280" y="5791320"/>
            <a:ext cx="533520" cy="323640"/>
          </a:xfrm>
          <a:custGeom>
            <a:avLst/>
            <a:gdLst>
              <a:gd name="textAreaLeft" fmla="*/ 20880 w 533520"/>
              <a:gd name="textAreaRight" fmla="*/ 512640 w 5335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5592" h="21600">
                <a:moveTo>
                  <a:pt x="0" y="0"/>
                </a:moveTo>
                <a:lnTo>
                  <a:pt x="35592" y="0"/>
                </a:lnTo>
                <a:lnTo>
                  <a:pt x="35592" y="21600"/>
                </a:lnTo>
                <a:lnTo>
                  <a:pt x="0" y="21600"/>
                </a:lnTo>
                <a:close/>
              </a:path>
              <a:path fill="lightenLess" w="35592" h="21600">
                <a:moveTo>
                  <a:pt x="0" y="0"/>
                </a:moveTo>
                <a:lnTo>
                  <a:pt x="35592" y="0"/>
                </a:lnTo>
                <a:lnTo>
                  <a:pt x="34192" y="1400"/>
                </a:lnTo>
                <a:lnTo>
                  <a:pt x="1400" y="1400"/>
                </a:lnTo>
                <a:close/>
              </a:path>
              <a:path fill="darken" w="35592" h="21600">
                <a:moveTo>
                  <a:pt x="35592" y="0"/>
                </a:moveTo>
                <a:lnTo>
                  <a:pt x="35592" y="21600"/>
                </a:lnTo>
                <a:lnTo>
                  <a:pt x="34192" y="20200"/>
                </a:lnTo>
                <a:lnTo>
                  <a:pt x="34192" y="1400"/>
                </a:lnTo>
                <a:close/>
              </a:path>
              <a:path fill="darkenLess" w="35592" h="21600">
                <a:moveTo>
                  <a:pt x="3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2" y="20200"/>
                </a:lnTo>
                <a:close/>
              </a:path>
              <a:path fill="lighten" w="3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>
            <a:hlinkClick r:id="" action="ppaction://hlinkshowjump?jump=nextslide"/>
          </p:cNvPr>
          <p:cNvSpPr/>
          <p:nvPr/>
        </p:nvSpPr>
        <p:spPr>
          <a:xfrm>
            <a:off x="8001000" y="6114960"/>
            <a:ext cx="838080" cy="438120"/>
          </a:xfrm>
          <a:custGeom>
            <a:avLst/>
            <a:gdLst>
              <a:gd name="textAreaLeft" fmla="*/ 28080 w 838080"/>
              <a:gd name="textAreaRight" fmla="*/ 810000 w 838080"/>
              <a:gd name="textAreaTop" fmla="*/ 28080 h 438120"/>
              <a:gd name="textAreaBottom" fmla="*/ 410040 h 438120"/>
            </a:gdLst>
            <a:ahLst/>
            <a:rect l="textAreaLeft" t="textAreaTop" r="textAreaRight" b="textAreaBottom"/>
            <a:pathLst>
              <a:path w="41302" h="21600">
                <a:moveTo>
                  <a:pt x="0" y="0"/>
                </a:moveTo>
                <a:lnTo>
                  <a:pt x="41302" y="0"/>
                </a:lnTo>
                <a:lnTo>
                  <a:pt x="41302" y="21600"/>
                </a:lnTo>
                <a:lnTo>
                  <a:pt x="0" y="21600"/>
                </a:lnTo>
                <a:close/>
              </a:path>
              <a:path fill="lightenLess" w="41302" h="21600">
                <a:moveTo>
                  <a:pt x="0" y="0"/>
                </a:moveTo>
                <a:lnTo>
                  <a:pt x="41302" y="0"/>
                </a:lnTo>
                <a:lnTo>
                  <a:pt x="39902" y="1400"/>
                </a:lnTo>
                <a:lnTo>
                  <a:pt x="1400" y="1400"/>
                </a:lnTo>
                <a:close/>
              </a:path>
              <a:path fill="darken" w="41302" h="21600">
                <a:moveTo>
                  <a:pt x="41302" y="0"/>
                </a:moveTo>
                <a:lnTo>
                  <a:pt x="41302" y="21600"/>
                </a:lnTo>
                <a:lnTo>
                  <a:pt x="39902" y="20200"/>
                </a:lnTo>
                <a:lnTo>
                  <a:pt x="39902" y="1400"/>
                </a:lnTo>
                <a:close/>
              </a:path>
              <a:path fill="darkenLess" w="41302" h="21600">
                <a:moveTo>
                  <a:pt x="41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2" y="20200"/>
                </a:lnTo>
                <a:close/>
              </a:path>
              <a:path fill="lighten" w="41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2" h="21600">
                <a:moveTo>
                  <a:pt x="13645" y="3794"/>
                </a:moveTo>
                <a:lnTo>
                  <a:pt x="27658" y="10800"/>
                </a:lnTo>
                <a:lnTo>
                  <a:pt x="1364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>
            <a:hlinkClick r:id="" action="ppaction://hlinkshowjump?jump=nextslide"/>
          </p:cNvPr>
          <p:cNvSpPr/>
          <p:nvPr/>
        </p:nvSpPr>
        <p:spPr>
          <a:xfrm>
            <a:off x="7238880" y="495288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4629240" y="1523880"/>
            <a:ext cx="4000320" cy="443880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6324480" y="495288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96080" y="4457880"/>
            <a:ext cx="933480" cy="99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HAT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To Pr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33520" y="1752480"/>
            <a:ext cx="396216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hoo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slides on a full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Prints Slides with room to t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ose number of slide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lick on Vertical or Horizontal Order to see the layou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s Pages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ints only you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7010280" y="5791320"/>
            <a:ext cx="533520" cy="323640"/>
          </a:xfrm>
          <a:custGeom>
            <a:avLst/>
            <a:gdLst>
              <a:gd name="textAreaLeft" fmla="*/ 20880 w 533520"/>
              <a:gd name="textAreaRight" fmla="*/ 512640 w 5335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5592" h="21600">
                <a:moveTo>
                  <a:pt x="0" y="0"/>
                </a:moveTo>
                <a:lnTo>
                  <a:pt x="35592" y="0"/>
                </a:lnTo>
                <a:lnTo>
                  <a:pt x="35592" y="21600"/>
                </a:lnTo>
                <a:lnTo>
                  <a:pt x="0" y="21600"/>
                </a:lnTo>
                <a:close/>
              </a:path>
              <a:path fill="lightenLess" w="35592" h="21600">
                <a:moveTo>
                  <a:pt x="0" y="0"/>
                </a:moveTo>
                <a:lnTo>
                  <a:pt x="35592" y="0"/>
                </a:lnTo>
                <a:lnTo>
                  <a:pt x="34192" y="1400"/>
                </a:lnTo>
                <a:lnTo>
                  <a:pt x="1400" y="1400"/>
                </a:lnTo>
                <a:close/>
              </a:path>
              <a:path fill="darken" w="35592" h="21600">
                <a:moveTo>
                  <a:pt x="35592" y="0"/>
                </a:moveTo>
                <a:lnTo>
                  <a:pt x="35592" y="21600"/>
                </a:lnTo>
                <a:lnTo>
                  <a:pt x="34192" y="20200"/>
                </a:lnTo>
                <a:lnTo>
                  <a:pt x="34192" y="1400"/>
                </a:lnTo>
                <a:close/>
              </a:path>
              <a:path fill="darkenLess" w="35592" h="21600">
                <a:moveTo>
                  <a:pt x="3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2" y="20200"/>
                </a:lnTo>
                <a:close/>
              </a:path>
              <a:path fill="lighten" w="3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nextslide"/>
          </p:cNvPr>
          <p:cNvSpPr/>
          <p:nvPr/>
        </p:nvSpPr>
        <p:spPr>
          <a:xfrm>
            <a:off x="8001000" y="6114960"/>
            <a:ext cx="838080" cy="438120"/>
          </a:xfrm>
          <a:custGeom>
            <a:avLst/>
            <a:gdLst>
              <a:gd name="textAreaLeft" fmla="*/ 28080 w 838080"/>
              <a:gd name="textAreaRight" fmla="*/ 810000 w 838080"/>
              <a:gd name="textAreaTop" fmla="*/ 28080 h 438120"/>
              <a:gd name="textAreaBottom" fmla="*/ 410040 h 438120"/>
            </a:gdLst>
            <a:ahLst/>
            <a:rect l="textAreaLeft" t="textAreaTop" r="textAreaRight" b="textAreaBottom"/>
            <a:pathLst>
              <a:path w="41302" h="21600">
                <a:moveTo>
                  <a:pt x="0" y="0"/>
                </a:moveTo>
                <a:lnTo>
                  <a:pt x="41302" y="0"/>
                </a:lnTo>
                <a:lnTo>
                  <a:pt x="41302" y="21600"/>
                </a:lnTo>
                <a:lnTo>
                  <a:pt x="0" y="21600"/>
                </a:lnTo>
                <a:close/>
              </a:path>
              <a:path fill="lightenLess" w="41302" h="21600">
                <a:moveTo>
                  <a:pt x="0" y="0"/>
                </a:moveTo>
                <a:lnTo>
                  <a:pt x="41302" y="0"/>
                </a:lnTo>
                <a:lnTo>
                  <a:pt x="39902" y="1400"/>
                </a:lnTo>
                <a:lnTo>
                  <a:pt x="1400" y="1400"/>
                </a:lnTo>
                <a:close/>
              </a:path>
              <a:path fill="darken" w="41302" h="21600">
                <a:moveTo>
                  <a:pt x="41302" y="0"/>
                </a:moveTo>
                <a:lnTo>
                  <a:pt x="41302" y="21600"/>
                </a:lnTo>
                <a:lnTo>
                  <a:pt x="39902" y="20200"/>
                </a:lnTo>
                <a:lnTo>
                  <a:pt x="39902" y="1400"/>
                </a:lnTo>
                <a:close/>
              </a:path>
              <a:path fill="darkenLess" w="41302" h="21600">
                <a:moveTo>
                  <a:pt x="41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2" y="20200"/>
                </a:lnTo>
                <a:close/>
              </a:path>
              <a:path fill="lighten" w="41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2" h="21600">
                <a:moveTo>
                  <a:pt x="13645" y="3794"/>
                </a:moveTo>
                <a:lnTo>
                  <a:pt x="27658" y="10800"/>
                </a:lnTo>
                <a:lnTo>
                  <a:pt x="1364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>
            <a:hlinkClick r:id="" action="ppaction://hlinkshowjump?jump=nextslide"/>
          </p:cNvPr>
          <p:cNvSpPr/>
          <p:nvPr/>
        </p:nvSpPr>
        <p:spPr>
          <a:xfrm>
            <a:off x="7238880" y="495288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000320" cy="44388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7886880" y="4495680"/>
            <a:ext cx="76176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238880" y="4952880"/>
            <a:ext cx="648000" cy="228600"/>
          </a:xfrm>
          <a:custGeom>
            <a:avLst/>
            <a:gdLst>
              <a:gd name="textAreaLeft" fmla="*/ 14760 w 648000"/>
              <a:gd name="textAreaRight" fmla="*/ 633240 w 648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1166" h="21600">
                <a:moveTo>
                  <a:pt x="0" y="0"/>
                </a:moveTo>
                <a:lnTo>
                  <a:pt x="61166" y="0"/>
                </a:lnTo>
                <a:lnTo>
                  <a:pt x="61166" y="21600"/>
                </a:lnTo>
                <a:lnTo>
                  <a:pt x="0" y="21600"/>
                </a:lnTo>
                <a:close/>
              </a:path>
              <a:path fill="lightenLess" w="61166" h="21600">
                <a:moveTo>
                  <a:pt x="0" y="0"/>
                </a:moveTo>
                <a:lnTo>
                  <a:pt x="61166" y="0"/>
                </a:lnTo>
                <a:lnTo>
                  <a:pt x="59766" y="1400"/>
                </a:lnTo>
                <a:lnTo>
                  <a:pt x="1400" y="1400"/>
                </a:lnTo>
                <a:close/>
              </a:path>
              <a:path fill="darken" w="61166" h="21600">
                <a:moveTo>
                  <a:pt x="61166" y="0"/>
                </a:moveTo>
                <a:lnTo>
                  <a:pt x="61166" y="21600"/>
                </a:lnTo>
                <a:lnTo>
                  <a:pt x="59766" y="20200"/>
                </a:lnTo>
                <a:lnTo>
                  <a:pt x="59766" y="1400"/>
                </a:lnTo>
                <a:close/>
              </a:path>
              <a:path fill="darkenLess" w="61166" h="21600">
                <a:moveTo>
                  <a:pt x="61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6" y="20200"/>
                </a:lnTo>
                <a:close/>
              </a:path>
              <a:path fill="lighten" w="61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" action="ppaction://hlinksldjump"/>
              </a:rPr>
              <a:t>Making a New Slide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3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4" action="ppaction://hlinksldjump"/>
              </a:rPr>
              <a:t> </a:t>
            </a:r>
            <a:r>
              <a:rPr b="0" lang="en-US" sz="1300" spc="-1" strike="noStrike" u="sng">
                <a:solidFill>
                  <a:srgbClr val="d69b8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Slide Transition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Inserting Sound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Tables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Using Hyperlink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Setting up your Slide Show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895480" y="1795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You’ve made it through with flying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900520" y="4389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joy Experimenting with all it’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6" name="j0174038" descr=""/>
          <p:cNvPicPr/>
          <p:nvPr/>
        </p:nvPicPr>
        <p:blipFill>
          <a:blip r:embed="rId18"/>
          <a:stretch/>
        </p:blipFill>
        <p:spPr>
          <a:xfrm>
            <a:off x="4030560" y="2617920"/>
            <a:ext cx="1074960" cy="1450800"/>
          </a:xfrm>
          <a:prstGeom prst="rect">
            <a:avLst/>
          </a:prstGeom>
          <a:ln w="0">
            <a:noFill/>
          </a:ln>
        </p:spPr>
      </p:pic>
      <p:pic>
        <p:nvPicPr>
          <p:cNvPr id="907" name="AG00346_" descr=""/>
          <p:cNvPicPr/>
          <p:nvPr/>
        </p:nvPicPr>
        <p:blipFill>
          <a:blip r:embed="rId19"/>
          <a:stretch/>
        </p:blipFill>
        <p:spPr>
          <a:xfrm>
            <a:off x="1076400" y="635040"/>
            <a:ext cx="5913360" cy="81288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 txBox="1"/>
          <p:nvPr/>
        </p:nvSpPr>
        <p:spPr>
          <a:xfrm>
            <a:off x="3352680" y="785880"/>
            <a:ext cx="342900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gratulations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Arial Unicode MS"/>
              </a:rPr>
              <a:t>Insert a slide using the Common Tasks Menu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5144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381880" y="213372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228600" y="1828800"/>
            <a:ext cx="8077320" cy="533520"/>
          </a:xfrm>
          <a:custGeom>
            <a:avLst/>
            <a:gdLst>
              <a:gd name="textAreaLeft" fmla="*/ 34560 w 8077320"/>
              <a:gd name="textAreaRight" fmla="*/ 8042760 w 8077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26811" h="21600">
                <a:moveTo>
                  <a:pt x="0" y="0"/>
                </a:moveTo>
                <a:lnTo>
                  <a:pt x="326811" y="0"/>
                </a:lnTo>
                <a:lnTo>
                  <a:pt x="326811" y="21600"/>
                </a:lnTo>
                <a:lnTo>
                  <a:pt x="0" y="21600"/>
                </a:lnTo>
                <a:close/>
              </a:path>
              <a:path fill="lightenLess" w="326811" h="21600">
                <a:moveTo>
                  <a:pt x="0" y="0"/>
                </a:moveTo>
                <a:lnTo>
                  <a:pt x="326811" y="0"/>
                </a:lnTo>
                <a:lnTo>
                  <a:pt x="325411" y="1400"/>
                </a:lnTo>
                <a:lnTo>
                  <a:pt x="1400" y="1400"/>
                </a:lnTo>
                <a:close/>
              </a:path>
              <a:path fill="darken" w="326811" h="21600">
                <a:moveTo>
                  <a:pt x="326811" y="0"/>
                </a:moveTo>
                <a:lnTo>
                  <a:pt x="326811" y="21600"/>
                </a:lnTo>
                <a:lnTo>
                  <a:pt x="325411" y="20200"/>
                </a:lnTo>
                <a:lnTo>
                  <a:pt x="325411" y="1400"/>
                </a:lnTo>
                <a:close/>
              </a:path>
              <a:path fill="darkenLess" w="326811" h="21600">
                <a:moveTo>
                  <a:pt x="32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11" y="20200"/>
                </a:lnTo>
                <a:close/>
              </a:path>
              <a:path fill="lighten" w="32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228600" y="1828800"/>
            <a:ext cx="8077320" cy="533520"/>
          </a:xfrm>
          <a:custGeom>
            <a:avLst/>
            <a:gdLst>
              <a:gd name="textAreaLeft" fmla="*/ 34560 w 8077320"/>
              <a:gd name="textAreaRight" fmla="*/ 8042760 w 8077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26811" h="21600">
                <a:moveTo>
                  <a:pt x="0" y="0"/>
                </a:moveTo>
                <a:lnTo>
                  <a:pt x="326811" y="0"/>
                </a:lnTo>
                <a:lnTo>
                  <a:pt x="326811" y="21600"/>
                </a:lnTo>
                <a:lnTo>
                  <a:pt x="0" y="21600"/>
                </a:lnTo>
                <a:close/>
              </a:path>
              <a:path fill="lightenLess" w="326811" h="21600">
                <a:moveTo>
                  <a:pt x="0" y="0"/>
                </a:moveTo>
                <a:lnTo>
                  <a:pt x="326811" y="0"/>
                </a:lnTo>
                <a:lnTo>
                  <a:pt x="325411" y="1400"/>
                </a:lnTo>
                <a:lnTo>
                  <a:pt x="1400" y="1400"/>
                </a:lnTo>
                <a:close/>
              </a:path>
              <a:path fill="darken" w="326811" h="21600">
                <a:moveTo>
                  <a:pt x="326811" y="0"/>
                </a:moveTo>
                <a:lnTo>
                  <a:pt x="326811" y="21600"/>
                </a:lnTo>
                <a:lnTo>
                  <a:pt x="325411" y="20200"/>
                </a:lnTo>
                <a:lnTo>
                  <a:pt x="325411" y="1400"/>
                </a:lnTo>
                <a:close/>
              </a:path>
              <a:path fill="darkenLess" w="326811" h="21600">
                <a:moveTo>
                  <a:pt x="32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11" y="20200"/>
                </a:lnTo>
                <a:close/>
              </a:path>
              <a:path fill="lighten" w="32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152280" y="2362320"/>
            <a:ext cx="8991720" cy="4495680"/>
          </a:xfrm>
          <a:custGeom>
            <a:avLst/>
            <a:gdLst>
              <a:gd name="textAreaLeft" fmla="*/ 291240 w 8991720"/>
              <a:gd name="textAreaRight" fmla="*/ 8700480 w 8991720"/>
              <a:gd name="textAreaTop" fmla="*/ 291240 h 4495680"/>
              <a:gd name="textAreaBottom" fmla="*/ 4204440 h 44956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51444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8381880" y="213372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772400" y="1981080"/>
            <a:ext cx="1371600" cy="88272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7848720" y="2362320"/>
            <a:ext cx="1295280" cy="228600"/>
          </a:xfrm>
          <a:custGeom>
            <a:avLst/>
            <a:gdLst>
              <a:gd name="textAreaLeft" fmla="*/ 14760 w 1295280"/>
              <a:gd name="textAreaRight" fmla="*/ 1280520 w 12952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2230" h="21600">
                <a:moveTo>
                  <a:pt x="0" y="0"/>
                </a:moveTo>
                <a:lnTo>
                  <a:pt x="122230" y="0"/>
                </a:lnTo>
                <a:lnTo>
                  <a:pt x="122230" y="21600"/>
                </a:lnTo>
                <a:lnTo>
                  <a:pt x="0" y="21600"/>
                </a:lnTo>
                <a:close/>
              </a:path>
              <a:path fill="lightenLess" w="122230" h="21600">
                <a:moveTo>
                  <a:pt x="0" y="0"/>
                </a:moveTo>
                <a:lnTo>
                  <a:pt x="122230" y="0"/>
                </a:lnTo>
                <a:lnTo>
                  <a:pt x="120830" y="1400"/>
                </a:lnTo>
                <a:lnTo>
                  <a:pt x="1400" y="1400"/>
                </a:lnTo>
                <a:close/>
              </a:path>
              <a:path fill="darken" w="122230" h="21600">
                <a:moveTo>
                  <a:pt x="122230" y="0"/>
                </a:moveTo>
                <a:lnTo>
                  <a:pt x="122230" y="21600"/>
                </a:lnTo>
                <a:lnTo>
                  <a:pt x="120830" y="20200"/>
                </a:lnTo>
                <a:lnTo>
                  <a:pt x="120830" y="1400"/>
                </a:lnTo>
                <a:close/>
              </a:path>
              <a:path fill="darkenLess" w="122230" h="21600">
                <a:moveTo>
                  <a:pt x="1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830" y="20200"/>
                </a:lnTo>
                <a:close/>
              </a:path>
              <a:path fill="lighten" w="1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Arial Unicode MS"/>
              </a:rPr>
              <a:t>Insert a slide using the Common Tasks Menu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ady for the nex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minder: you won’t have to remember each way, just the one or two you are most comfortable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754380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j0078758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2381400" cy="2390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2514600" y="457200"/>
            <a:ext cx="358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abb9c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Good Jo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abb9c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t qu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523520"/>
            <a:ext cx="77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ook for Common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12193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51055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 to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078703" descr=""/>
          <p:cNvPicPr/>
          <p:nvPr/>
        </p:nvPicPr>
        <p:blipFill>
          <a:blip r:embed="rId4"/>
          <a:stretch/>
        </p:blipFill>
        <p:spPr>
          <a:xfrm>
            <a:off x="2820960" y="2228760"/>
            <a:ext cx="22845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Third way to insert a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981080"/>
            <a:ext cx="7551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the new slide icon on the too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type of slide you need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228600" y="1565280"/>
            <a:ext cx="8496360" cy="339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95480" y="1676520"/>
            <a:ext cx="38124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2895480" y="2971800"/>
            <a:ext cx="4191120" cy="2495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3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6095880" y="32004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Arial Unicode MS"/>
              </a:rPr>
              <a:t>Practice Inserting a Slide using the New Slide Icon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2971800" y="2133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828800"/>
            <a:ext cx="2971800" cy="533520"/>
          </a:xfrm>
          <a:custGeom>
            <a:avLst/>
            <a:gdLst>
              <a:gd name="textAreaLeft" fmla="*/ 34560 w 2971800"/>
              <a:gd name="textAreaRight" fmla="*/ 2937240 w 2971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0249" h="21600">
                <a:moveTo>
                  <a:pt x="0" y="0"/>
                </a:moveTo>
                <a:lnTo>
                  <a:pt x="120249" y="0"/>
                </a:lnTo>
                <a:lnTo>
                  <a:pt x="120249" y="21600"/>
                </a:lnTo>
                <a:lnTo>
                  <a:pt x="0" y="21600"/>
                </a:lnTo>
                <a:close/>
              </a:path>
              <a:path fill="lightenLess" w="120249" h="21600">
                <a:moveTo>
                  <a:pt x="0" y="0"/>
                </a:moveTo>
                <a:lnTo>
                  <a:pt x="120249" y="0"/>
                </a:lnTo>
                <a:lnTo>
                  <a:pt x="118849" y="1400"/>
                </a:lnTo>
                <a:lnTo>
                  <a:pt x="1400" y="1400"/>
                </a:lnTo>
                <a:close/>
              </a:path>
              <a:path fill="darken" w="120249" h="21600">
                <a:moveTo>
                  <a:pt x="120249" y="0"/>
                </a:moveTo>
                <a:lnTo>
                  <a:pt x="120249" y="21600"/>
                </a:lnTo>
                <a:lnTo>
                  <a:pt x="118849" y="20200"/>
                </a:lnTo>
                <a:lnTo>
                  <a:pt x="118849" y="1400"/>
                </a:lnTo>
                <a:close/>
              </a:path>
              <a:path fill="darkenLess" w="120249" h="21600">
                <a:moveTo>
                  <a:pt x="120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849" y="20200"/>
                </a:lnTo>
                <a:close/>
              </a:path>
              <a:path fill="lighten" w="120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0" y="1981080"/>
            <a:ext cx="2971800" cy="381240"/>
          </a:xfrm>
          <a:custGeom>
            <a:avLst/>
            <a:gdLst>
              <a:gd name="textAreaLeft" fmla="*/ 24480 w 2971800"/>
              <a:gd name="textAreaRight" fmla="*/ 2947320 w 2971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68235" h="21600">
                <a:moveTo>
                  <a:pt x="0" y="0"/>
                </a:moveTo>
                <a:lnTo>
                  <a:pt x="168235" y="0"/>
                </a:lnTo>
                <a:lnTo>
                  <a:pt x="168235" y="21600"/>
                </a:lnTo>
                <a:lnTo>
                  <a:pt x="0" y="21600"/>
                </a:lnTo>
                <a:close/>
              </a:path>
              <a:path fill="lightenLess" w="168235" h="21600">
                <a:moveTo>
                  <a:pt x="0" y="0"/>
                </a:moveTo>
                <a:lnTo>
                  <a:pt x="168235" y="0"/>
                </a:lnTo>
                <a:lnTo>
                  <a:pt x="166836" y="1400"/>
                </a:lnTo>
                <a:lnTo>
                  <a:pt x="1400" y="1400"/>
                </a:lnTo>
                <a:close/>
              </a:path>
              <a:path fill="darken" w="168235" h="21600">
                <a:moveTo>
                  <a:pt x="168235" y="0"/>
                </a:moveTo>
                <a:lnTo>
                  <a:pt x="168235" y="21600"/>
                </a:lnTo>
                <a:lnTo>
                  <a:pt x="166836" y="20200"/>
                </a:lnTo>
                <a:lnTo>
                  <a:pt x="166836" y="1400"/>
                </a:lnTo>
                <a:close/>
              </a:path>
              <a:path fill="darkenLess" w="168235" h="21600">
                <a:moveTo>
                  <a:pt x="168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836" y="20200"/>
                </a:lnTo>
                <a:close/>
              </a:path>
              <a:path fill="lighten" w="168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2971800" y="2133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190760" cy="249552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rId3" action="ppaction://hlinksldjump"/>
          </p:cNvPr>
          <p:cNvSpPr/>
          <p:nvPr/>
        </p:nvSpPr>
        <p:spPr>
          <a:xfrm>
            <a:off x="2209680" y="3429000"/>
            <a:ext cx="2667240" cy="1752480"/>
          </a:xfrm>
          <a:custGeom>
            <a:avLst/>
            <a:gdLst>
              <a:gd name="textAreaLeft" fmla="*/ 113400 w 2667240"/>
              <a:gd name="textAreaRight" fmla="*/ 2553840 w 266724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2872" h="21600">
                <a:moveTo>
                  <a:pt x="0" y="0"/>
                </a:moveTo>
                <a:lnTo>
                  <a:pt x="32872" y="0"/>
                </a:lnTo>
                <a:lnTo>
                  <a:pt x="32872" y="21600"/>
                </a:lnTo>
                <a:lnTo>
                  <a:pt x="0" y="21600"/>
                </a:lnTo>
                <a:close/>
              </a:path>
              <a:path fill="lightenLess" w="32872" h="21600">
                <a:moveTo>
                  <a:pt x="0" y="0"/>
                </a:moveTo>
                <a:lnTo>
                  <a:pt x="32872" y="0"/>
                </a:lnTo>
                <a:lnTo>
                  <a:pt x="31473" y="1400"/>
                </a:lnTo>
                <a:lnTo>
                  <a:pt x="1400" y="1400"/>
                </a:lnTo>
                <a:close/>
              </a:path>
              <a:path fill="darken" w="32872" h="21600">
                <a:moveTo>
                  <a:pt x="32872" y="0"/>
                </a:moveTo>
                <a:lnTo>
                  <a:pt x="32872" y="21600"/>
                </a:lnTo>
                <a:lnTo>
                  <a:pt x="31473" y="20200"/>
                </a:lnTo>
                <a:lnTo>
                  <a:pt x="31473" y="1400"/>
                </a:lnTo>
                <a:close/>
              </a:path>
              <a:path fill="darkenLess" w="32872" h="21600">
                <a:moveTo>
                  <a:pt x="3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73" y="20200"/>
                </a:lnTo>
                <a:close/>
              </a:path>
              <a:path fill="lighten" w="3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5410080" y="3276720"/>
            <a:ext cx="533520" cy="15228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549" h="21600">
                <a:moveTo>
                  <a:pt x="0" y="0"/>
                </a:moveTo>
                <a:lnTo>
                  <a:pt x="75549" y="0"/>
                </a:lnTo>
                <a:lnTo>
                  <a:pt x="75549" y="21600"/>
                </a:lnTo>
                <a:lnTo>
                  <a:pt x="0" y="21600"/>
                </a:lnTo>
                <a:close/>
              </a:path>
              <a:path fill="lightenLess" w="75549" h="21600">
                <a:moveTo>
                  <a:pt x="0" y="0"/>
                </a:moveTo>
                <a:lnTo>
                  <a:pt x="75549" y="0"/>
                </a:lnTo>
                <a:lnTo>
                  <a:pt x="74149" y="1400"/>
                </a:lnTo>
                <a:lnTo>
                  <a:pt x="1400" y="1400"/>
                </a:lnTo>
                <a:close/>
              </a:path>
              <a:path fill="darken" w="75549" h="21600">
                <a:moveTo>
                  <a:pt x="75549" y="0"/>
                </a:moveTo>
                <a:lnTo>
                  <a:pt x="75549" y="21600"/>
                </a:lnTo>
                <a:lnTo>
                  <a:pt x="74149" y="20200"/>
                </a:lnTo>
                <a:lnTo>
                  <a:pt x="74149" y="1400"/>
                </a:lnTo>
                <a:close/>
              </a:path>
              <a:path fill="darkenLess" w="75549" h="21600">
                <a:moveTo>
                  <a:pt x="75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9" y="20200"/>
                </a:lnTo>
                <a:close/>
              </a:path>
              <a:path fill="lighten" w="75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5334120" y="3276720"/>
            <a:ext cx="685800" cy="152280"/>
          </a:xfrm>
          <a:custGeom>
            <a:avLst/>
            <a:gdLst>
              <a:gd name="textAreaLeft" fmla="*/ 9720 w 685800"/>
              <a:gd name="textAreaRight" fmla="*/ 676080 w 6858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97098" h="21600">
                <a:moveTo>
                  <a:pt x="0" y="0"/>
                </a:moveTo>
                <a:lnTo>
                  <a:pt x="97098" y="0"/>
                </a:lnTo>
                <a:lnTo>
                  <a:pt x="97098" y="21600"/>
                </a:lnTo>
                <a:lnTo>
                  <a:pt x="0" y="21600"/>
                </a:lnTo>
                <a:close/>
              </a:path>
              <a:path fill="lightenLess" w="97098" h="21600">
                <a:moveTo>
                  <a:pt x="0" y="0"/>
                </a:moveTo>
                <a:lnTo>
                  <a:pt x="97098" y="0"/>
                </a:lnTo>
                <a:lnTo>
                  <a:pt x="95698" y="1400"/>
                </a:lnTo>
                <a:lnTo>
                  <a:pt x="1400" y="1400"/>
                </a:lnTo>
                <a:close/>
              </a:path>
              <a:path fill="darken" w="97098" h="21600">
                <a:moveTo>
                  <a:pt x="97098" y="0"/>
                </a:moveTo>
                <a:lnTo>
                  <a:pt x="97098" y="21600"/>
                </a:lnTo>
                <a:lnTo>
                  <a:pt x="95698" y="20200"/>
                </a:lnTo>
                <a:lnTo>
                  <a:pt x="95698" y="1400"/>
                </a:lnTo>
                <a:close/>
              </a:path>
              <a:path fill="darkenLess" w="97098" h="21600">
                <a:moveTo>
                  <a:pt x="97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98" y="20200"/>
                </a:lnTo>
                <a:close/>
              </a:path>
              <a:path fill="lighten" w="97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0" y="1828800"/>
            <a:ext cx="2895480" cy="609480"/>
          </a:xfrm>
          <a:custGeom>
            <a:avLst/>
            <a:gdLst>
              <a:gd name="textAreaLeft" fmla="*/ 39240 w 2895480"/>
              <a:gd name="textAreaRight" fmla="*/ 2856240 w 2895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2568" h="21600">
                <a:moveTo>
                  <a:pt x="0" y="0"/>
                </a:moveTo>
                <a:lnTo>
                  <a:pt x="102568" y="0"/>
                </a:lnTo>
                <a:lnTo>
                  <a:pt x="102568" y="21600"/>
                </a:lnTo>
                <a:lnTo>
                  <a:pt x="0" y="21600"/>
                </a:lnTo>
                <a:close/>
              </a:path>
              <a:path fill="lightenLess" w="102568" h="21600">
                <a:moveTo>
                  <a:pt x="0" y="0"/>
                </a:moveTo>
                <a:lnTo>
                  <a:pt x="102568" y="0"/>
                </a:lnTo>
                <a:lnTo>
                  <a:pt x="101168" y="1400"/>
                </a:lnTo>
                <a:lnTo>
                  <a:pt x="1400" y="1400"/>
                </a:lnTo>
                <a:close/>
              </a:path>
              <a:path fill="darken" w="102568" h="21600">
                <a:moveTo>
                  <a:pt x="102568" y="0"/>
                </a:moveTo>
                <a:lnTo>
                  <a:pt x="102568" y="21600"/>
                </a:lnTo>
                <a:lnTo>
                  <a:pt x="101168" y="20200"/>
                </a:lnTo>
                <a:lnTo>
                  <a:pt x="101168" y="1400"/>
                </a:lnTo>
                <a:close/>
              </a:path>
              <a:path fill="darkenLess" w="102568" h="21600">
                <a:moveTo>
                  <a:pt x="10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68" y="20200"/>
                </a:lnTo>
                <a:close/>
              </a:path>
              <a:path fill="lighten" w="10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Arial Unicode MS"/>
              </a:rPr>
              <a:t>Practice Inserting a Slide using the New Slide Icon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t qu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5840" y="1956960"/>
            <a:ext cx="77695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ook for an icon on the tool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12193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3" action="ppaction://hlinksldjump"/>
          </p:cNvPr>
          <p:cNvSpPr/>
          <p:nvPr/>
        </p:nvSpPr>
        <p:spPr>
          <a:xfrm>
            <a:off x="51055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 to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AG00051_" descr=""/>
          <p:cNvPicPr/>
          <p:nvPr/>
        </p:nvPicPr>
        <p:blipFill>
          <a:blip r:embed="rId4"/>
          <a:stretch/>
        </p:blipFill>
        <p:spPr>
          <a:xfrm>
            <a:off x="3352680" y="3854520"/>
            <a:ext cx="213372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068120" y="2052720"/>
            <a:ext cx="7769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member to click OK after you have chosen the type of slide you want to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754380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95280" y="838080"/>
            <a:ext cx="36576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od Job, but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1" name="AN01627_" descr=""/>
          <p:cNvPicPr/>
          <p:nvPr/>
        </p:nvPicPr>
        <p:blipFill>
          <a:blip r:embed="rId3"/>
          <a:stretch/>
        </p:blipFill>
        <p:spPr>
          <a:xfrm>
            <a:off x="3816360" y="3389400"/>
            <a:ext cx="25146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owerPoint Bas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s tutorial will help you navigate in PowerPoint and give you time to practice each skill before moving 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524560" y="44956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24" h="21600">
                <a:moveTo>
                  <a:pt x="22655" y="3794"/>
                </a:moveTo>
                <a:lnTo>
                  <a:pt x="36668" y="10800"/>
                </a:lnTo>
                <a:lnTo>
                  <a:pt x="2265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557856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19584_" descr=""/>
          <p:cNvPicPr/>
          <p:nvPr/>
        </p:nvPicPr>
        <p:blipFill>
          <a:blip r:embed="rId2"/>
          <a:stretch/>
        </p:blipFill>
        <p:spPr>
          <a:xfrm>
            <a:off x="3875040" y="3200400"/>
            <a:ext cx="13939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754380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AG00373_" descr=""/>
          <p:cNvPicPr/>
          <p:nvPr/>
        </p:nvPicPr>
        <p:blipFill>
          <a:blip r:embed="rId2"/>
          <a:stretch/>
        </p:blipFill>
        <p:spPr>
          <a:xfrm>
            <a:off x="3124080" y="4038480"/>
            <a:ext cx="2428920" cy="2335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981080" y="990720"/>
            <a:ext cx="4496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akerSignet"/>
              </a:rPr>
              <a:t>Grea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akerSignet"/>
              <a:ea typeface="BakerSign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Charact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ackgrounds and Design Templates add character to your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ackgrou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n be a solid color, a blend of colors, textures or  a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ext color is basic bl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ign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se colorful patterns for the back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ext color and bullets are dictated by the color scheme of the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AG00017_" descr=""/>
          <p:cNvPicPr/>
          <p:nvPr/>
        </p:nvPicPr>
        <p:blipFill>
          <a:blip r:embed="rId22"/>
          <a:stretch/>
        </p:blipFill>
        <p:spPr>
          <a:xfrm>
            <a:off x="7230960" y="380880"/>
            <a:ext cx="1532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Design Templat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72960" y="1767960"/>
            <a:ext cx="595152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rom the Format men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lect Apply Design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5181480" y="1523880"/>
            <a:ext cx="3276720" cy="218124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806940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5181480" y="3868560"/>
            <a:ext cx="3276720" cy="2103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72960" y="4038480"/>
            <a:ext cx="47167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template you want to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A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7848720" y="5457960"/>
            <a:ext cx="609480" cy="514080"/>
          </a:xfrm>
          <a:custGeom>
            <a:avLst/>
            <a:gdLst>
              <a:gd name="textAreaLeft" fmla="*/ 33120 w 609480"/>
              <a:gd name="textAreaRight" fmla="*/ 576360 w 609480"/>
              <a:gd name="textAreaTop" fmla="*/ 33120 h 514080"/>
              <a:gd name="textAreaBottom" fmla="*/ 480960 h 514080"/>
            </a:gdLst>
            <a:ahLst/>
            <a:rect l="textAreaLeft" t="textAreaTop" r="textAreaRight" b="textAreaBottom"/>
            <a:pathLst>
              <a:path w="25606" h="21600">
                <a:moveTo>
                  <a:pt x="0" y="0"/>
                </a:moveTo>
                <a:lnTo>
                  <a:pt x="25606" y="0"/>
                </a:lnTo>
                <a:lnTo>
                  <a:pt x="25606" y="21600"/>
                </a:lnTo>
                <a:lnTo>
                  <a:pt x="0" y="21600"/>
                </a:lnTo>
                <a:close/>
              </a:path>
              <a:path fill="lightenLess" w="25606" h="21600">
                <a:moveTo>
                  <a:pt x="0" y="0"/>
                </a:moveTo>
                <a:lnTo>
                  <a:pt x="25606" y="0"/>
                </a:lnTo>
                <a:lnTo>
                  <a:pt x="24206" y="1400"/>
                </a:lnTo>
                <a:lnTo>
                  <a:pt x="1400" y="1400"/>
                </a:lnTo>
                <a:close/>
              </a:path>
              <a:path fill="darken" w="25606" h="21600">
                <a:moveTo>
                  <a:pt x="25606" y="0"/>
                </a:moveTo>
                <a:lnTo>
                  <a:pt x="25606" y="21600"/>
                </a:lnTo>
                <a:lnTo>
                  <a:pt x="24206" y="20200"/>
                </a:lnTo>
                <a:lnTo>
                  <a:pt x="24206" y="1400"/>
                </a:lnTo>
                <a:close/>
              </a:path>
              <a:path fill="darkenLess" w="25606" h="21600">
                <a:moveTo>
                  <a:pt x="25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6" y="20200"/>
                </a:lnTo>
                <a:close/>
              </a:path>
              <a:path fill="lighten" w="25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1619280"/>
            <a:ext cx="9144000" cy="36684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1600200" y="1828800"/>
            <a:ext cx="380880" cy="15228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1219320" y="1619280"/>
            <a:ext cx="228600" cy="209520"/>
          </a:xfrm>
          <a:custGeom>
            <a:avLst/>
            <a:gdLst>
              <a:gd name="textAreaLeft" fmla="*/ 13320 w 228600"/>
              <a:gd name="textAreaRight" fmla="*/ 215280 w 228600"/>
              <a:gd name="textAreaTop" fmla="*/ 13320 h 209520"/>
              <a:gd name="textAreaBottom" fmla="*/ 196200 h 209520"/>
            </a:gdLst>
            <a:ahLst/>
            <a:rect l="textAreaLeft" t="textAreaTop" r="textAreaRight" b="textAreaBottom"/>
            <a:pathLst>
              <a:path w="23564" h="21600">
                <a:moveTo>
                  <a:pt x="0" y="0"/>
                </a:moveTo>
                <a:lnTo>
                  <a:pt x="23564" y="0"/>
                </a:lnTo>
                <a:lnTo>
                  <a:pt x="23564" y="21600"/>
                </a:lnTo>
                <a:lnTo>
                  <a:pt x="0" y="21600"/>
                </a:lnTo>
                <a:close/>
              </a:path>
              <a:path fill="lightenLess" w="23564" h="21600">
                <a:moveTo>
                  <a:pt x="0" y="0"/>
                </a:moveTo>
                <a:lnTo>
                  <a:pt x="23564" y="0"/>
                </a:lnTo>
                <a:lnTo>
                  <a:pt x="22164" y="1400"/>
                </a:lnTo>
                <a:lnTo>
                  <a:pt x="1400" y="1400"/>
                </a:lnTo>
                <a:close/>
              </a:path>
              <a:path fill="darken" w="23564" h="21600">
                <a:moveTo>
                  <a:pt x="23564" y="0"/>
                </a:moveTo>
                <a:lnTo>
                  <a:pt x="23564" y="21600"/>
                </a:lnTo>
                <a:lnTo>
                  <a:pt x="22164" y="20200"/>
                </a:lnTo>
                <a:lnTo>
                  <a:pt x="22164" y="1400"/>
                </a:lnTo>
                <a:close/>
              </a:path>
              <a:path fill="darkenLess" w="23564" h="21600">
                <a:moveTo>
                  <a:pt x="23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4" y="20200"/>
                </a:lnTo>
                <a:close/>
              </a:path>
              <a:path fill="lighten" w="23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4" action="ppaction://hlinksldjump"/>
          </p:cNvPr>
          <p:cNvSpPr/>
          <p:nvPr/>
        </p:nvSpPr>
        <p:spPr>
          <a:xfrm>
            <a:off x="1600200" y="1619280"/>
            <a:ext cx="7543800" cy="366840"/>
          </a:xfrm>
          <a:custGeom>
            <a:avLst/>
            <a:gdLst>
              <a:gd name="textAreaLeft" fmla="*/ 23760 w 7543800"/>
              <a:gd name="textAreaRight" fmla="*/ 7520040 w 75438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443774" h="21600">
                <a:moveTo>
                  <a:pt x="0" y="0"/>
                </a:moveTo>
                <a:lnTo>
                  <a:pt x="443774" y="0"/>
                </a:lnTo>
                <a:lnTo>
                  <a:pt x="443774" y="21600"/>
                </a:lnTo>
                <a:lnTo>
                  <a:pt x="0" y="21600"/>
                </a:lnTo>
                <a:close/>
              </a:path>
              <a:path fill="lightenLess" w="443774" h="21600">
                <a:moveTo>
                  <a:pt x="0" y="0"/>
                </a:moveTo>
                <a:lnTo>
                  <a:pt x="443774" y="0"/>
                </a:lnTo>
                <a:lnTo>
                  <a:pt x="442374" y="1400"/>
                </a:lnTo>
                <a:lnTo>
                  <a:pt x="1400" y="1400"/>
                </a:lnTo>
                <a:close/>
              </a:path>
              <a:path fill="darken" w="443774" h="21600">
                <a:moveTo>
                  <a:pt x="443774" y="0"/>
                </a:moveTo>
                <a:lnTo>
                  <a:pt x="443774" y="21600"/>
                </a:lnTo>
                <a:lnTo>
                  <a:pt x="442374" y="20200"/>
                </a:lnTo>
                <a:lnTo>
                  <a:pt x="442374" y="1400"/>
                </a:lnTo>
                <a:close/>
              </a:path>
              <a:path fill="darkenLess" w="443774" h="21600">
                <a:moveTo>
                  <a:pt x="443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374" y="20200"/>
                </a:lnTo>
                <a:close/>
              </a:path>
              <a:path fill="lighten" w="443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5" action="ppaction://hlinksldjump"/>
          </p:cNvPr>
          <p:cNvSpPr/>
          <p:nvPr/>
        </p:nvSpPr>
        <p:spPr>
          <a:xfrm>
            <a:off x="0" y="1619280"/>
            <a:ext cx="1219320" cy="366840"/>
          </a:xfrm>
          <a:custGeom>
            <a:avLst/>
            <a:gdLst>
              <a:gd name="textAreaLeft" fmla="*/ 23760 w 1219320"/>
              <a:gd name="textAreaRight" fmla="*/ 1195560 w 121932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71746" h="21600">
                <a:moveTo>
                  <a:pt x="0" y="0"/>
                </a:moveTo>
                <a:lnTo>
                  <a:pt x="71746" y="0"/>
                </a:lnTo>
                <a:lnTo>
                  <a:pt x="71746" y="21600"/>
                </a:lnTo>
                <a:lnTo>
                  <a:pt x="0" y="21600"/>
                </a:lnTo>
                <a:close/>
              </a:path>
              <a:path fill="lightenLess" w="71746" h="21600">
                <a:moveTo>
                  <a:pt x="0" y="0"/>
                </a:moveTo>
                <a:lnTo>
                  <a:pt x="71746" y="0"/>
                </a:lnTo>
                <a:lnTo>
                  <a:pt x="70346" y="1400"/>
                </a:lnTo>
                <a:lnTo>
                  <a:pt x="1400" y="1400"/>
                </a:lnTo>
                <a:close/>
              </a:path>
              <a:path fill="darken" w="71746" h="21600">
                <a:moveTo>
                  <a:pt x="71746" y="0"/>
                </a:moveTo>
                <a:lnTo>
                  <a:pt x="71746" y="21600"/>
                </a:lnTo>
                <a:lnTo>
                  <a:pt x="70346" y="20200"/>
                </a:lnTo>
                <a:lnTo>
                  <a:pt x="70346" y="1400"/>
                </a:lnTo>
                <a:close/>
              </a:path>
              <a:path fill="darkenLess" w="71746" h="21600">
                <a:moveTo>
                  <a:pt x="71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46" y="20200"/>
                </a:lnTo>
                <a:close/>
              </a:path>
              <a:path fill="lighten" w="71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Practice Applying a Design Temp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1619280"/>
            <a:ext cx="9144000" cy="36684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1600200" y="1828800"/>
            <a:ext cx="380880" cy="15228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143000" y="1600200"/>
            <a:ext cx="1417680" cy="228600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1143000" y="3352680"/>
            <a:ext cx="1447920" cy="152640"/>
          </a:xfrm>
          <a:custGeom>
            <a:avLst/>
            <a:gdLst>
              <a:gd name="textAreaLeft" fmla="*/ 9720 w 1447920"/>
              <a:gd name="textAreaRight" fmla="*/ 1438200 w 1447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4463" h="21600">
                <a:moveTo>
                  <a:pt x="0" y="0"/>
                </a:moveTo>
                <a:lnTo>
                  <a:pt x="204463" y="0"/>
                </a:lnTo>
                <a:lnTo>
                  <a:pt x="204463" y="21600"/>
                </a:lnTo>
                <a:lnTo>
                  <a:pt x="0" y="21600"/>
                </a:lnTo>
                <a:close/>
              </a:path>
              <a:path fill="lightenLess" w="204463" h="21600">
                <a:moveTo>
                  <a:pt x="0" y="0"/>
                </a:moveTo>
                <a:lnTo>
                  <a:pt x="204463" y="0"/>
                </a:lnTo>
                <a:lnTo>
                  <a:pt x="203063" y="1400"/>
                </a:lnTo>
                <a:lnTo>
                  <a:pt x="1400" y="1400"/>
                </a:lnTo>
                <a:close/>
              </a:path>
              <a:path fill="darken" w="204463" h="21600">
                <a:moveTo>
                  <a:pt x="204463" y="0"/>
                </a:moveTo>
                <a:lnTo>
                  <a:pt x="204463" y="21600"/>
                </a:lnTo>
                <a:lnTo>
                  <a:pt x="203063" y="20200"/>
                </a:lnTo>
                <a:lnTo>
                  <a:pt x="203063" y="1400"/>
                </a:lnTo>
                <a:close/>
              </a:path>
              <a:path fill="darkenLess" w="204463" h="21600">
                <a:moveTo>
                  <a:pt x="204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63" y="20200"/>
                </a:lnTo>
                <a:close/>
              </a:path>
              <a:path fill="lighten" w="204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4" action="ppaction://hlinksldjump"/>
          </p:cNvPr>
          <p:cNvSpPr/>
          <p:nvPr/>
        </p:nvSpPr>
        <p:spPr>
          <a:xfrm>
            <a:off x="1143000" y="3352680"/>
            <a:ext cx="1417680" cy="152640"/>
          </a:xfrm>
          <a:custGeom>
            <a:avLst/>
            <a:gdLst>
              <a:gd name="textAreaLeft" fmla="*/ 9720 w 1417680"/>
              <a:gd name="textAreaRight" fmla="*/ 1407960 w 14176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0194" h="21600">
                <a:moveTo>
                  <a:pt x="0" y="0"/>
                </a:moveTo>
                <a:lnTo>
                  <a:pt x="200194" y="0"/>
                </a:lnTo>
                <a:lnTo>
                  <a:pt x="200194" y="21600"/>
                </a:lnTo>
                <a:lnTo>
                  <a:pt x="0" y="21600"/>
                </a:lnTo>
                <a:close/>
              </a:path>
              <a:path fill="lightenLess" w="200194" h="21600">
                <a:moveTo>
                  <a:pt x="0" y="0"/>
                </a:moveTo>
                <a:lnTo>
                  <a:pt x="200194" y="0"/>
                </a:lnTo>
                <a:lnTo>
                  <a:pt x="198794" y="1400"/>
                </a:lnTo>
                <a:lnTo>
                  <a:pt x="1400" y="1400"/>
                </a:lnTo>
                <a:close/>
              </a:path>
              <a:path fill="darken" w="200194" h="21600">
                <a:moveTo>
                  <a:pt x="200194" y="0"/>
                </a:moveTo>
                <a:lnTo>
                  <a:pt x="200194" y="21600"/>
                </a:lnTo>
                <a:lnTo>
                  <a:pt x="198794" y="20200"/>
                </a:lnTo>
                <a:lnTo>
                  <a:pt x="198794" y="1400"/>
                </a:lnTo>
                <a:close/>
              </a:path>
              <a:path fill="darkenLess" w="200194" h="21600">
                <a:moveTo>
                  <a:pt x="20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794" y="20200"/>
                </a:lnTo>
                <a:close/>
              </a:path>
              <a:path fill="lighten" w="20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Practice Applying a Design Temp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1143000" y="3352680"/>
            <a:ext cx="1447920" cy="152640"/>
          </a:xfrm>
          <a:custGeom>
            <a:avLst/>
            <a:gdLst>
              <a:gd name="textAreaLeft" fmla="*/ 9720 w 1447920"/>
              <a:gd name="textAreaRight" fmla="*/ 1438200 w 1447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4463" h="21600">
                <a:moveTo>
                  <a:pt x="0" y="0"/>
                </a:moveTo>
                <a:lnTo>
                  <a:pt x="204463" y="0"/>
                </a:lnTo>
                <a:lnTo>
                  <a:pt x="204463" y="21600"/>
                </a:lnTo>
                <a:lnTo>
                  <a:pt x="0" y="21600"/>
                </a:lnTo>
                <a:close/>
              </a:path>
              <a:path fill="lightenLess" w="204463" h="21600">
                <a:moveTo>
                  <a:pt x="0" y="0"/>
                </a:moveTo>
                <a:lnTo>
                  <a:pt x="204463" y="0"/>
                </a:lnTo>
                <a:lnTo>
                  <a:pt x="203063" y="1400"/>
                </a:lnTo>
                <a:lnTo>
                  <a:pt x="1400" y="1400"/>
                </a:lnTo>
                <a:close/>
              </a:path>
              <a:path fill="darken" w="204463" h="21600">
                <a:moveTo>
                  <a:pt x="204463" y="0"/>
                </a:moveTo>
                <a:lnTo>
                  <a:pt x="204463" y="21600"/>
                </a:lnTo>
                <a:lnTo>
                  <a:pt x="203063" y="20200"/>
                </a:lnTo>
                <a:lnTo>
                  <a:pt x="203063" y="1400"/>
                </a:lnTo>
                <a:close/>
              </a:path>
              <a:path fill="darkenLess" w="204463" h="21600">
                <a:moveTo>
                  <a:pt x="204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63" y="20200"/>
                </a:lnTo>
                <a:close/>
              </a:path>
              <a:path fill="lighten" w="204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1143000" y="3352680"/>
            <a:ext cx="1417680" cy="152640"/>
          </a:xfrm>
          <a:custGeom>
            <a:avLst/>
            <a:gdLst>
              <a:gd name="textAreaLeft" fmla="*/ 9720 w 1417680"/>
              <a:gd name="textAreaRight" fmla="*/ 1407960 w 14176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0194" h="21600">
                <a:moveTo>
                  <a:pt x="0" y="0"/>
                </a:moveTo>
                <a:lnTo>
                  <a:pt x="200194" y="0"/>
                </a:lnTo>
                <a:lnTo>
                  <a:pt x="200194" y="21600"/>
                </a:lnTo>
                <a:lnTo>
                  <a:pt x="0" y="21600"/>
                </a:lnTo>
                <a:close/>
              </a:path>
              <a:path fill="lightenLess" w="200194" h="21600">
                <a:moveTo>
                  <a:pt x="0" y="0"/>
                </a:moveTo>
                <a:lnTo>
                  <a:pt x="200194" y="0"/>
                </a:lnTo>
                <a:lnTo>
                  <a:pt x="198794" y="1400"/>
                </a:lnTo>
                <a:lnTo>
                  <a:pt x="1400" y="1400"/>
                </a:lnTo>
                <a:close/>
              </a:path>
              <a:path fill="darken" w="200194" h="21600">
                <a:moveTo>
                  <a:pt x="200194" y="0"/>
                </a:moveTo>
                <a:lnTo>
                  <a:pt x="200194" y="21600"/>
                </a:lnTo>
                <a:lnTo>
                  <a:pt x="198794" y="20200"/>
                </a:lnTo>
                <a:lnTo>
                  <a:pt x="198794" y="1400"/>
                </a:lnTo>
                <a:close/>
              </a:path>
              <a:path fill="darkenLess" w="200194" h="21600">
                <a:moveTo>
                  <a:pt x="20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794" y="20200"/>
                </a:lnTo>
                <a:close/>
              </a:path>
              <a:path fill="lighten" w="20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719360" y="1595520"/>
            <a:ext cx="5705280" cy="3666960"/>
          </a:xfrm>
          <a:prstGeom prst="rect">
            <a:avLst/>
          </a:prstGeom>
          <a:ln w="0">
            <a:noFill/>
          </a:ln>
        </p:spPr>
      </p:pic>
      <p:sp>
        <p:nvSpPr>
          <p:cNvPr id="277" name="">
            <a:hlinkClick r:id="rId4" action="ppaction://hlinksldjump"/>
          </p:cNvPr>
          <p:cNvSpPr/>
          <p:nvPr/>
        </p:nvSpPr>
        <p:spPr>
          <a:xfrm>
            <a:off x="2590920" y="2057400"/>
            <a:ext cx="1143000" cy="266688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2666880"/>
              <a:gd name="textAreaBottom" fmla="*/ 2593080 h 2666880"/>
            </a:gdLst>
            <a:ahLst/>
            <a:rect l="textAreaLeft" t="textAreaTop" r="textAreaRight" b="textAreaBottom"/>
            <a:pathLst>
              <a:path w="21600" h="50389">
                <a:moveTo>
                  <a:pt x="0" y="0"/>
                </a:moveTo>
                <a:lnTo>
                  <a:pt x="21600" y="0"/>
                </a:lnTo>
                <a:lnTo>
                  <a:pt x="21600" y="50389"/>
                </a:lnTo>
                <a:lnTo>
                  <a:pt x="0" y="50389"/>
                </a:lnTo>
                <a:close/>
              </a:path>
              <a:path fill="lightenLess" w="21600" h="503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389">
                <a:moveTo>
                  <a:pt x="21600" y="0"/>
                </a:moveTo>
                <a:lnTo>
                  <a:pt x="21600" y="50389"/>
                </a:lnTo>
                <a:lnTo>
                  <a:pt x="20200" y="48989"/>
                </a:lnTo>
                <a:lnTo>
                  <a:pt x="20200" y="1400"/>
                </a:lnTo>
                <a:close/>
              </a:path>
              <a:path fill="darkenLess" w="21600" h="50389">
                <a:moveTo>
                  <a:pt x="21600" y="50389"/>
                </a:moveTo>
                <a:lnTo>
                  <a:pt x="0" y="50389"/>
                </a:lnTo>
                <a:lnTo>
                  <a:pt x="1400" y="48989"/>
                </a:lnTo>
                <a:lnTo>
                  <a:pt x="20200" y="48989"/>
                </a:lnTo>
                <a:close/>
              </a:path>
              <a:path fill="lighten" w="21600" h="50389">
                <a:moveTo>
                  <a:pt x="0" y="50389"/>
                </a:moveTo>
                <a:lnTo>
                  <a:pt x="0" y="0"/>
                </a:lnTo>
                <a:lnTo>
                  <a:pt x="1400" y="1400"/>
                </a:lnTo>
                <a:lnTo>
                  <a:pt x="1400" y="48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Practice Applying a Design Temp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1143000" y="3352680"/>
            <a:ext cx="1447920" cy="152640"/>
          </a:xfrm>
          <a:custGeom>
            <a:avLst/>
            <a:gdLst>
              <a:gd name="textAreaLeft" fmla="*/ 9720 w 1447920"/>
              <a:gd name="textAreaRight" fmla="*/ 1438200 w 1447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4463" h="21600">
                <a:moveTo>
                  <a:pt x="0" y="0"/>
                </a:moveTo>
                <a:lnTo>
                  <a:pt x="204463" y="0"/>
                </a:lnTo>
                <a:lnTo>
                  <a:pt x="204463" y="21600"/>
                </a:lnTo>
                <a:lnTo>
                  <a:pt x="0" y="21600"/>
                </a:lnTo>
                <a:close/>
              </a:path>
              <a:path fill="lightenLess" w="204463" h="21600">
                <a:moveTo>
                  <a:pt x="0" y="0"/>
                </a:moveTo>
                <a:lnTo>
                  <a:pt x="204463" y="0"/>
                </a:lnTo>
                <a:lnTo>
                  <a:pt x="203063" y="1400"/>
                </a:lnTo>
                <a:lnTo>
                  <a:pt x="1400" y="1400"/>
                </a:lnTo>
                <a:close/>
              </a:path>
              <a:path fill="darken" w="204463" h="21600">
                <a:moveTo>
                  <a:pt x="204463" y="0"/>
                </a:moveTo>
                <a:lnTo>
                  <a:pt x="204463" y="21600"/>
                </a:lnTo>
                <a:lnTo>
                  <a:pt x="203063" y="20200"/>
                </a:lnTo>
                <a:lnTo>
                  <a:pt x="203063" y="1400"/>
                </a:lnTo>
                <a:close/>
              </a:path>
              <a:path fill="darkenLess" w="204463" h="21600">
                <a:moveTo>
                  <a:pt x="204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63" y="20200"/>
                </a:lnTo>
                <a:close/>
              </a:path>
              <a:path fill="lighten" w="204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1143000" y="3352680"/>
            <a:ext cx="1417680" cy="152640"/>
          </a:xfrm>
          <a:custGeom>
            <a:avLst/>
            <a:gdLst>
              <a:gd name="textAreaLeft" fmla="*/ 9720 w 1417680"/>
              <a:gd name="textAreaRight" fmla="*/ 1407960 w 14176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0194" h="21600">
                <a:moveTo>
                  <a:pt x="0" y="0"/>
                </a:moveTo>
                <a:lnTo>
                  <a:pt x="200194" y="0"/>
                </a:lnTo>
                <a:lnTo>
                  <a:pt x="200194" y="21600"/>
                </a:lnTo>
                <a:lnTo>
                  <a:pt x="0" y="21600"/>
                </a:lnTo>
                <a:close/>
              </a:path>
              <a:path fill="lightenLess" w="200194" h="21600">
                <a:moveTo>
                  <a:pt x="0" y="0"/>
                </a:moveTo>
                <a:lnTo>
                  <a:pt x="200194" y="0"/>
                </a:lnTo>
                <a:lnTo>
                  <a:pt x="198794" y="1400"/>
                </a:lnTo>
                <a:lnTo>
                  <a:pt x="1400" y="1400"/>
                </a:lnTo>
                <a:close/>
              </a:path>
              <a:path fill="darken" w="200194" h="21600">
                <a:moveTo>
                  <a:pt x="200194" y="0"/>
                </a:moveTo>
                <a:lnTo>
                  <a:pt x="200194" y="21600"/>
                </a:lnTo>
                <a:lnTo>
                  <a:pt x="198794" y="20200"/>
                </a:lnTo>
                <a:lnTo>
                  <a:pt x="198794" y="1400"/>
                </a:lnTo>
                <a:close/>
              </a:path>
              <a:path fill="darkenLess" w="200194" h="21600">
                <a:moveTo>
                  <a:pt x="20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794" y="20200"/>
                </a:lnTo>
                <a:close/>
              </a:path>
              <a:path fill="lighten" w="20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1719360" y="1595520"/>
            <a:ext cx="5705280" cy="3666960"/>
          </a:xfrm>
          <a:prstGeom prst="rect">
            <a:avLst/>
          </a:prstGeom>
          <a:ln w="0">
            <a:noFill/>
          </a:ln>
        </p:spPr>
      </p:pic>
      <p:sp>
        <p:nvSpPr>
          <p:cNvPr id="283" name="">
            <a:hlinkClick r:id="rId4" action="ppaction://hlinksldjump"/>
          </p:cNvPr>
          <p:cNvSpPr/>
          <p:nvPr/>
        </p:nvSpPr>
        <p:spPr>
          <a:xfrm>
            <a:off x="6477120" y="4724280"/>
            <a:ext cx="947520" cy="228600"/>
          </a:xfrm>
          <a:custGeom>
            <a:avLst/>
            <a:gdLst>
              <a:gd name="textAreaLeft" fmla="*/ 14760 w 947520"/>
              <a:gd name="textAreaRight" fmla="*/ 932760 w 947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89423" h="21600">
                <a:moveTo>
                  <a:pt x="0" y="0"/>
                </a:moveTo>
                <a:lnTo>
                  <a:pt x="89423" y="0"/>
                </a:lnTo>
                <a:lnTo>
                  <a:pt x="89423" y="21600"/>
                </a:lnTo>
                <a:lnTo>
                  <a:pt x="0" y="21600"/>
                </a:lnTo>
                <a:close/>
              </a:path>
              <a:path fill="lightenLess" w="89423" h="21600">
                <a:moveTo>
                  <a:pt x="0" y="0"/>
                </a:moveTo>
                <a:lnTo>
                  <a:pt x="89423" y="0"/>
                </a:lnTo>
                <a:lnTo>
                  <a:pt x="88023" y="1400"/>
                </a:lnTo>
                <a:lnTo>
                  <a:pt x="1400" y="1400"/>
                </a:lnTo>
                <a:close/>
              </a:path>
              <a:path fill="darken" w="89423" h="21600">
                <a:moveTo>
                  <a:pt x="89423" y="0"/>
                </a:moveTo>
                <a:lnTo>
                  <a:pt x="89423" y="21600"/>
                </a:lnTo>
                <a:lnTo>
                  <a:pt x="88023" y="20200"/>
                </a:lnTo>
                <a:lnTo>
                  <a:pt x="88023" y="1400"/>
                </a:lnTo>
                <a:close/>
              </a:path>
              <a:path fill="darkenLess" w="89423" h="21600">
                <a:moveTo>
                  <a:pt x="89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23" y="20200"/>
                </a:lnTo>
                <a:close/>
              </a:path>
              <a:path fill="lighten" w="89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Practice Applying a Design Temp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t quite,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1640" y="2757600"/>
            <a:ext cx="776916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member, you want to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FORMAT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 new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12193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51055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 to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BD13727_" descr=""/>
          <p:cNvPicPr/>
          <p:nvPr/>
        </p:nvPicPr>
        <p:blipFill>
          <a:blip r:embed="rId4"/>
          <a:stretch/>
        </p:blipFill>
        <p:spPr>
          <a:xfrm>
            <a:off x="5105520" y="685800"/>
            <a:ext cx="222876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754380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1766880"/>
            <a:ext cx="7162920" cy="30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antastic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" action="ppaction://hlinksldjump"/>
              </a:rPr>
              <a:t>Making a New Slide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3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4" action="ppaction://hlinksldjump"/>
              </a:rPr>
              <a:t> </a:t>
            </a:r>
            <a:r>
              <a:rPr b="0" lang="en-US" sz="1300" spc="-1" strike="noStrike" u="sng">
                <a:solidFill>
                  <a:srgbClr val="d69b8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Slide Transition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Inserting Sound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Tables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Using Hyperlink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Setting up your Slide Show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More Template Choices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3059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19"/>
              </a:rPr>
              <a:t>http://www.presentersuniversity.com/index.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0"/>
              </a:rPr>
              <a:t>cfm</a:t>
            </a:r>
            <a:br>
              <a:rPr sz="1800"/>
            </a:b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2"/>
              </a:rPr>
              <a:t>http://www.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3"/>
              </a:rPr>
              <a:t>websiteestates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4"/>
              </a:rPr>
              <a:t>.com/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5"/>
              </a:rPr>
              <a:t>ppoint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6"/>
              </a:rPr>
              <a:t>.html</a:t>
            </a:r>
            <a:br>
              <a:rPr sz="1800"/>
            </a:b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8"/>
              </a:rPr>
              <a:t>http://www.graphicsland.com/powerpoint-templates.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9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31"/>
              </a:rPr>
              <a:t>http://officeupdate.microsoft.com/templategallery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33"/>
              </a:rPr>
              <a:t>http://www.brainybetty.com/bbo1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15238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links will allow you to  download other free templates to use in 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owerPoint Bas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3794"/>
                </a:moveTo>
                <a:lnTo>
                  <a:pt x="39368" y="10800"/>
                </a:lnTo>
                <a:lnTo>
                  <a:pt x="2535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7339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button will advance you to the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lastslide"/>
          </p:cNvPr>
          <p:cNvSpPr/>
          <p:nvPr/>
        </p:nvSpPr>
        <p:spPr>
          <a:xfrm>
            <a:off x="6705720" y="34290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35861" y="10800"/>
                </a:moveTo>
                <a:lnTo>
                  <a:pt x="25355" y="17806"/>
                </a:lnTo>
                <a:lnTo>
                  <a:pt x="25355" y="3794"/>
                </a:lnTo>
                <a:close/>
              </a:path>
              <a:path fill="darken" w="64724" h="21600">
                <a:moveTo>
                  <a:pt x="37706" y="3794"/>
                </a:moveTo>
                <a:lnTo>
                  <a:pt x="37706" y="17806"/>
                </a:lnTo>
                <a:lnTo>
                  <a:pt x="39368" y="17806"/>
                </a:lnTo>
                <a:lnTo>
                  <a:pt x="39368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809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button will take you to the las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73392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button will take you to the beginning of this tuto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2895480" y="342900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10800"/>
                </a:moveTo>
                <a:lnTo>
                  <a:pt x="42068" y="3794"/>
                </a:lnTo>
                <a:lnTo>
                  <a:pt x="42068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048280"/>
            <a:ext cx="5638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on any of these categories below to take you to that les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1066680" y="34290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49" h="21600">
                <a:moveTo>
                  <a:pt x="26176" y="10800"/>
                </a:moveTo>
                <a:lnTo>
                  <a:pt x="36681" y="3794"/>
                </a:lnTo>
                <a:lnTo>
                  <a:pt x="36681" y="17806"/>
                </a:lnTo>
                <a:close/>
              </a:path>
              <a:path fill="darken" w="59349" h="21600">
                <a:moveTo>
                  <a:pt x="22668" y="3794"/>
                </a:moveTo>
                <a:lnTo>
                  <a:pt x="24330" y="3794"/>
                </a:lnTo>
                <a:lnTo>
                  <a:pt x="24330" y="17806"/>
                </a:lnTo>
                <a:lnTo>
                  <a:pt x="22668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60199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Making a New Slide   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Applying Backgrounds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Slide Transitions 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Inserting Pictures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Inserting Sounds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Inserting Table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Using Hyperlinks   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Moving your slides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 Setting up your Slide Show   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Kiosk Mode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3733920"/>
            <a:ext cx="1143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button will take you to the previous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828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4720" y="2514600"/>
            <a:ext cx="59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re are your navigation options for this tu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e are going to FORMAT the background so click on Format/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Backgroun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2514600" y="3276720"/>
            <a:ext cx="3552840" cy="19144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4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3886200" y="4267080"/>
            <a:ext cx="1752480" cy="228600"/>
          </a:xfrm>
          <a:custGeom>
            <a:avLst/>
            <a:gdLst>
              <a:gd name="textAreaLeft" fmla="*/ 14760 w 1752480"/>
              <a:gd name="textAreaRight" fmla="*/ 1737720 w 1752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65362" h="21600">
                <a:moveTo>
                  <a:pt x="0" y="0"/>
                </a:moveTo>
                <a:lnTo>
                  <a:pt x="165362" y="0"/>
                </a:lnTo>
                <a:lnTo>
                  <a:pt x="165362" y="21600"/>
                </a:lnTo>
                <a:lnTo>
                  <a:pt x="0" y="21600"/>
                </a:lnTo>
                <a:close/>
              </a:path>
              <a:path fill="lightenLess" w="165362" h="21600">
                <a:moveTo>
                  <a:pt x="0" y="0"/>
                </a:moveTo>
                <a:lnTo>
                  <a:pt x="165362" y="0"/>
                </a:lnTo>
                <a:lnTo>
                  <a:pt x="163962" y="1400"/>
                </a:lnTo>
                <a:lnTo>
                  <a:pt x="1400" y="1400"/>
                </a:lnTo>
                <a:close/>
              </a:path>
              <a:path fill="darken" w="165362" h="21600">
                <a:moveTo>
                  <a:pt x="165362" y="0"/>
                </a:moveTo>
                <a:lnTo>
                  <a:pt x="165362" y="21600"/>
                </a:lnTo>
                <a:lnTo>
                  <a:pt x="163962" y="20200"/>
                </a:lnTo>
                <a:lnTo>
                  <a:pt x="163962" y="1400"/>
                </a:lnTo>
                <a:close/>
              </a:path>
              <a:path fill="darkenLess" w="165362" h="21600">
                <a:moveTo>
                  <a:pt x="165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962" y="20200"/>
                </a:lnTo>
                <a:close/>
              </a:path>
              <a:path fill="lighten" w="165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j0285248" descr=""/>
          <p:cNvPicPr/>
          <p:nvPr/>
        </p:nvPicPr>
        <p:blipFill>
          <a:blip r:embed="rId21"/>
          <a:stretch/>
        </p:blipFill>
        <p:spPr>
          <a:xfrm>
            <a:off x="6594480" y="380880"/>
            <a:ext cx="1692360" cy="1235160"/>
          </a:xfrm>
          <a:prstGeom prst="rect">
            <a:avLst/>
          </a:prstGeom>
          <a:ln w="0">
            <a:noFill/>
          </a:ln>
        </p:spPr>
      </p:pic>
      <p:pic>
        <p:nvPicPr>
          <p:cNvPr id="315" name="j0282866" descr=""/>
          <p:cNvPicPr/>
          <p:nvPr/>
        </p:nvPicPr>
        <p:blipFill>
          <a:blip r:embed="rId22"/>
          <a:stretch/>
        </p:blipFill>
        <p:spPr>
          <a:xfrm>
            <a:off x="228600" y="4267080"/>
            <a:ext cx="202248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0" y="1619280"/>
            <a:ext cx="914400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Practice Formatting a Background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1600200" y="1828800"/>
            <a:ext cx="380880" cy="15228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rId3" action="ppaction://hlinksldjump"/>
          </p:cNvPr>
          <p:cNvSpPr/>
          <p:nvPr/>
        </p:nvSpPr>
        <p:spPr>
          <a:xfrm>
            <a:off x="1066680" y="1619280"/>
            <a:ext cx="381240" cy="209520"/>
          </a:xfrm>
          <a:custGeom>
            <a:avLst/>
            <a:gdLst>
              <a:gd name="textAreaLeft" fmla="*/ 13320 w 381240"/>
              <a:gd name="textAreaRight" fmla="*/ 367920 w 381240"/>
              <a:gd name="textAreaTop" fmla="*/ 13320 h 209520"/>
              <a:gd name="textAreaBottom" fmla="*/ 196200 h 209520"/>
            </a:gdLst>
            <a:ahLst/>
            <a:rect l="textAreaLeft" t="textAreaTop" r="textAreaRight" b="textAreaBottom"/>
            <a:pathLst>
              <a:path w="39273" h="21600">
                <a:moveTo>
                  <a:pt x="0" y="0"/>
                </a:moveTo>
                <a:lnTo>
                  <a:pt x="39273" y="0"/>
                </a:lnTo>
                <a:lnTo>
                  <a:pt x="39273" y="21600"/>
                </a:lnTo>
                <a:lnTo>
                  <a:pt x="0" y="21600"/>
                </a:lnTo>
                <a:close/>
              </a:path>
              <a:path fill="lightenLess" w="39273" h="21600">
                <a:moveTo>
                  <a:pt x="0" y="0"/>
                </a:moveTo>
                <a:lnTo>
                  <a:pt x="39273" y="0"/>
                </a:lnTo>
                <a:lnTo>
                  <a:pt x="37873" y="1400"/>
                </a:lnTo>
                <a:lnTo>
                  <a:pt x="1400" y="1400"/>
                </a:lnTo>
                <a:close/>
              </a:path>
              <a:path fill="darken" w="39273" h="21600">
                <a:moveTo>
                  <a:pt x="39273" y="0"/>
                </a:moveTo>
                <a:lnTo>
                  <a:pt x="39273" y="21600"/>
                </a:lnTo>
                <a:lnTo>
                  <a:pt x="37873" y="20200"/>
                </a:lnTo>
                <a:lnTo>
                  <a:pt x="37873" y="1400"/>
                </a:lnTo>
                <a:close/>
              </a:path>
              <a:path fill="darkenLess" w="39273" h="21600">
                <a:moveTo>
                  <a:pt x="39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73" y="20200"/>
                </a:lnTo>
                <a:close/>
              </a:path>
              <a:path fill="lighten" w="39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1447920" y="1619280"/>
            <a:ext cx="7696080" cy="209520"/>
          </a:xfrm>
          <a:custGeom>
            <a:avLst/>
            <a:gdLst>
              <a:gd name="textAreaLeft" fmla="*/ 13320 w 7696080"/>
              <a:gd name="textAreaRight" fmla="*/ 7682760 w 7696080"/>
              <a:gd name="textAreaTop" fmla="*/ 13320 h 209520"/>
              <a:gd name="textAreaBottom" fmla="*/ 196200 h 209520"/>
            </a:gdLst>
            <a:ahLst/>
            <a:rect l="textAreaLeft" t="textAreaTop" r="textAreaRight" b="textAreaBottom"/>
            <a:pathLst>
              <a:path w="792086" h="21600">
                <a:moveTo>
                  <a:pt x="0" y="0"/>
                </a:moveTo>
                <a:lnTo>
                  <a:pt x="792086" y="0"/>
                </a:lnTo>
                <a:lnTo>
                  <a:pt x="792086" y="21600"/>
                </a:lnTo>
                <a:lnTo>
                  <a:pt x="0" y="21600"/>
                </a:lnTo>
                <a:close/>
              </a:path>
              <a:path fill="lightenLess" w="792086" h="21600">
                <a:moveTo>
                  <a:pt x="0" y="0"/>
                </a:moveTo>
                <a:lnTo>
                  <a:pt x="792086" y="0"/>
                </a:lnTo>
                <a:lnTo>
                  <a:pt x="790687" y="1400"/>
                </a:lnTo>
                <a:lnTo>
                  <a:pt x="1400" y="1400"/>
                </a:lnTo>
                <a:close/>
              </a:path>
              <a:path fill="darken" w="792086" h="21600">
                <a:moveTo>
                  <a:pt x="792086" y="0"/>
                </a:moveTo>
                <a:lnTo>
                  <a:pt x="792086" y="21600"/>
                </a:lnTo>
                <a:lnTo>
                  <a:pt x="790687" y="20200"/>
                </a:lnTo>
                <a:lnTo>
                  <a:pt x="790687" y="1400"/>
                </a:lnTo>
                <a:close/>
              </a:path>
              <a:path fill="darkenLess" w="792086" h="21600">
                <a:moveTo>
                  <a:pt x="792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687" y="20200"/>
                </a:lnTo>
                <a:close/>
              </a:path>
              <a:path fill="lighten" w="792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0" y="1619280"/>
            <a:ext cx="914400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600200" y="1828800"/>
            <a:ext cx="380880" cy="15228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1066680" y="1619280"/>
            <a:ext cx="381240" cy="209520"/>
          </a:xfrm>
          <a:custGeom>
            <a:avLst/>
            <a:gdLst>
              <a:gd name="textAreaLeft" fmla="*/ 13320 w 381240"/>
              <a:gd name="textAreaRight" fmla="*/ 367920 w 381240"/>
              <a:gd name="textAreaTop" fmla="*/ 13320 h 209520"/>
              <a:gd name="textAreaBottom" fmla="*/ 196200 h 209520"/>
            </a:gdLst>
            <a:ahLst/>
            <a:rect l="textAreaLeft" t="textAreaTop" r="textAreaRight" b="textAreaBottom"/>
            <a:pathLst>
              <a:path w="39273" h="21600">
                <a:moveTo>
                  <a:pt x="0" y="0"/>
                </a:moveTo>
                <a:lnTo>
                  <a:pt x="39273" y="0"/>
                </a:lnTo>
                <a:lnTo>
                  <a:pt x="39273" y="21600"/>
                </a:lnTo>
                <a:lnTo>
                  <a:pt x="0" y="21600"/>
                </a:lnTo>
                <a:close/>
              </a:path>
              <a:path fill="lightenLess" w="39273" h="21600">
                <a:moveTo>
                  <a:pt x="0" y="0"/>
                </a:moveTo>
                <a:lnTo>
                  <a:pt x="39273" y="0"/>
                </a:lnTo>
                <a:lnTo>
                  <a:pt x="37873" y="1400"/>
                </a:lnTo>
                <a:lnTo>
                  <a:pt x="1400" y="1400"/>
                </a:lnTo>
                <a:close/>
              </a:path>
              <a:path fill="darken" w="39273" h="21600">
                <a:moveTo>
                  <a:pt x="39273" y="0"/>
                </a:moveTo>
                <a:lnTo>
                  <a:pt x="39273" y="21600"/>
                </a:lnTo>
                <a:lnTo>
                  <a:pt x="37873" y="20200"/>
                </a:lnTo>
                <a:lnTo>
                  <a:pt x="37873" y="1400"/>
                </a:lnTo>
                <a:close/>
              </a:path>
              <a:path fill="darkenLess" w="39273" h="21600">
                <a:moveTo>
                  <a:pt x="39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73" y="20200"/>
                </a:lnTo>
                <a:close/>
              </a:path>
              <a:path fill="lighten" w="39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1447920" y="1619280"/>
            <a:ext cx="7696080" cy="209520"/>
          </a:xfrm>
          <a:custGeom>
            <a:avLst/>
            <a:gdLst>
              <a:gd name="textAreaLeft" fmla="*/ 13320 w 7696080"/>
              <a:gd name="textAreaRight" fmla="*/ 7682760 w 7696080"/>
              <a:gd name="textAreaTop" fmla="*/ 13320 h 209520"/>
              <a:gd name="textAreaBottom" fmla="*/ 196200 h 209520"/>
            </a:gdLst>
            <a:ahLst/>
            <a:rect l="textAreaLeft" t="textAreaTop" r="textAreaRight" b="textAreaBottom"/>
            <a:pathLst>
              <a:path w="792086" h="21600">
                <a:moveTo>
                  <a:pt x="0" y="0"/>
                </a:moveTo>
                <a:lnTo>
                  <a:pt x="792086" y="0"/>
                </a:lnTo>
                <a:lnTo>
                  <a:pt x="792086" y="21600"/>
                </a:lnTo>
                <a:lnTo>
                  <a:pt x="0" y="21600"/>
                </a:lnTo>
                <a:close/>
              </a:path>
              <a:path fill="lightenLess" w="792086" h="21600">
                <a:moveTo>
                  <a:pt x="0" y="0"/>
                </a:moveTo>
                <a:lnTo>
                  <a:pt x="792086" y="0"/>
                </a:lnTo>
                <a:lnTo>
                  <a:pt x="790687" y="1400"/>
                </a:lnTo>
                <a:lnTo>
                  <a:pt x="1400" y="1400"/>
                </a:lnTo>
                <a:close/>
              </a:path>
              <a:path fill="darken" w="792086" h="21600">
                <a:moveTo>
                  <a:pt x="792086" y="0"/>
                </a:moveTo>
                <a:lnTo>
                  <a:pt x="792086" y="21600"/>
                </a:lnTo>
                <a:lnTo>
                  <a:pt x="790687" y="20200"/>
                </a:lnTo>
                <a:lnTo>
                  <a:pt x="790687" y="1400"/>
                </a:lnTo>
                <a:close/>
              </a:path>
              <a:path fill="darkenLess" w="792086" h="21600">
                <a:moveTo>
                  <a:pt x="792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687" y="20200"/>
                </a:lnTo>
                <a:close/>
              </a:path>
              <a:path fill="lighten" w="792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171440" y="1766880"/>
            <a:ext cx="1619280" cy="1514520"/>
          </a:xfrm>
          <a:prstGeom prst="rect">
            <a:avLst/>
          </a:prstGeom>
          <a:ln w="0">
            <a:noFill/>
          </a:ln>
        </p:spPr>
      </p:pic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1171440" y="1766880"/>
            <a:ext cx="1619280" cy="214200"/>
          </a:xfrm>
          <a:custGeom>
            <a:avLst/>
            <a:gdLst>
              <a:gd name="textAreaLeft" fmla="*/ 13680 w 1619280"/>
              <a:gd name="textAreaRight" fmla="*/ 1605600 w 16192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163051" h="21600">
                <a:moveTo>
                  <a:pt x="0" y="0"/>
                </a:moveTo>
                <a:lnTo>
                  <a:pt x="163051" y="0"/>
                </a:lnTo>
                <a:lnTo>
                  <a:pt x="163051" y="21600"/>
                </a:lnTo>
                <a:lnTo>
                  <a:pt x="0" y="21600"/>
                </a:lnTo>
                <a:close/>
              </a:path>
              <a:path fill="lightenLess" w="163051" h="21600">
                <a:moveTo>
                  <a:pt x="0" y="0"/>
                </a:moveTo>
                <a:lnTo>
                  <a:pt x="163051" y="0"/>
                </a:lnTo>
                <a:lnTo>
                  <a:pt x="161651" y="1400"/>
                </a:lnTo>
                <a:lnTo>
                  <a:pt x="1400" y="1400"/>
                </a:lnTo>
                <a:close/>
              </a:path>
              <a:path fill="darken" w="163051" h="21600">
                <a:moveTo>
                  <a:pt x="163051" y="0"/>
                </a:moveTo>
                <a:lnTo>
                  <a:pt x="163051" y="21600"/>
                </a:lnTo>
                <a:lnTo>
                  <a:pt x="161651" y="20200"/>
                </a:lnTo>
                <a:lnTo>
                  <a:pt x="161651" y="1400"/>
                </a:lnTo>
                <a:close/>
              </a:path>
              <a:path fill="darkenLess" w="163051" h="21600">
                <a:moveTo>
                  <a:pt x="163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651" y="20200"/>
                </a:lnTo>
                <a:close/>
              </a:path>
              <a:path fill="lighten" w="163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6" action="ppaction://hlinksldjump"/>
          </p:cNvPr>
          <p:cNvSpPr/>
          <p:nvPr/>
        </p:nvSpPr>
        <p:spPr>
          <a:xfrm>
            <a:off x="1171440" y="2362320"/>
            <a:ext cx="1619280" cy="304560"/>
          </a:xfrm>
          <a:custGeom>
            <a:avLst/>
            <a:gdLst>
              <a:gd name="textAreaLeft" fmla="*/ 19440 w 1619280"/>
              <a:gd name="textAreaRight" fmla="*/ 1599840 w 1619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14732" h="21600">
                <a:moveTo>
                  <a:pt x="0" y="0"/>
                </a:moveTo>
                <a:lnTo>
                  <a:pt x="114732" y="0"/>
                </a:lnTo>
                <a:lnTo>
                  <a:pt x="114732" y="21600"/>
                </a:lnTo>
                <a:lnTo>
                  <a:pt x="0" y="21600"/>
                </a:lnTo>
                <a:close/>
              </a:path>
              <a:path fill="lightenLess" w="114732" h="21600">
                <a:moveTo>
                  <a:pt x="0" y="0"/>
                </a:moveTo>
                <a:lnTo>
                  <a:pt x="114732" y="0"/>
                </a:lnTo>
                <a:lnTo>
                  <a:pt x="113333" y="1400"/>
                </a:lnTo>
                <a:lnTo>
                  <a:pt x="1400" y="1400"/>
                </a:lnTo>
                <a:close/>
              </a:path>
              <a:path fill="darken" w="114732" h="21600">
                <a:moveTo>
                  <a:pt x="114732" y="0"/>
                </a:moveTo>
                <a:lnTo>
                  <a:pt x="114732" y="21600"/>
                </a:lnTo>
                <a:lnTo>
                  <a:pt x="113333" y="20200"/>
                </a:lnTo>
                <a:lnTo>
                  <a:pt x="113333" y="1400"/>
                </a:lnTo>
                <a:close/>
              </a:path>
              <a:path fill="darkenLess" w="114732" h="21600">
                <a:moveTo>
                  <a:pt x="11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333" y="20200"/>
                </a:lnTo>
                <a:close/>
              </a:path>
              <a:path fill="lighten" w="11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3808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actice Formatting a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w you got the hang of it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754380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E01545_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46022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41320" y="622440"/>
            <a:ext cx="4572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your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Backgrou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457200"/>
            <a:ext cx="2133720" cy="1971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2593440"/>
            <a:ext cx="7769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the down arrow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oose your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175248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4" action="ppaction://hlinksldjump"/>
          </p:cNvPr>
          <p:cNvSpPr/>
          <p:nvPr/>
        </p:nvSpPr>
        <p:spPr>
          <a:xfrm>
            <a:off x="6629400" y="1752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41320" y="622440"/>
            <a:ext cx="4572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your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Backgrou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5638680" y="457200"/>
            <a:ext cx="2133720" cy="19717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4647960"/>
            <a:ext cx="86108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3. Click on Fill Effects for more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791320" y="2057400"/>
            <a:ext cx="1447560" cy="1266840"/>
          </a:xfrm>
          <a:prstGeom prst="rect">
            <a:avLst/>
          </a:prstGeom>
          <a:ln w="0">
            <a:noFill/>
          </a:ln>
        </p:spPr>
      </p:pic>
      <p:sp>
        <p:nvSpPr>
          <p:cNvPr id="348" name="">
            <a:hlinkClick r:id="rId3" action="ppaction://hlinksldjump"/>
          </p:cNvPr>
          <p:cNvSpPr/>
          <p:nvPr/>
        </p:nvSpPr>
        <p:spPr>
          <a:xfrm>
            <a:off x="5791320" y="3095640"/>
            <a:ext cx="1447560" cy="228600"/>
          </a:xfrm>
          <a:custGeom>
            <a:avLst/>
            <a:gdLst>
              <a:gd name="textAreaLeft" fmla="*/ 14760 w 1447560"/>
              <a:gd name="textAreaRight" fmla="*/ 1432800 w 1447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6596" h="21600">
                <a:moveTo>
                  <a:pt x="0" y="0"/>
                </a:moveTo>
                <a:lnTo>
                  <a:pt x="136596" y="0"/>
                </a:lnTo>
                <a:lnTo>
                  <a:pt x="136596" y="21600"/>
                </a:lnTo>
                <a:lnTo>
                  <a:pt x="0" y="21600"/>
                </a:lnTo>
                <a:close/>
              </a:path>
              <a:path fill="lightenLess" w="136596" h="21600">
                <a:moveTo>
                  <a:pt x="0" y="0"/>
                </a:moveTo>
                <a:lnTo>
                  <a:pt x="136596" y="0"/>
                </a:lnTo>
                <a:lnTo>
                  <a:pt x="135196" y="1400"/>
                </a:lnTo>
                <a:lnTo>
                  <a:pt x="1400" y="1400"/>
                </a:lnTo>
                <a:close/>
              </a:path>
              <a:path fill="darken" w="136596" h="21600">
                <a:moveTo>
                  <a:pt x="136596" y="0"/>
                </a:moveTo>
                <a:lnTo>
                  <a:pt x="136596" y="21600"/>
                </a:lnTo>
                <a:lnTo>
                  <a:pt x="135196" y="20200"/>
                </a:lnTo>
                <a:lnTo>
                  <a:pt x="135196" y="1400"/>
                </a:lnTo>
                <a:close/>
              </a:path>
              <a:path fill="darkenLess" w="136596" h="21600">
                <a:moveTo>
                  <a:pt x="136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96" y="20200"/>
                </a:lnTo>
                <a:close/>
              </a:path>
              <a:path fill="lighten" w="136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4" action="ppaction://hlinksldjump"/>
          </p:cNvPr>
          <p:cNvSpPr/>
          <p:nvPr/>
        </p:nvSpPr>
        <p:spPr>
          <a:xfrm>
            <a:off x="5791320" y="3124080"/>
            <a:ext cx="1447560" cy="200160"/>
          </a:xfrm>
          <a:custGeom>
            <a:avLst/>
            <a:gdLst>
              <a:gd name="textAreaLeft" fmla="*/ 12960 w 1447560"/>
              <a:gd name="textAreaRight" fmla="*/ 1434600 w 1447560"/>
              <a:gd name="textAreaTop" fmla="*/ 12960 h 200160"/>
              <a:gd name="textAreaBottom" fmla="*/ 187200 h 200160"/>
            </a:gdLst>
            <a:ahLst/>
            <a:rect l="textAreaLeft" t="textAreaTop" r="textAreaRight" b="textAreaBottom"/>
            <a:pathLst>
              <a:path w="155970" h="21600">
                <a:moveTo>
                  <a:pt x="0" y="0"/>
                </a:moveTo>
                <a:lnTo>
                  <a:pt x="155970" y="0"/>
                </a:lnTo>
                <a:lnTo>
                  <a:pt x="155970" y="21600"/>
                </a:lnTo>
                <a:lnTo>
                  <a:pt x="0" y="21600"/>
                </a:lnTo>
                <a:close/>
              </a:path>
              <a:path fill="lightenLess" w="155970" h="21600">
                <a:moveTo>
                  <a:pt x="0" y="0"/>
                </a:moveTo>
                <a:lnTo>
                  <a:pt x="155970" y="0"/>
                </a:lnTo>
                <a:lnTo>
                  <a:pt x="154570" y="1400"/>
                </a:lnTo>
                <a:lnTo>
                  <a:pt x="1400" y="1400"/>
                </a:lnTo>
                <a:close/>
              </a:path>
              <a:path fill="darken" w="155970" h="21600">
                <a:moveTo>
                  <a:pt x="155970" y="0"/>
                </a:moveTo>
                <a:lnTo>
                  <a:pt x="155970" y="21600"/>
                </a:lnTo>
                <a:lnTo>
                  <a:pt x="154570" y="20200"/>
                </a:lnTo>
                <a:lnTo>
                  <a:pt x="154570" y="1400"/>
                </a:lnTo>
                <a:close/>
              </a:path>
              <a:path fill="darkenLess" w="155970" h="21600">
                <a:moveTo>
                  <a:pt x="15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570" y="20200"/>
                </a:lnTo>
                <a:close/>
              </a:path>
              <a:path fill="lighten" w="15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2286000"/>
            <a:ext cx="1600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819520"/>
            <a:ext cx="1600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91320" y="3095640"/>
            <a:ext cx="1600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rId5" action="ppaction://hlinksldjump"/>
          </p:cNvPr>
          <p:cNvSpPr/>
          <p:nvPr/>
        </p:nvSpPr>
        <p:spPr>
          <a:xfrm>
            <a:off x="5791320" y="2286000"/>
            <a:ext cx="1447560" cy="38088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35" h="21600">
                <a:moveTo>
                  <a:pt x="0" y="0"/>
                </a:moveTo>
                <a:lnTo>
                  <a:pt x="82035" y="0"/>
                </a:lnTo>
                <a:lnTo>
                  <a:pt x="82035" y="21600"/>
                </a:lnTo>
                <a:lnTo>
                  <a:pt x="0" y="21600"/>
                </a:lnTo>
                <a:close/>
              </a:path>
              <a:path fill="lightenLess" w="82035" h="21600">
                <a:moveTo>
                  <a:pt x="0" y="0"/>
                </a:moveTo>
                <a:lnTo>
                  <a:pt x="82035" y="0"/>
                </a:lnTo>
                <a:lnTo>
                  <a:pt x="80635" y="1400"/>
                </a:lnTo>
                <a:lnTo>
                  <a:pt x="1400" y="1400"/>
                </a:lnTo>
                <a:close/>
              </a:path>
              <a:path fill="darken" w="82035" h="21600">
                <a:moveTo>
                  <a:pt x="82035" y="0"/>
                </a:moveTo>
                <a:lnTo>
                  <a:pt x="82035" y="21600"/>
                </a:lnTo>
                <a:lnTo>
                  <a:pt x="80635" y="20200"/>
                </a:lnTo>
                <a:lnTo>
                  <a:pt x="80635" y="1400"/>
                </a:lnTo>
                <a:close/>
              </a:path>
              <a:path fill="darkenLess" w="82035" h="21600">
                <a:moveTo>
                  <a:pt x="82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35" y="20200"/>
                </a:lnTo>
                <a:close/>
              </a:path>
              <a:path fill="lighten" w="82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534816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hlinkClick r:id="rId6" action="ppaction://hlinksldjump"/>
              </a:rPr>
              <a:t>Click here when you have tried all three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7" action="ppaction://hlinksldjump"/>
          </p:cNvPr>
          <p:cNvSpPr/>
          <p:nvPr/>
        </p:nvSpPr>
        <p:spPr>
          <a:xfrm>
            <a:off x="5791320" y="2819520"/>
            <a:ext cx="1447560" cy="304560"/>
          </a:xfrm>
          <a:custGeom>
            <a:avLst/>
            <a:gdLst>
              <a:gd name="textAreaLeft" fmla="*/ 19440 w 1447560"/>
              <a:gd name="textAreaRight" fmla="*/ 1428120 w 1447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02568" h="21600">
                <a:moveTo>
                  <a:pt x="0" y="0"/>
                </a:moveTo>
                <a:lnTo>
                  <a:pt x="102568" y="0"/>
                </a:lnTo>
                <a:lnTo>
                  <a:pt x="102568" y="21600"/>
                </a:lnTo>
                <a:lnTo>
                  <a:pt x="0" y="21600"/>
                </a:lnTo>
                <a:close/>
              </a:path>
              <a:path fill="lightenLess" w="102568" h="21600">
                <a:moveTo>
                  <a:pt x="0" y="0"/>
                </a:moveTo>
                <a:lnTo>
                  <a:pt x="102568" y="0"/>
                </a:lnTo>
                <a:lnTo>
                  <a:pt x="101168" y="1400"/>
                </a:lnTo>
                <a:lnTo>
                  <a:pt x="1400" y="1400"/>
                </a:lnTo>
                <a:close/>
              </a:path>
              <a:path fill="darken" w="102568" h="21600">
                <a:moveTo>
                  <a:pt x="102568" y="0"/>
                </a:moveTo>
                <a:lnTo>
                  <a:pt x="102568" y="21600"/>
                </a:lnTo>
                <a:lnTo>
                  <a:pt x="101168" y="20200"/>
                </a:lnTo>
                <a:lnTo>
                  <a:pt x="101168" y="1400"/>
                </a:lnTo>
                <a:close/>
              </a:path>
              <a:path fill="darkenLess" w="102568" h="21600">
                <a:moveTo>
                  <a:pt x="10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68" y="20200"/>
                </a:lnTo>
                <a:close/>
              </a:path>
              <a:path fill="lighten" w="10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3489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on a color from your color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068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on More Colors to choose a different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4289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hese 3 o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3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4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olor Sche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se are preset colors from the template that you have chosen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lors that you have already used in your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3" action="ppaction://hlinksldjump"/>
          </p:cNvPr>
          <p:cNvSpPr/>
          <p:nvPr/>
        </p:nvSpPr>
        <p:spPr>
          <a:xfrm>
            <a:off x="5791320" y="5029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AG00042_" descr=""/>
          <p:cNvPicPr/>
          <p:nvPr/>
        </p:nvPicPr>
        <p:blipFill>
          <a:blip r:embed="rId4"/>
          <a:stretch/>
        </p:blipFill>
        <p:spPr>
          <a:xfrm>
            <a:off x="3095640" y="4578480"/>
            <a:ext cx="147492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019840" y="1805040"/>
            <a:ext cx="3133440" cy="32479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olor Choi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746748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766520"/>
            <a:ext cx="45720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oose a color from the Standard ta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the Custom  Tab to get even more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5" action="ppaction://hlinksldjump"/>
          </p:cNvPr>
          <p:cNvSpPr/>
          <p:nvPr/>
        </p:nvSpPr>
        <p:spPr>
          <a:xfrm>
            <a:off x="5638680" y="2133720"/>
            <a:ext cx="609840" cy="152280"/>
          </a:xfrm>
          <a:custGeom>
            <a:avLst/>
            <a:gdLst>
              <a:gd name="textAreaLeft" fmla="*/ 9720 w 609840"/>
              <a:gd name="textAreaRight" fmla="*/ 600120 w 6098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86349" h="21600">
                <a:moveTo>
                  <a:pt x="0" y="0"/>
                </a:moveTo>
                <a:lnTo>
                  <a:pt x="86349" y="0"/>
                </a:lnTo>
                <a:lnTo>
                  <a:pt x="86349" y="21600"/>
                </a:lnTo>
                <a:lnTo>
                  <a:pt x="0" y="21600"/>
                </a:lnTo>
                <a:close/>
              </a:path>
              <a:path fill="lightenLess" w="86349" h="21600">
                <a:moveTo>
                  <a:pt x="0" y="0"/>
                </a:moveTo>
                <a:lnTo>
                  <a:pt x="86349" y="0"/>
                </a:lnTo>
                <a:lnTo>
                  <a:pt x="84949" y="1400"/>
                </a:lnTo>
                <a:lnTo>
                  <a:pt x="1400" y="1400"/>
                </a:lnTo>
                <a:close/>
              </a:path>
              <a:path fill="darken" w="86349" h="21600">
                <a:moveTo>
                  <a:pt x="86349" y="0"/>
                </a:moveTo>
                <a:lnTo>
                  <a:pt x="86349" y="21600"/>
                </a:lnTo>
                <a:lnTo>
                  <a:pt x="84949" y="20200"/>
                </a:lnTo>
                <a:lnTo>
                  <a:pt x="84949" y="1400"/>
                </a:lnTo>
                <a:close/>
              </a:path>
              <a:path fill="darkenLess" w="86349" h="21600">
                <a:moveTo>
                  <a:pt x="8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9" y="20200"/>
                </a:lnTo>
                <a:close/>
              </a:path>
              <a:path fill="lighten" w="8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AG00186_" descr=""/>
          <p:cNvPicPr/>
          <p:nvPr/>
        </p:nvPicPr>
        <p:blipFill>
          <a:blip r:embed="rId6"/>
          <a:stretch/>
        </p:blipFill>
        <p:spPr>
          <a:xfrm>
            <a:off x="2541600" y="5486400"/>
            <a:ext cx="16225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olor Choi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746748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19840" y="1805040"/>
            <a:ext cx="3133440" cy="3247920"/>
          </a:xfrm>
          <a:prstGeom prst="rect">
            <a:avLst/>
          </a:prstGeom>
          <a:ln w="0">
            <a:noFill/>
          </a:ln>
        </p:spPr>
      </p:pic>
      <p:sp>
        <p:nvSpPr>
          <p:cNvPr id="375" name="">
            <a:hlinkClick r:id="rId3" action="ppaction://hlinksldjump"/>
          </p:cNvPr>
          <p:cNvSpPr/>
          <p:nvPr/>
        </p:nvSpPr>
        <p:spPr>
          <a:xfrm>
            <a:off x="7238880" y="22860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766520"/>
            <a:ext cx="45720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oose a color from the Standard ta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the Custom  Tab to get even more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19840" y="2133720"/>
            <a:ext cx="618840" cy="152280"/>
          </a:xfrm>
          <a:custGeom>
            <a:avLst/>
            <a:gdLst>
              <a:gd name="textAreaLeft" fmla="*/ 9720 w 618840"/>
              <a:gd name="textAreaRight" fmla="*/ 609120 w 6188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87623" h="21600">
                <a:moveTo>
                  <a:pt x="0" y="0"/>
                </a:moveTo>
                <a:lnTo>
                  <a:pt x="87623" y="0"/>
                </a:lnTo>
                <a:lnTo>
                  <a:pt x="87623" y="21600"/>
                </a:lnTo>
                <a:lnTo>
                  <a:pt x="0" y="21600"/>
                </a:lnTo>
                <a:close/>
              </a:path>
              <a:path fill="lightenLess" w="87623" h="21600">
                <a:moveTo>
                  <a:pt x="0" y="0"/>
                </a:moveTo>
                <a:lnTo>
                  <a:pt x="87623" y="0"/>
                </a:lnTo>
                <a:lnTo>
                  <a:pt x="86223" y="1400"/>
                </a:lnTo>
                <a:lnTo>
                  <a:pt x="1400" y="1400"/>
                </a:lnTo>
                <a:close/>
              </a:path>
              <a:path fill="darken" w="87623" h="21600">
                <a:moveTo>
                  <a:pt x="87623" y="0"/>
                </a:moveTo>
                <a:lnTo>
                  <a:pt x="87623" y="21600"/>
                </a:lnTo>
                <a:lnTo>
                  <a:pt x="86223" y="20200"/>
                </a:lnTo>
                <a:lnTo>
                  <a:pt x="86223" y="1400"/>
                </a:lnTo>
                <a:close/>
              </a:path>
              <a:path fill="darkenLess" w="87623" h="21600">
                <a:moveTo>
                  <a:pt x="87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223" y="20200"/>
                </a:lnTo>
                <a:close/>
              </a:path>
              <a:path fill="lighten" w="87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AG00186_" descr=""/>
          <p:cNvPicPr/>
          <p:nvPr/>
        </p:nvPicPr>
        <p:blipFill>
          <a:blip r:embed="rId6"/>
          <a:stretch/>
        </p:blipFill>
        <p:spPr>
          <a:xfrm>
            <a:off x="2541600" y="5486400"/>
            <a:ext cx="16225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162400" y="380880"/>
            <a:ext cx="3676680" cy="3495960"/>
          </a:xfrm>
          <a:prstGeom prst="rect">
            <a:avLst/>
          </a:prstGeom>
          <a:ln w="0">
            <a:noFill/>
          </a:ln>
        </p:spPr>
      </p:pic>
      <p:sp>
        <p:nvSpPr>
          <p:cNvPr id="380" name="">
            <a:hlinkClick r:id="rId2" action="ppaction://hlinksldjump"/>
          </p:cNvPr>
          <p:cNvSpPr/>
          <p:nvPr/>
        </p:nvSpPr>
        <p:spPr>
          <a:xfrm>
            <a:off x="586728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3" action="ppaction://hlinksldjump"/>
          </p:cNvPr>
          <p:cNvSpPr/>
          <p:nvPr/>
        </p:nvSpPr>
        <p:spPr>
          <a:xfrm>
            <a:off x="6324480" y="685800"/>
            <a:ext cx="533520" cy="15228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549" h="21600">
                <a:moveTo>
                  <a:pt x="0" y="0"/>
                </a:moveTo>
                <a:lnTo>
                  <a:pt x="75549" y="0"/>
                </a:lnTo>
                <a:lnTo>
                  <a:pt x="75549" y="21600"/>
                </a:lnTo>
                <a:lnTo>
                  <a:pt x="0" y="21600"/>
                </a:lnTo>
                <a:close/>
              </a:path>
              <a:path fill="lightenLess" w="75549" h="21600">
                <a:moveTo>
                  <a:pt x="0" y="0"/>
                </a:moveTo>
                <a:lnTo>
                  <a:pt x="75549" y="0"/>
                </a:lnTo>
                <a:lnTo>
                  <a:pt x="74149" y="1400"/>
                </a:lnTo>
                <a:lnTo>
                  <a:pt x="1400" y="1400"/>
                </a:lnTo>
                <a:close/>
              </a:path>
              <a:path fill="darken" w="75549" h="21600">
                <a:moveTo>
                  <a:pt x="75549" y="0"/>
                </a:moveTo>
                <a:lnTo>
                  <a:pt x="75549" y="21600"/>
                </a:lnTo>
                <a:lnTo>
                  <a:pt x="74149" y="20200"/>
                </a:lnTo>
                <a:lnTo>
                  <a:pt x="74149" y="1400"/>
                </a:lnTo>
                <a:close/>
              </a:path>
              <a:path fill="darkenLess" w="75549" h="21600">
                <a:moveTo>
                  <a:pt x="75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9" y="20200"/>
                </a:lnTo>
                <a:close/>
              </a:path>
              <a:path fill="lighten" w="75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4" action="ppaction://hlinksldjump"/>
          </p:cNvPr>
          <p:cNvSpPr/>
          <p:nvPr/>
        </p:nvSpPr>
        <p:spPr>
          <a:xfrm>
            <a:off x="685800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80880" y="3876480"/>
            <a:ext cx="7769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rad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hades color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oose 1,2 or Preset color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oose style of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3805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Fill Effects</a:t>
            </a:r>
            <a:br>
              <a:rPr sz="4400"/>
            </a:br>
            <a:r>
              <a:rPr b="1" lang="en-US" sz="2000" spc="-1" strike="noStrike">
                <a:solidFill>
                  <a:srgbClr val="482400"/>
                </a:solidFill>
                <a:latin typeface="Arial Unicode MS"/>
              </a:rPr>
              <a:t>Click on all tabs before continuing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3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4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5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447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7913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ice of 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199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rawing Tool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144792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lid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14300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ool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8380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nu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520" y="1200240"/>
            <a:ext cx="761976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895320"/>
            <a:ext cx="76197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3520" y="1447920"/>
            <a:ext cx="2523960" cy="448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33520" y="5934240"/>
            <a:ext cx="2495520" cy="161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04720" y="6095880"/>
            <a:ext cx="7620120" cy="271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"/>
              </a:rPr>
              <a:t>Elements of PowerPo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56386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place to keep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076560" y="5610240"/>
            <a:ext cx="5076720" cy="485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3048120" y="1457280"/>
            <a:ext cx="5076720" cy="41814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305920" y="6416640"/>
            <a:ext cx="685800" cy="289080"/>
          </a:xfrm>
          <a:custGeom>
            <a:avLst/>
            <a:gdLst>
              <a:gd name="textAreaLeft" fmla="*/ 18720 w 685800"/>
              <a:gd name="textAreaRight" fmla="*/ 667080 w 6858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1206" h="21600">
                <a:moveTo>
                  <a:pt x="0" y="0"/>
                </a:moveTo>
                <a:lnTo>
                  <a:pt x="51206" y="0"/>
                </a:lnTo>
                <a:lnTo>
                  <a:pt x="51206" y="21600"/>
                </a:lnTo>
                <a:lnTo>
                  <a:pt x="0" y="21600"/>
                </a:lnTo>
                <a:close/>
              </a:path>
              <a:path fill="lightenLess" w="51206" h="21600">
                <a:moveTo>
                  <a:pt x="0" y="0"/>
                </a:moveTo>
                <a:lnTo>
                  <a:pt x="51206" y="0"/>
                </a:lnTo>
                <a:lnTo>
                  <a:pt x="49806" y="1400"/>
                </a:lnTo>
                <a:lnTo>
                  <a:pt x="1400" y="1400"/>
                </a:lnTo>
                <a:close/>
              </a:path>
              <a:path fill="darken" w="51206" h="21600">
                <a:moveTo>
                  <a:pt x="51206" y="0"/>
                </a:moveTo>
                <a:lnTo>
                  <a:pt x="51206" y="21600"/>
                </a:lnTo>
                <a:lnTo>
                  <a:pt x="49806" y="20200"/>
                </a:lnTo>
                <a:lnTo>
                  <a:pt x="49806" y="1400"/>
                </a:lnTo>
                <a:close/>
              </a:path>
              <a:path fill="darkenLess" w="51206" h="21600">
                <a:moveTo>
                  <a:pt x="51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06" y="20200"/>
                </a:lnTo>
                <a:close/>
              </a:path>
              <a:path fill="lighten" w="51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06" h="21600">
                <a:moveTo>
                  <a:pt x="18597" y="3794"/>
                </a:moveTo>
                <a:lnTo>
                  <a:pt x="32609" y="10800"/>
                </a:lnTo>
                <a:lnTo>
                  <a:pt x="1859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162400" y="380880"/>
            <a:ext cx="3676680" cy="349596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rId2" action="ppaction://hlinksldjump"/>
          </p:cNvPr>
          <p:cNvSpPr/>
          <p:nvPr/>
        </p:nvSpPr>
        <p:spPr>
          <a:xfrm>
            <a:off x="5162400" y="685800"/>
            <a:ext cx="628920" cy="152280"/>
          </a:xfrm>
          <a:custGeom>
            <a:avLst/>
            <a:gdLst>
              <a:gd name="textAreaLeft" fmla="*/ 9720 w 628920"/>
              <a:gd name="textAreaRight" fmla="*/ 619200 w 628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89049" h="21600">
                <a:moveTo>
                  <a:pt x="0" y="0"/>
                </a:moveTo>
                <a:lnTo>
                  <a:pt x="89049" y="0"/>
                </a:lnTo>
                <a:lnTo>
                  <a:pt x="89049" y="21600"/>
                </a:lnTo>
                <a:lnTo>
                  <a:pt x="0" y="21600"/>
                </a:lnTo>
                <a:close/>
              </a:path>
              <a:path fill="lightenLess" w="89049" h="21600">
                <a:moveTo>
                  <a:pt x="0" y="0"/>
                </a:moveTo>
                <a:lnTo>
                  <a:pt x="89049" y="0"/>
                </a:lnTo>
                <a:lnTo>
                  <a:pt x="87649" y="1400"/>
                </a:lnTo>
                <a:lnTo>
                  <a:pt x="1400" y="1400"/>
                </a:lnTo>
                <a:close/>
              </a:path>
              <a:path fill="darken" w="89049" h="21600">
                <a:moveTo>
                  <a:pt x="89049" y="0"/>
                </a:moveTo>
                <a:lnTo>
                  <a:pt x="89049" y="21600"/>
                </a:lnTo>
                <a:lnTo>
                  <a:pt x="87649" y="20200"/>
                </a:lnTo>
                <a:lnTo>
                  <a:pt x="87649" y="1400"/>
                </a:lnTo>
                <a:close/>
              </a:path>
              <a:path fill="darkenLess" w="89049" h="21600">
                <a:moveTo>
                  <a:pt x="89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49" y="20200"/>
                </a:lnTo>
                <a:close/>
              </a:path>
              <a:path fill="lighten" w="89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rId3" action="ppaction://hlinksldjump"/>
          </p:cNvPr>
          <p:cNvSpPr/>
          <p:nvPr/>
        </p:nvSpPr>
        <p:spPr>
          <a:xfrm>
            <a:off x="640080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4" action="ppaction://hlinksldjump"/>
          </p:cNvPr>
          <p:cNvSpPr/>
          <p:nvPr/>
        </p:nvSpPr>
        <p:spPr>
          <a:xfrm>
            <a:off x="6858000" y="685800"/>
            <a:ext cx="533520" cy="15228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549" h="21600">
                <a:moveTo>
                  <a:pt x="0" y="0"/>
                </a:moveTo>
                <a:lnTo>
                  <a:pt x="75549" y="0"/>
                </a:lnTo>
                <a:lnTo>
                  <a:pt x="75549" y="21600"/>
                </a:lnTo>
                <a:lnTo>
                  <a:pt x="0" y="21600"/>
                </a:lnTo>
                <a:close/>
              </a:path>
              <a:path fill="lightenLess" w="75549" h="21600">
                <a:moveTo>
                  <a:pt x="0" y="0"/>
                </a:moveTo>
                <a:lnTo>
                  <a:pt x="75549" y="0"/>
                </a:lnTo>
                <a:lnTo>
                  <a:pt x="74149" y="1400"/>
                </a:lnTo>
                <a:lnTo>
                  <a:pt x="1400" y="1400"/>
                </a:lnTo>
                <a:close/>
              </a:path>
              <a:path fill="darken" w="75549" h="21600">
                <a:moveTo>
                  <a:pt x="75549" y="0"/>
                </a:moveTo>
                <a:lnTo>
                  <a:pt x="75549" y="21600"/>
                </a:lnTo>
                <a:lnTo>
                  <a:pt x="74149" y="20200"/>
                </a:lnTo>
                <a:lnTo>
                  <a:pt x="74149" y="1400"/>
                </a:lnTo>
                <a:close/>
              </a:path>
              <a:path fill="darkenLess" w="75549" h="21600">
                <a:moveTo>
                  <a:pt x="75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9" y="20200"/>
                </a:lnTo>
                <a:close/>
              </a:path>
              <a:path fill="lighten" w="75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5" action="ppaction://hlinksldjump"/>
          </p:cNvPr>
          <p:cNvSpPr/>
          <p:nvPr/>
        </p:nvSpPr>
        <p:spPr>
          <a:xfrm>
            <a:off x="640080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rId6" action="ppaction://hlinksldjump"/>
          </p:cNvPr>
          <p:cNvSpPr/>
          <p:nvPr/>
        </p:nvSpPr>
        <p:spPr>
          <a:xfrm>
            <a:off x="6858000" y="685800"/>
            <a:ext cx="533520" cy="15228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549" h="21600">
                <a:moveTo>
                  <a:pt x="0" y="0"/>
                </a:moveTo>
                <a:lnTo>
                  <a:pt x="75549" y="0"/>
                </a:lnTo>
                <a:lnTo>
                  <a:pt x="75549" y="21600"/>
                </a:lnTo>
                <a:lnTo>
                  <a:pt x="0" y="21600"/>
                </a:lnTo>
                <a:close/>
              </a:path>
              <a:path fill="lightenLess" w="75549" h="21600">
                <a:moveTo>
                  <a:pt x="0" y="0"/>
                </a:moveTo>
                <a:lnTo>
                  <a:pt x="75549" y="0"/>
                </a:lnTo>
                <a:lnTo>
                  <a:pt x="74149" y="1400"/>
                </a:lnTo>
                <a:lnTo>
                  <a:pt x="1400" y="1400"/>
                </a:lnTo>
                <a:close/>
              </a:path>
              <a:path fill="darken" w="75549" h="21600">
                <a:moveTo>
                  <a:pt x="75549" y="0"/>
                </a:moveTo>
                <a:lnTo>
                  <a:pt x="75549" y="21600"/>
                </a:lnTo>
                <a:lnTo>
                  <a:pt x="74149" y="20200"/>
                </a:lnTo>
                <a:lnTo>
                  <a:pt x="74149" y="1400"/>
                </a:lnTo>
                <a:close/>
              </a:path>
              <a:path fill="darkenLess" w="75549" h="21600">
                <a:moveTo>
                  <a:pt x="75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9" y="20200"/>
                </a:lnTo>
                <a:close/>
              </a:path>
              <a:path fill="lighten" w="75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Fill Effects</a:t>
            </a:r>
            <a:br>
              <a:rPr sz="4400"/>
            </a:br>
            <a:r>
              <a:rPr b="1" lang="en-US" sz="2000" spc="-1" strike="noStrike">
                <a:solidFill>
                  <a:srgbClr val="482400"/>
                </a:solidFill>
                <a:latin typeface="Arial Unicode MS"/>
              </a:rPr>
              <a:t>Click on all tabs before continuing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880" y="4419720"/>
            <a:ext cx="7769520" cy="15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xtur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ts you choose preset texture backgr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 Import you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5162400" y="380880"/>
            <a:ext cx="3676680" cy="3495960"/>
          </a:xfrm>
          <a:prstGeom prst="rect">
            <a:avLst/>
          </a:prstGeom>
          <a:ln w="0">
            <a:noFill/>
          </a:ln>
        </p:spPr>
      </p:pic>
      <p:sp>
        <p:nvSpPr>
          <p:cNvPr id="395" name="">
            <a:hlinkClick r:id="rId2" action="ppaction://hlinksldjump"/>
          </p:cNvPr>
          <p:cNvSpPr/>
          <p:nvPr/>
        </p:nvSpPr>
        <p:spPr>
          <a:xfrm>
            <a:off x="693432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rId3" action="ppaction://hlinksldjump"/>
          </p:cNvPr>
          <p:cNvSpPr/>
          <p:nvPr/>
        </p:nvSpPr>
        <p:spPr>
          <a:xfrm>
            <a:off x="5791320" y="685800"/>
            <a:ext cx="533160" cy="152280"/>
          </a:xfrm>
          <a:custGeom>
            <a:avLst/>
            <a:gdLst>
              <a:gd name="textAreaLeft" fmla="*/ 9720 w 533160"/>
              <a:gd name="textAreaRight" fmla="*/ 523440 w 5331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4" action="ppaction://hlinksldjump"/>
          </p:cNvPr>
          <p:cNvSpPr/>
          <p:nvPr/>
        </p:nvSpPr>
        <p:spPr>
          <a:xfrm>
            <a:off x="533412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04560" y="4190760"/>
            <a:ext cx="77691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lows you to change the pattern of the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3805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Fill Effects</a:t>
            </a:r>
            <a:br>
              <a:rPr sz="4400"/>
            </a:br>
            <a:r>
              <a:rPr b="1" lang="en-US" sz="2000" spc="-1" strike="noStrike">
                <a:solidFill>
                  <a:srgbClr val="482400"/>
                </a:solidFill>
                <a:latin typeface="Arial Unicode MS"/>
              </a:rPr>
              <a:t>Click on all tabs before continuing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14120" y="3876480"/>
            <a:ext cx="7810200" cy="20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ts you insert a picture as a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on Select Picture to navigate to the picture you want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>
            <a:hlinkClick r:id="rId4" action="ppaction://hlinksldjump"/>
          </p:cNvPr>
          <p:cNvSpPr/>
          <p:nvPr/>
        </p:nvSpPr>
        <p:spPr>
          <a:xfrm>
            <a:off x="76960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5162400" y="380880"/>
            <a:ext cx="3676680" cy="349596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rId6" action="ppaction://hlinksldjump"/>
          </p:cNvPr>
          <p:cNvSpPr/>
          <p:nvPr/>
        </p:nvSpPr>
        <p:spPr>
          <a:xfrm>
            <a:off x="632448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rId7" action="ppaction://hlinksldjump"/>
          </p:cNvPr>
          <p:cNvSpPr/>
          <p:nvPr/>
        </p:nvSpPr>
        <p:spPr>
          <a:xfrm>
            <a:off x="5791320" y="685800"/>
            <a:ext cx="533160" cy="152280"/>
          </a:xfrm>
          <a:custGeom>
            <a:avLst/>
            <a:gdLst>
              <a:gd name="textAreaLeft" fmla="*/ 9720 w 533160"/>
              <a:gd name="textAreaRight" fmla="*/ 523440 w 5331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8" action="ppaction://hlinksldjump"/>
          </p:cNvPr>
          <p:cNvSpPr/>
          <p:nvPr/>
        </p:nvSpPr>
        <p:spPr>
          <a:xfrm>
            <a:off x="533412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9" action="ppaction://hlinksldjump"/>
          </p:cNvPr>
          <p:cNvSpPr/>
          <p:nvPr/>
        </p:nvSpPr>
        <p:spPr>
          <a:xfrm>
            <a:off x="6781680" y="2590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3805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Fill Effects</a:t>
            </a:r>
            <a:br>
              <a:rPr sz="4400"/>
            </a:br>
            <a:r>
              <a:rPr b="1" lang="en-US" sz="2000" spc="-1" strike="noStrike">
                <a:solidFill>
                  <a:srgbClr val="482400"/>
                </a:solidFill>
                <a:latin typeface="Arial Unicode MS"/>
              </a:rPr>
              <a:t>Click on all tabs before continuing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Select Pi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 a picture from Clip Art or one of you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5705640" cy="366732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rId3" action="ppaction://hlinksldjump"/>
          </p:cNvPr>
          <p:cNvSpPr/>
          <p:nvPr/>
        </p:nvSpPr>
        <p:spPr>
          <a:xfrm>
            <a:off x="7696080" y="5943600"/>
            <a:ext cx="685800" cy="390600"/>
          </a:xfrm>
          <a:custGeom>
            <a:avLst/>
            <a:gdLst>
              <a:gd name="textAreaLeft" fmla="*/ 25200 w 685800"/>
              <a:gd name="textAreaRight" fmla="*/ 660600 w 685800"/>
              <a:gd name="textAreaTop" fmla="*/ 25200 h 390600"/>
              <a:gd name="textAreaBottom" fmla="*/ 365400 h 390600"/>
            </a:gdLst>
            <a:ahLst/>
            <a:rect l="textAreaLeft" t="textAreaTop" r="textAreaRight" b="textAreaBottom"/>
            <a:pathLst>
              <a:path w="37909" h="21600">
                <a:moveTo>
                  <a:pt x="0" y="0"/>
                </a:moveTo>
                <a:lnTo>
                  <a:pt x="37909" y="0"/>
                </a:lnTo>
                <a:lnTo>
                  <a:pt x="37909" y="21600"/>
                </a:lnTo>
                <a:lnTo>
                  <a:pt x="0" y="21600"/>
                </a:lnTo>
                <a:close/>
              </a:path>
              <a:path fill="lightenLess" w="37909" h="21600">
                <a:moveTo>
                  <a:pt x="0" y="0"/>
                </a:moveTo>
                <a:lnTo>
                  <a:pt x="37909" y="0"/>
                </a:lnTo>
                <a:lnTo>
                  <a:pt x="36509" y="1400"/>
                </a:lnTo>
                <a:lnTo>
                  <a:pt x="1400" y="1400"/>
                </a:lnTo>
                <a:close/>
              </a:path>
              <a:path fill="darken" w="37909" h="21600">
                <a:moveTo>
                  <a:pt x="37909" y="0"/>
                </a:moveTo>
                <a:lnTo>
                  <a:pt x="37909" y="21600"/>
                </a:lnTo>
                <a:lnTo>
                  <a:pt x="36509" y="20200"/>
                </a:lnTo>
                <a:lnTo>
                  <a:pt x="36509" y="1400"/>
                </a:lnTo>
                <a:close/>
              </a:path>
              <a:path fill="darkenLess" w="37909" h="21600">
                <a:moveTo>
                  <a:pt x="37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09" y="20200"/>
                </a:lnTo>
                <a:close/>
              </a:path>
              <a:path fill="lighten" w="37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09" h="21600">
                <a:moveTo>
                  <a:pt x="11948" y="3794"/>
                </a:moveTo>
                <a:lnTo>
                  <a:pt x="25961" y="10800"/>
                </a:lnTo>
                <a:lnTo>
                  <a:pt x="11948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41320" y="993240"/>
            <a:ext cx="45720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ustomizing the 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Background on On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4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457200"/>
            <a:ext cx="2133720" cy="19717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40960" y="350640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eck Omit background graphics from master if the current page is to have a different background than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4" action="ppaction://hlinksldjump"/>
          </p:cNvPr>
          <p:cNvSpPr/>
          <p:nvPr/>
        </p:nvSpPr>
        <p:spPr>
          <a:xfrm>
            <a:off x="5638680" y="2133720"/>
            <a:ext cx="304920" cy="295200"/>
          </a:xfrm>
          <a:custGeom>
            <a:avLst/>
            <a:gdLst>
              <a:gd name="textAreaLeft" fmla="*/ 19080 w 304920"/>
              <a:gd name="textAreaRight" fmla="*/ 285840 w 304920"/>
              <a:gd name="textAreaTop" fmla="*/ 19080 h 295200"/>
              <a:gd name="textAreaBottom" fmla="*/ 276120 h 295200"/>
            </a:gdLst>
            <a:ahLst/>
            <a:rect l="textAreaLeft" t="textAreaTop" r="textAreaRight" b="textAreaBottom"/>
            <a:pathLst>
              <a:path w="22310" h="21600">
                <a:moveTo>
                  <a:pt x="0" y="0"/>
                </a:moveTo>
                <a:lnTo>
                  <a:pt x="22310" y="0"/>
                </a:lnTo>
                <a:lnTo>
                  <a:pt x="22310" y="21600"/>
                </a:lnTo>
                <a:lnTo>
                  <a:pt x="0" y="21600"/>
                </a:lnTo>
                <a:close/>
              </a:path>
              <a:path fill="lightenLess" w="22310" h="21600">
                <a:moveTo>
                  <a:pt x="0" y="0"/>
                </a:moveTo>
                <a:lnTo>
                  <a:pt x="22310" y="0"/>
                </a:lnTo>
                <a:lnTo>
                  <a:pt x="20910" y="1400"/>
                </a:lnTo>
                <a:lnTo>
                  <a:pt x="1400" y="1400"/>
                </a:lnTo>
                <a:close/>
              </a:path>
              <a:path fill="darken" w="22310" h="21600">
                <a:moveTo>
                  <a:pt x="22310" y="0"/>
                </a:moveTo>
                <a:lnTo>
                  <a:pt x="22310" y="21600"/>
                </a:lnTo>
                <a:lnTo>
                  <a:pt x="20910" y="20200"/>
                </a:lnTo>
                <a:lnTo>
                  <a:pt x="20910" y="1400"/>
                </a:lnTo>
                <a:close/>
              </a:path>
              <a:path fill="darkenLess" w="22310" h="21600">
                <a:moveTo>
                  <a:pt x="22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0" y="20200"/>
                </a:lnTo>
                <a:close/>
              </a:path>
              <a:path fill="lighten" w="22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5" action="ppaction://hlinksldjump"/>
          </p:cNvPr>
          <p:cNvSpPr/>
          <p:nvPr/>
        </p:nvSpPr>
        <p:spPr>
          <a:xfrm>
            <a:off x="5638680" y="2133720"/>
            <a:ext cx="304920" cy="295200"/>
          </a:xfrm>
          <a:custGeom>
            <a:avLst/>
            <a:gdLst>
              <a:gd name="textAreaLeft" fmla="*/ 19080 w 304920"/>
              <a:gd name="textAreaRight" fmla="*/ 285840 w 304920"/>
              <a:gd name="textAreaTop" fmla="*/ 19080 h 295200"/>
              <a:gd name="textAreaBottom" fmla="*/ 276120 h 295200"/>
            </a:gdLst>
            <a:ahLst/>
            <a:rect l="textAreaLeft" t="textAreaTop" r="textAreaRight" b="textAreaBottom"/>
            <a:pathLst>
              <a:path w="22310" h="21600">
                <a:moveTo>
                  <a:pt x="0" y="0"/>
                </a:moveTo>
                <a:lnTo>
                  <a:pt x="22310" y="0"/>
                </a:lnTo>
                <a:lnTo>
                  <a:pt x="22310" y="21600"/>
                </a:lnTo>
                <a:lnTo>
                  <a:pt x="0" y="21600"/>
                </a:lnTo>
                <a:close/>
              </a:path>
              <a:path fill="lightenLess" w="22310" h="21600">
                <a:moveTo>
                  <a:pt x="0" y="0"/>
                </a:moveTo>
                <a:lnTo>
                  <a:pt x="22310" y="0"/>
                </a:lnTo>
                <a:lnTo>
                  <a:pt x="20910" y="1400"/>
                </a:lnTo>
                <a:lnTo>
                  <a:pt x="1400" y="1400"/>
                </a:lnTo>
                <a:close/>
              </a:path>
              <a:path fill="darken" w="22310" h="21600">
                <a:moveTo>
                  <a:pt x="22310" y="0"/>
                </a:moveTo>
                <a:lnTo>
                  <a:pt x="22310" y="21600"/>
                </a:lnTo>
                <a:lnTo>
                  <a:pt x="20910" y="20200"/>
                </a:lnTo>
                <a:lnTo>
                  <a:pt x="20910" y="1400"/>
                </a:lnTo>
                <a:close/>
              </a:path>
              <a:path fill="darkenLess" w="22310" h="21600">
                <a:moveTo>
                  <a:pt x="22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0" y="20200"/>
                </a:lnTo>
                <a:close/>
              </a:path>
              <a:path fill="lighten" w="22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41320" y="993240"/>
            <a:ext cx="45720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ustomizing the 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Background on On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4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457200"/>
            <a:ext cx="2133720" cy="19717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40960" y="2593440"/>
            <a:ext cx="776916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s feature is useful when making a picture your background 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 in this presentation when a different background is used to differentiate practice slides from instruction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5638680" y="457200"/>
            <a:ext cx="2133720" cy="197172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rId6" action="ppaction://hlinksldjump"/>
          </p:cNvPr>
          <p:cNvSpPr/>
          <p:nvPr/>
        </p:nvSpPr>
        <p:spPr>
          <a:xfrm>
            <a:off x="5638680" y="2133720"/>
            <a:ext cx="304920" cy="295200"/>
          </a:xfrm>
          <a:custGeom>
            <a:avLst/>
            <a:gdLst>
              <a:gd name="textAreaLeft" fmla="*/ 19080 w 304920"/>
              <a:gd name="textAreaRight" fmla="*/ 285840 w 304920"/>
              <a:gd name="textAreaTop" fmla="*/ 19080 h 295200"/>
              <a:gd name="textAreaBottom" fmla="*/ 276120 h 295200"/>
            </a:gdLst>
            <a:ahLst/>
            <a:rect l="textAreaLeft" t="textAreaTop" r="textAreaRight" b="textAreaBottom"/>
            <a:pathLst>
              <a:path w="22310" h="21600">
                <a:moveTo>
                  <a:pt x="0" y="0"/>
                </a:moveTo>
                <a:lnTo>
                  <a:pt x="22310" y="0"/>
                </a:lnTo>
                <a:lnTo>
                  <a:pt x="22310" y="21600"/>
                </a:lnTo>
                <a:lnTo>
                  <a:pt x="0" y="21600"/>
                </a:lnTo>
                <a:close/>
              </a:path>
              <a:path fill="lightenLess" w="22310" h="21600">
                <a:moveTo>
                  <a:pt x="0" y="0"/>
                </a:moveTo>
                <a:lnTo>
                  <a:pt x="22310" y="0"/>
                </a:lnTo>
                <a:lnTo>
                  <a:pt x="20910" y="1400"/>
                </a:lnTo>
                <a:lnTo>
                  <a:pt x="1400" y="1400"/>
                </a:lnTo>
                <a:close/>
              </a:path>
              <a:path fill="darken" w="22310" h="21600">
                <a:moveTo>
                  <a:pt x="22310" y="0"/>
                </a:moveTo>
                <a:lnTo>
                  <a:pt x="22310" y="21600"/>
                </a:lnTo>
                <a:lnTo>
                  <a:pt x="20910" y="20200"/>
                </a:lnTo>
                <a:lnTo>
                  <a:pt x="20910" y="1400"/>
                </a:lnTo>
                <a:close/>
              </a:path>
              <a:path fill="darkenLess" w="22310" h="21600">
                <a:moveTo>
                  <a:pt x="22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0" y="20200"/>
                </a:lnTo>
                <a:close/>
              </a:path>
              <a:path fill="lighten" w="22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3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7010280" y="762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Slide Transi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7543800" y="55627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776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ictates how the next slide appears to the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s slide used the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Blinds Vertic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Tran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4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D13730_" descr=""/>
          <p:cNvPicPr/>
          <p:nvPr/>
        </p:nvPicPr>
        <p:blipFill>
          <a:blip r:embed="rId21"/>
          <a:stretch/>
        </p:blipFill>
        <p:spPr>
          <a:xfrm>
            <a:off x="6686640" y="6667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To select a Slide Transi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181480" y="1766880"/>
            <a:ext cx="3581640" cy="20764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0" y="2630520"/>
            <a:ext cx="510552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lide Show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 since you are editing how the slide show resp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lect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lide Transi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7391520" y="3124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Arial Unicode MS"/>
              </a:rPr>
              <a:t>Practice Slide Transit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rId2" action="ppaction://hlinksldjump"/>
          </p:cNvPr>
          <p:cNvSpPr/>
          <p:nvPr/>
        </p:nvSpPr>
        <p:spPr>
          <a:xfrm>
            <a:off x="1828800" y="1828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1828800" y="1981080"/>
            <a:ext cx="457200" cy="15264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64597" h="21600">
                <a:moveTo>
                  <a:pt x="0" y="0"/>
                </a:moveTo>
                <a:lnTo>
                  <a:pt x="64597" y="0"/>
                </a:lnTo>
                <a:lnTo>
                  <a:pt x="64597" y="21600"/>
                </a:lnTo>
                <a:lnTo>
                  <a:pt x="0" y="21600"/>
                </a:lnTo>
                <a:close/>
              </a:path>
              <a:path fill="lightenLess" w="64597" h="21600">
                <a:moveTo>
                  <a:pt x="0" y="0"/>
                </a:moveTo>
                <a:lnTo>
                  <a:pt x="64597" y="0"/>
                </a:lnTo>
                <a:lnTo>
                  <a:pt x="63197" y="1400"/>
                </a:lnTo>
                <a:lnTo>
                  <a:pt x="1400" y="1400"/>
                </a:lnTo>
                <a:close/>
              </a:path>
              <a:path fill="darken" w="64597" h="21600">
                <a:moveTo>
                  <a:pt x="64597" y="0"/>
                </a:moveTo>
                <a:lnTo>
                  <a:pt x="64597" y="21600"/>
                </a:lnTo>
                <a:lnTo>
                  <a:pt x="63197" y="20200"/>
                </a:lnTo>
                <a:lnTo>
                  <a:pt x="63197" y="1400"/>
                </a:lnTo>
                <a:close/>
              </a:path>
              <a:path fill="darkenLess" w="64597" h="21600">
                <a:moveTo>
                  <a:pt x="64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97" y="20200"/>
                </a:lnTo>
                <a:close/>
              </a:path>
              <a:path fill="lighten" w="64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286000" y="1828800"/>
            <a:ext cx="6858000" cy="5029200"/>
          </a:xfrm>
          <a:custGeom>
            <a:avLst/>
            <a:gdLst>
              <a:gd name="textAreaLeft" fmla="*/ 325800 w 6858000"/>
              <a:gd name="textAreaRight" fmla="*/ 6532200 w 6858000"/>
              <a:gd name="textAreaTop" fmla="*/ 325800 h 5029200"/>
              <a:gd name="textAreaBottom" fmla="*/ 4703400 h 5029200"/>
            </a:gdLst>
            <a:ahLst/>
            <a:rect l="textAreaLeft" t="textAreaTop" r="textAreaRight" b="textAreaBottom"/>
            <a:pathLst>
              <a:path w="29454" h="21600">
                <a:moveTo>
                  <a:pt x="0" y="0"/>
                </a:moveTo>
                <a:lnTo>
                  <a:pt x="29454" y="0"/>
                </a:lnTo>
                <a:lnTo>
                  <a:pt x="29454" y="21600"/>
                </a:lnTo>
                <a:lnTo>
                  <a:pt x="0" y="21600"/>
                </a:lnTo>
                <a:close/>
              </a:path>
              <a:path fill="lightenLess" w="29454" h="21600">
                <a:moveTo>
                  <a:pt x="0" y="0"/>
                </a:moveTo>
                <a:lnTo>
                  <a:pt x="29454" y="0"/>
                </a:lnTo>
                <a:lnTo>
                  <a:pt x="28054" y="1400"/>
                </a:lnTo>
                <a:lnTo>
                  <a:pt x="1400" y="1400"/>
                </a:lnTo>
                <a:close/>
              </a:path>
              <a:path fill="darken" w="29454" h="21600">
                <a:moveTo>
                  <a:pt x="29454" y="0"/>
                </a:moveTo>
                <a:lnTo>
                  <a:pt x="29454" y="21600"/>
                </a:lnTo>
                <a:lnTo>
                  <a:pt x="28054" y="20200"/>
                </a:lnTo>
                <a:lnTo>
                  <a:pt x="28054" y="1400"/>
                </a:lnTo>
                <a:close/>
              </a:path>
              <a:path fill="darkenLess" w="29454" h="21600">
                <a:moveTo>
                  <a:pt x="2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4" y="20200"/>
                </a:lnTo>
                <a:close/>
              </a:path>
              <a:path fill="lighten" w="2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3" action="ppaction://hlinksldjump"/>
          </p:cNvPr>
          <p:cNvSpPr/>
          <p:nvPr/>
        </p:nvSpPr>
        <p:spPr>
          <a:xfrm>
            <a:off x="0" y="1828800"/>
            <a:ext cx="1828800" cy="50292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5029200"/>
              <a:gd name="textAreaBottom" fmla="*/ 4910760 h 5029200"/>
            </a:gdLst>
            <a:ahLst/>
            <a:rect l="textAreaLeft" t="textAreaTop" r="textAreaRight" b="textAreaBottom"/>
            <a:pathLst>
              <a:path w="21600" h="59393">
                <a:moveTo>
                  <a:pt x="0" y="0"/>
                </a:moveTo>
                <a:lnTo>
                  <a:pt x="21600" y="0"/>
                </a:lnTo>
                <a:lnTo>
                  <a:pt x="21600" y="59393"/>
                </a:lnTo>
                <a:lnTo>
                  <a:pt x="0" y="59393"/>
                </a:lnTo>
                <a:close/>
              </a:path>
              <a:path fill="lightenLess" w="21600" h="593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9393">
                <a:moveTo>
                  <a:pt x="21600" y="0"/>
                </a:moveTo>
                <a:lnTo>
                  <a:pt x="21600" y="59393"/>
                </a:lnTo>
                <a:lnTo>
                  <a:pt x="20200" y="57993"/>
                </a:lnTo>
                <a:lnTo>
                  <a:pt x="20200" y="1400"/>
                </a:lnTo>
                <a:close/>
              </a:path>
              <a:path fill="darkenLess" w="21600" h="59393">
                <a:moveTo>
                  <a:pt x="21600" y="59393"/>
                </a:moveTo>
                <a:lnTo>
                  <a:pt x="0" y="59393"/>
                </a:lnTo>
                <a:lnTo>
                  <a:pt x="1400" y="57993"/>
                </a:lnTo>
                <a:lnTo>
                  <a:pt x="20200" y="57993"/>
                </a:lnTo>
                <a:close/>
              </a:path>
              <a:path fill="lighten" w="21600" h="59393">
                <a:moveTo>
                  <a:pt x="0" y="59393"/>
                </a:moveTo>
                <a:lnTo>
                  <a:pt x="0" y="0"/>
                </a:lnTo>
                <a:lnTo>
                  <a:pt x="1400" y="1400"/>
                </a:lnTo>
                <a:lnTo>
                  <a:pt x="1400" y="5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0" y="1828800"/>
            <a:ext cx="2971800" cy="533520"/>
          </a:xfrm>
          <a:custGeom>
            <a:avLst/>
            <a:gdLst>
              <a:gd name="textAreaLeft" fmla="*/ 34560 w 2971800"/>
              <a:gd name="textAreaRight" fmla="*/ 2937240 w 2971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0249" h="21600">
                <a:moveTo>
                  <a:pt x="0" y="0"/>
                </a:moveTo>
                <a:lnTo>
                  <a:pt x="120249" y="0"/>
                </a:lnTo>
                <a:lnTo>
                  <a:pt x="120249" y="21600"/>
                </a:lnTo>
                <a:lnTo>
                  <a:pt x="0" y="21600"/>
                </a:lnTo>
                <a:close/>
              </a:path>
              <a:path fill="lightenLess" w="120249" h="21600">
                <a:moveTo>
                  <a:pt x="0" y="0"/>
                </a:moveTo>
                <a:lnTo>
                  <a:pt x="120249" y="0"/>
                </a:lnTo>
                <a:lnTo>
                  <a:pt x="118849" y="1400"/>
                </a:lnTo>
                <a:lnTo>
                  <a:pt x="1400" y="1400"/>
                </a:lnTo>
                <a:close/>
              </a:path>
              <a:path fill="darken" w="120249" h="21600">
                <a:moveTo>
                  <a:pt x="120249" y="0"/>
                </a:moveTo>
                <a:lnTo>
                  <a:pt x="120249" y="21600"/>
                </a:lnTo>
                <a:lnTo>
                  <a:pt x="118849" y="20200"/>
                </a:lnTo>
                <a:lnTo>
                  <a:pt x="118849" y="1400"/>
                </a:lnTo>
                <a:close/>
              </a:path>
              <a:path fill="darkenLess" w="120249" h="21600">
                <a:moveTo>
                  <a:pt x="120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849" y="20200"/>
                </a:lnTo>
                <a:close/>
              </a:path>
              <a:path fill="lighten" w="120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1828800" y="1981080"/>
            <a:ext cx="457200" cy="15264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64597" h="21600">
                <a:moveTo>
                  <a:pt x="0" y="0"/>
                </a:moveTo>
                <a:lnTo>
                  <a:pt x="64597" y="0"/>
                </a:lnTo>
                <a:lnTo>
                  <a:pt x="64597" y="21600"/>
                </a:lnTo>
                <a:lnTo>
                  <a:pt x="0" y="21600"/>
                </a:lnTo>
                <a:close/>
              </a:path>
              <a:path fill="lightenLess" w="64597" h="21600">
                <a:moveTo>
                  <a:pt x="0" y="0"/>
                </a:moveTo>
                <a:lnTo>
                  <a:pt x="64597" y="0"/>
                </a:lnTo>
                <a:lnTo>
                  <a:pt x="63197" y="1400"/>
                </a:lnTo>
                <a:lnTo>
                  <a:pt x="1400" y="1400"/>
                </a:lnTo>
                <a:close/>
              </a:path>
              <a:path fill="darken" w="64597" h="21600">
                <a:moveTo>
                  <a:pt x="64597" y="0"/>
                </a:moveTo>
                <a:lnTo>
                  <a:pt x="64597" y="21600"/>
                </a:lnTo>
                <a:lnTo>
                  <a:pt x="63197" y="20200"/>
                </a:lnTo>
                <a:lnTo>
                  <a:pt x="63197" y="1400"/>
                </a:lnTo>
                <a:close/>
              </a:path>
              <a:path fill="darkenLess" w="64597" h="21600">
                <a:moveTo>
                  <a:pt x="64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97" y="20200"/>
                </a:lnTo>
                <a:close/>
              </a:path>
              <a:path fill="lighten" w="64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1419120" cy="2666880"/>
          </a:xfrm>
          <a:prstGeom prst="rect">
            <a:avLst/>
          </a:prstGeom>
          <a:ln w="0">
            <a:noFill/>
          </a:ln>
        </p:spPr>
      </p:pic>
      <p:sp>
        <p:nvSpPr>
          <p:cNvPr id="455" name="">
            <a:hlinkClick r:id="rId3" action="ppaction://hlinksldjump"/>
          </p:cNvPr>
          <p:cNvSpPr/>
          <p:nvPr/>
        </p:nvSpPr>
        <p:spPr>
          <a:xfrm>
            <a:off x="1828800" y="3733920"/>
            <a:ext cx="1419120" cy="228600"/>
          </a:xfrm>
          <a:custGeom>
            <a:avLst/>
            <a:gdLst>
              <a:gd name="textAreaLeft" fmla="*/ 14760 w 1419120"/>
              <a:gd name="textAreaRight" fmla="*/ 1404360 w 1419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3913" h="21600">
                <a:moveTo>
                  <a:pt x="0" y="0"/>
                </a:moveTo>
                <a:lnTo>
                  <a:pt x="133913" y="0"/>
                </a:lnTo>
                <a:lnTo>
                  <a:pt x="133913" y="21600"/>
                </a:lnTo>
                <a:lnTo>
                  <a:pt x="0" y="21600"/>
                </a:lnTo>
                <a:close/>
              </a:path>
              <a:path fill="lightenLess" w="133913" h="21600">
                <a:moveTo>
                  <a:pt x="0" y="0"/>
                </a:moveTo>
                <a:lnTo>
                  <a:pt x="133913" y="0"/>
                </a:lnTo>
                <a:lnTo>
                  <a:pt x="132513" y="1400"/>
                </a:lnTo>
                <a:lnTo>
                  <a:pt x="1400" y="1400"/>
                </a:lnTo>
                <a:close/>
              </a:path>
              <a:path fill="darken" w="133913" h="21600">
                <a:moveTo>
                  <a:pt x="133913" y="0"/>
                </a:moveTo>
                <a:lnTo>
                  <a:pt x="133913" y="21600"/>
                </a:lnTo>
                <a:lnTo>
                  <a:pt x="132513" y="20200"/>
                </a:lnTo>
                <a:lnTo>
                  <a:pt x="132513" y="1400"/>
                </a:lnTo>
                <a:close/>
              </a:path>
              <a:path fill="darkenLess" w="133913" h="21600">
                <a:moveTo>
                  <a:pt x="133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513" y="20200"/>
                </a:lnTo>
                <a:close/>
              </a:path>
              <a:path fill="lighten" w="133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4" action="ppaction://hlinksldjump"/>
          </p:cNvPr>
          <p:cNvSpPr/>
          <p:nvPr/>
        </p:nvSpPr>
        <p:spPr>
          <a:xfrm>
            <a:off x="1828800" y="4191120"/>
            <a:ext cx="1419120" cy="152280"/>
          </a:xfrm>
          <a:custGeom>
            <a:avLst/>
            <a:gdLst>
              <a:gd name="textAreaLeft" fmla="*/ 9720 w 1419120"/>
              <a:gd name="textAreaRight" fmla="*/ 1409400 w 14191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00870" h="21600">
                <a:moveTo>
                  <a:pt x="0" y="0"/>
                </a:moveTo>
                <a:lnTo>
                  <a:pt x="200870" y="0"/>
                </a:lnTo>
                <a:lnTo>
                  <a:pt x="200870" y="21600"/>
                </a:lnTo>
                <a:lnTo>
                  <a:pt x="0" y="21600"/>
                </a:lnTo>
                <a:close/>
              </a:path>
              <a:path fill="lightenLess" w="200870" h="21600">
                <a:moveTo>
                  <a:pt x="0" y="0"/>
                </a:moveTo>
                <a:lnTo>
                  <a:pt x="200870" y="0"/>
                </a:lnTo>
                <a:lnTo>
                  <a:pt x="199470" y="1400"/>
                </a:lnTo>
                <a:lnTo>
                  <a:pt x="1400" y="1400"/>
                </a:lnTo>
                <a:close/>
              </a:path>
              <a:path fill="darken" w="200870" h="21600">
                <a:moveTo>
                  <a:pt x="200870" y="0"/>
                </a:moveTo>
                <a:lnTo>
                  <a:pt x="200870" y="21600"/>
                </a:lnTo>
                <a:lnTo>
                  <a:pt x="199470" y="20200"/>
                </a:lnTo>
                <a:lnTo>
                  <a:pt x="199470" y="1400"/>
                </a:lnTo>
                <a:close/>
              </a:path>
              <a:path fill="darkenLess" w="200870" h="21600">
                <a:moveTo>
                  <a:pt x="20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9470" y="20200"/>
                </a:lnTo>
                <a:close/>
              </a:path>
              <a:path fill="lighten" w="20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Arial Unicode MS"/>
              </a:rPr>
              <a:t>Practice Slide Transit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How to Make A New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819520"/>
            <a:ext cx="289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2895480"/>
            <a:ext cx="3800520" cy="2105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16765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r two methods that are easy for you to re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5334120" y="32767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 Unicode MS"/>
              </a:rPr>
              <a:t>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811548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1981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window where you dictate how your slide transitions to the next. The following slide describes each fun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66212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rId2" action="ppaction://hlinksldjump"/>
          </p:cNvPr>
          <p:cNvSpPr/>
          <p:nvPr/>
        </p:nvSpPr>
        <p:spPr>
          <a:xfrm>
            <a:off x="914400" y="35053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19240" y="2933640"/>
            <a:ext cx="38124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380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"/>
              </a:rPr>
              <a:t>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261936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down 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66212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68" name="">
            <a:hlinkClick r:id="rId2" action="ppaction://hlinksldjump"/>
          </p:cNvPr>
          <p:cNvSpPr/>
          <p:nvPr/>
        </p:nvSpPr>
        <p:spPr>
          <a:xfrm>
            <a:off x="914400" y="35053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0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"/>
              </a:rPr>
              <a:t>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261936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down 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Blinds 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914400" y="320040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66212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rId2" action="ppaction://hlinksldjump"/>
          </p:cNvPr>
          <p:cNvSpPr/>
          <p:nvPr/>
        </p:nvSpPr>
        <p:spPr>
          <a:xfrm>
            <a:off x="914400" y="35053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80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"/>
              </a:rPr>
              <a:t>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261936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down 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Blinds 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914400" y="320040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95560" y="4052880"/>
            <a:ext cx="524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pply this transition to JUST this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2895480" y="2209680"/>
            <a:ext cx="771480" cy="228600"/>
          </a:xfrm>
          <a:custGeom>
            <a:avLst/>
            <a:gdLst>
              <a:gd name="textAreaLeft" fmla="*/ 14760 w 771480"/>
              <a:gd name="textAreaRight" fmla="*/ 756720 w 771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2815" h="21600">
                <a:moveTo>
                  <a:pt x="0" y="0"/>
                </a:moveTo>
                <a:lnTo>
                  <a:pt x="72815" y="0"/>
                </a:lnTo>
                <a:lnTo>
                  <a:pt x="72815" y="21600"/>
                </a:lnTo>
                <a:lnTo>
                  <a:pt x="0" y="21600"/>
                </a:lnTo>
                <a:close/>
              </a:path>
              <a:path fill="lightenLess" w="72815" h="21600">
                <a:moveTo>
                  <a:pt x="0" y="0"/>
                </a:moveTo>
                <a:lnTo>
                  <a:pt x="72815" y="0"/>
                </a:lnTo>
                <a:lnTo>
                  <a:pt x="71415" y="1400"/>
                </a:lnTo>
                <a:lnTo>
                  <a:pt x="1400" y="1400"/>
                </a:lnTo>
                <a:close/>
              </a:path>
              <a:path fill="darken" w="72815" h="21600">
                <a:moveTo>
                  <a:pt x="72815" y="0"/>
                </a:moveTo>
                <a:lnTo>
                  <a:pt x="72815" y="21600"/>
                </a:lnTo>
                <a:lnTo>
                  <a:pt x="71415" y="20200"/>
                </a:lnTo>
                <a:lnTo>
                  <a:pt x="71415" y="1400"/>
                </a:lnTo>
                <a:close/>
              </a:path>
              <a:path fill="darkenLess" w="72815" h="21600">
                <a:moveTo>
                  <a:pt x="72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15" y="20200"/>
                </a:lnTo>
                <a:close/>
              </a:path>
              <a:path fill="lighten" w="72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66212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82" name="">
            <a:hlinkClick r:id="rId2" action="ppaction://hlinksldjump"/>
          </p:cNvPr>
          <p:cNvSpPr/>
          <p:nvPr/>
        </p:nvSpPr>
        <p:spPr>
          <a:xfrm>
            <a:off x="914400" y="35053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380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"/>
              </a:rPr>
              <a:t>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61936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down 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Blinds 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914400" y="320040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95560" y="4052880"/>
            <a:ext cx="524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pply this transition to JUST this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2895480" y="2209680"/>
            <a:ext cx="771480" cy="228600"/>
          </a:xfrm>
          <a:custGeom>
            <a:avLst/>
            <a:gdLst>
              <a:gd name="textAreaLeft" fmla="*/ 14760 w 771480"/>
              <a:gd name="textAreaRight" fmla="*/ 756720 w 771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2815" h="21600">
                <a:moveTo>
                  <a:pt x="0" y="0"/>
                </a:moveTo>
                <a:lnTo>
                  <a:pt x="72815" y="0"/>
                </a:lnTo>
                <a:lnTo>
                  <a:pt x="72815" y="21600"/>
                </a:lnTo>
                <a:lnTo>
                  <a:pt x="0" y="21600"/>
                </a:lnTo>
                <a:close/>
              </a:path>
              <a:path fill="lightenLess" w="72815" h="21600">
                <a:moveTo>
                  <a:pt x="0" y="0"/>
                </a:moveTo>
                <a:lnTo>
                  <a:pt x="72815" y="0"/>
                </a:lnTo>
                <a:lnTo>
                  <a:pt x="71415" y="1400"/>
                </a:lnTo>
                <a:lnTo>
                  <a:pt x="1400" y="1400"/>
                </a:lnTo>
                <a:close/>
              </a:path>
              <a:path fill="darken" w="72815" h="21600">
                <a:moveTo>
                  <a:pt x="72815" y="0"/>
                </a:moveTo>
                <a:lnTo>
                  <a:pt x="72815" y="21600"/>
                </a:lnTo>
                <a:lnTo>
                  <a:pt x="71415" y="20200"/>
                </a:lnTo>
                <a:lnTo>
                  <a:pt x="71415" y="1400"/>
                </a:lnTo>
                <a:close/>
              </a:path>
              <a:path fill="darkenLess" w="72815" h="21600">
                <a:moveTo>
                  <a:pt x="72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15" y="20200"/>
                </a:lnTo>
                <a:close/>
              </a:path>
              <a:path fill="lighten" w="72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195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o 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pply this transition to every slide in your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2895480" y="1905120"/>
            <a:ext cx="771480" cy="304560"/>
          </a:xfrm>
          <a:custGeom>
            <a:avLst/>
            <a:gdLst>
              <a:gd name="textAreaLeft" fmla="*/ 19440 w 771480"/>
              <a:gd name="textAreaRight" fmla="*/ 752040 w 771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676" h="21600">
                <a:moveTo>
                  <a:pt x="0" y="0"/>
                </a:moveTo>
                <a:lnTo>
                  <a:pt x="54676" y="0"/>
                </a:lnTo>
                <a:lnTo>
                  <a:pt x="54676" y="21600"/>
                </a:lnTo>
                <a:lnTo>
                  <a:pt x="0" y="21600"/>
                </a:lnTo>
                <a:close/>
              </a:path>
              <a:path fill="lightenLess" w="54676" h="21600">
                <a:moveTo>
                  <a:pt x="0" y="0"/>
                </a:moveTo>
                <a:lnTo>
                  <a:pt x="54676" y="0"/>
                </a:lnTo>
                <a:lnTo>
                  <a:pt x="53276" y="1400"/>
                </a:lnTo>
                <a:lnTo>
                  <a:pt x="1400" y="1400"/>
                </a:lnTo>
                <a:close/>
              </a:path>
              <a:path fill="darken" w="54676" h="21600">
                <a:moveTo>
                  <a:pt x="54676" y="0"/>
                </a:moveTo>
                <a:lnTo>
                  <a:pt x="54676" y="21600"/>
                </a:lnTo>
                <a:lnTo>
                  <a:pt x="53276" y="20200"/>
                </a:lnTo>
                <a:lnTo>
                  <a:pt x="53276" y="1400"/>
                </a:lnTo>
                <a:close/>
              </a:path>
              <a:path fill="darkenLess" w="54676" h="21600">
                <a:moveTo>
                  <a:pt x="54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76" y="20200"/>
                </a:lnTo>
                <a:close/>
              </a:path>
              <a:path fill="lighten" w="54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971800" cy="29242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762120" y="5105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will preview itself when 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rId3" action="ppaction://hlinksldjump"/>
          </p:cNvPr>
          <p:cNvSpPr/>
          <p:nvPr/>
        </p:nvSpPr>
        <p:spPr>
          <a:xfrm>
            <a:off x="7924680" y="6019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 Unicode MS"/>
              </a:rPr>
              <a:t>Other 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rId3" action="ppaction://hlinksldjump"/>
          </p:cNvPr>
          <p:cNvSpPr/>
          <p:nvPr/>
        </p:nvSpPr>
        <p:spPr>
          <a:xfrm>
            <a:off x="811548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43400" y="1371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w, Medium or F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termine th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24382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mouse cl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ke the slide appear when the viewer clicks the 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3971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ally 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ke the slide transition automat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43400" y="5159520"/>
            <a:ext cx="37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nter the amount of time when this should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505320"/>
            <a:ext cx="1981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4038480"/>
            <a:ext cx="1143000" cy="370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14400" y="4249800"/>
            <a:ext cx="1143000" cy="315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4408560"/>
            <a:ext cx="1447920" cy="496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066680" y="569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Click here to review this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6058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sound when slide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52680" y="4038480"/>
            <a:ext cx="542880" cy="370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 Unicode MS"/>
              </a:rPr>
              <a:t>Other 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511" name="">
            <a:hlinkClick r:id="rId3" action="ppaction://hlinksldjump"/>
          </p:cNvPr>
          <p:cNvSpPr/>
          <p:nvPr/>
        </p:nvSpPr>
        <p:spPr>
          <a:xfrm>
            <a:off x="811548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43400" y="1371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w, Medium or F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termine th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24382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mouse cl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ke the slide appear when the viewer clicks the 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971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ally 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ke the slide transition automat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5159520"/>
            <a:ext cx="37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nter the amount of time when this should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3505320"/>
            <a:ext cx="1981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4038480"/>
            <a:ext cx="1143000" cy="370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4249800"/>
            <a:ext cx="1143000" cy="315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4400" y="4408560"/>
            <a:ext cx="1447920" cy="496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43400" y="6058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sound when slide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4038480"/>
            <a:ext cx="542880" cy="370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reating Animation on each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1766880"/>
            <a:ext cx="776952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ion is how the text and pictures appear on each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ch for some of the pos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S01180_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1981440" cy="1633320"/>
          </a:xfrm>
          <a:prstGeom prst="rect">
            <a:avLst/>
          </a:prstGeom>
          <a:ln w="0">
            <a:noFill/>
          </a:ln>
        </p:spPr>
      </p:pic>
      <p:pic>
        <p:nvPicPr>
          <p:cNvPr id="530" name="PE00222_" descr=""/>
          <p:cNvPicPr/>
          <p:nvPr/>
        </p:nvPicPr>
        <p:blipFill>
          <a:blip r:embed="rId5"/>
          <a:stretch/>
        </p:blipFill>
        <p:spPr>
          <a:xfrm>
            <a:off x="6669000" y="3200400"/>
            <a:ext cx="1938600" cy="2514600"/>
          </a:xfrm>
          <a:prstGeom prst="rect">
            <a:avLst/>
          </a:prstGeom>
          <a:ln w="0">
            <a:noFill/>
          </a:ln>
        </p:spPr>
      </p:pic>
      <p:pic>
        <p:nvPicPr>
          <p:cNvPr id="531" name="BD07248_" descr=""/>
          <p:cNvPicPr/>
          <p:nvPr/>
        </p:nvPicPr>
        <p:blipFill>
          <a:blip r:embed="rId6"/>
          <a:stretch/>
        </p:blipFill>
        <p:spPr>
          <a:xfrm>
            <a:off x="3697200" y="3571920"/>
            <a:ext cx="1596960" cy="17953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3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reating Ani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3928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Slide Show 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lect Custom Anima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nextslide"/>
          </p:cNvPr>
          <p:cNvSpPr/>
          <p:nvPr/>
        </p:nvSpPr>
        <p:spPr>
          <a:xfrm>
            <a:off x="7467480" y="5791320"/>
            <a:ext cx="762120" cy="317520"/>
          </a:xfrm>
          <a:custGeom>
            <a:avLst/>
            <a:gdLst>
              <a:gd name="textAreaLeft" fmla="*/ 20520 w 762120"/>
              <a:gd name="textAreaRight" fmla="*/ 741600 w 76212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51811" h="21600">
                <a:moveTo>
                  <a:pt x="0" y="0"/>
                </a:moveTo>
                <a:lnTo>
                  <a:pt x="51811" y="0"/>
                </a:lnTo>
                <a:lnTo>
                  <a:pt x="51811" y="21600"/>
                </a:lnTo>
                <a:lnTo>
                  <a:pt x="0" y="21600"/>
                </a:lnTo>
                <a:close/>
              </a:path>
              <a:path fill="lightenLess" w="51811" h="21600">
                <a:moveTo>
                  <a:pt x="0" y="0"/>
                </a:moveTo>
                <a:lnTo>
                  <a:pt x="51811" y="0"/>
                </a:lnTo>
                <a:lnTo>
                  <a:pt x="50411" y="1400"/>
                </a:lnTo>
                <a:lnTo>
                  <a:pt x="1400" y="1400"/>
                </a:lnTo>
                <a:close/>
              </a:path>
              <a:path fill="darken" w="51811" h="21600">
                <a:moveTo>
                  <a:pt x="51811" y="0"/>
                </a:moveTo>
                <a:lnTo>
                  <a:pt x="51811" y="21600"/>
                </a:lnTo>
                <a:lnTo>
                  <a:pt x="50411" y="20200"/>
                </a:lnTo>
                <a:lnTo>
                  <a:pt x="50411" y="1400"/>
                </a:lnTo>
                <a:close/>
              </a:path>
              <a:path fill="darkenLess" w="51811" h="21600">
                <a:moveTo>
                  <a:pt x="51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1" y="20200"/>
                </a:lnTo>
                <a:close/>
              </a:path>
              <a:path fill="lighten" w="51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1" h="21600">
                <a:moveTo>
                  <a:pt x="18899" y="3794"/>
                </a:moveTo>
                <a:lnTo>
                  <a:pt x="32912" y="10800"/>
                </a:lnTo>
                <a:lnTo>
                  <a:pt x="1889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2133720" y="1905120"/>
            <a:ext cx="3819240" cy="6476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5"/>
          <a:stretch/>
        </p:blipFill>
        <p:spPr>
          <a:xfrm>
            <a:off x="4343400" y="2286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4343400" y="3124080"/>
            <a:ext cx="1419120" cy="228600"/>
          </a:xfrm>
          <a:custGeom>
            <a:avLst/>
            <a:gdLst>
              <a:gd name="textAreaLeft" fmla="*/ 14760 w 1419120"/>
              <a:gd name="textAreaRight" fmla="*/ 1404360 w 1419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3913" h="21600">
                <a:moveTo>
                  <a:pt x="0" y="0"/>
                </a:moveTo>
                <a:lnTo>
                  <a:pt x="133913" y="0"/>
                </a:lnTo>
                <a:lnTo>
                  <a:pt x="133913" y="21600"/>
                </a:lnTo>
                <a:lnTo>
                  <a:pt x="0" y="21600"/>
                </a:lnTo>
                <a:close/>
              </a:path>
              <a:path fill="lightenLess" w="133913" h="21600">
                <a:moveTo>
                  <a:pt x="0" y="0"/>
                </a:moveTo>
                <a:lnTo>
                  <a:pt x="133913" y="0"/>
                </a:lnTo>
                <a:lnTo>
                  <a:pt x="132513" y="1400"/>
                </a:lnTo>
                <a:lnTo>
                  <a:pt x="1400" y="1400"/>
                </a:lnTo>
                <a:close/>
              </a:path>
              <a:path fill="darken" w="133913" h="21600">
                <a:moveTo>
                  <a:pt x="133913" y="0"/>
                </a:moveTo>
                <a:lnTo>
                  <a:pt x="133913" y="21600"/>
                </a:lnTo>
                <a:lnTo>
                  <a:pt x="132513" y="20200"/>
                </a:lnTo>
                <a:lnTo>
                  <a:pt x="132513" y="1400"/>
                </a:lnTo>
                <a:close/>
              </a:path>
              <a:path fill="darkenLess" w="133913" h="21600">
                <a:moveTo>
                  <a:pt x="133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513" y="20200"/>
                </a:lnTo>
                <a:close/>
              </a:path>
              <a:path fill="lighten" w="133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3f1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ractice Inserting a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51444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1066680" y="1981080"/>
            <a:ext cx="381240" cy="152640"/>
          </a:xfrm>
          <a:custGeom>
            <a:avLst/>
            <a:gdLst>
              <a:gd name="textAreaLeft" fmla="*/ 9720 w 381240"/>
              <a:gd name="textAreaRight" fmla="*/ 371520 w 38124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53873" h="21600">
                <a:moveTo>
                  <a:pt x="0" y="0"/>
                </a:moveTo>
                <a:lnTo>
                  <a:pt x="53873" y="0"/>
                </a:lnTo>
                <a:lnTo>
                  <a:pt x="53873" y="21600"/>
                </a:lnTo>
                <a:lnTo>
                  <a:pt x="0" y="21600"/>
                </a:lnTo>
                <a:close/>
              </a:path>
              <a:path fill="lightenLess" w="53873" h="21600">
                <a:moveTo>
                  <a:pt x="0" y="0"/>
                </a:moveTo>
                <a:lnTo>
                  <a:pt x="53873" y="0"/>
                </a:lnTo>
                <a:lnTo>
                  <a:pt x="52473" y="1400"/>
                </a:lnTo>
                <a:lnTo>
                  <a:pt x="1400" y="1400"/>
                </a:lnTo>
                <a:close/>
              </a:path>
              <a:path fill="darken" w="53873" h="21600">
                <a:moveTo>
                  <a:pt x="53873" y="0"/>
                </a:moveTo>
                <a:lnTo>
                  <a:pt x="53873" y="21600"/>
                </a:lnTo>
                <a:lnTo>
                  <a:pt x="52473" y="20200"/>
                </a:lnTo>
                <a:lnTo>
                  <a:pt x="52473" y="1400"/>
                </a:lnTo>
                <a:close/>
              </a:path>
              <a:path fill="darkenLess" w="53873" h="21600">
                <a:moveTo>
                  <a:pt x="53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73" y="20200"/>
                </a:lnTo>
                <a:close/>
              </a:path>
              <a:path fill="lighten" w="53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1371600" y="1828800"/>
            <a:ext cx="7772400" cy="533520"/>
          </a:xfrm>
          <a:custGeom>
            <a:avLst/>
            <a:gdLst>
              <a:gd name="textAreaLeft" fmla="*/ 34560 w 7772400"/>
              <a:gd name="textAreaRight" fmla="*/ 7737840 w 7772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14474" h="21600">
                <a:moveTo>
                  <a:pt x="0" y="0"/>
                </a:moveTo>
                <a:lnTo>
                  <a:pt x="314474" y="0"/>
                </a:lnTo>
                <a:lnTo>
                  <a:pt x="314474" y="21600"/>
                </a:lnTo>
                <a:lnTo>
                  <a:pt x="0" y="21600"/>
                </a:lnTo>
                <a:close/>
              </a:path>
              <a:path fill="lightenLess" w="314474" h="21600">
                <a:moveTo>
                  <a:pt x="0" y="0"/>
                </a:moveTo>
                <a:lnTo>
                  <a:pt x="314474" y="0"/>
                </a:lnTo>
                <a:lnTo>
                  <a:pt x="313075" y="1400"/>
                </a:lnTo>
                <a:lnTo>
                  <a:pt x="1400" y="1400"/>
                </a:lnTo>
                <a:close/>
              </a:path>
              <a:path fill="darken" w="314474" h="21600">
                <a:moveTo>
                  <a:pt x="314474" y="0"/>
                </a:moveTo>
                <a:lnTo>
                  <a:pt x="314474" y="21600"/>
                </a:lnTo>
                <a:lnTo>
                  <a:pt x="313075" y="20200"/>
                </a:lnTo>
                <a:lnTo>
                  <a:pt x="313075" y="1400"/>
                </a:lnTo>
                <a:close/>
              </a:path>
              <a:path fill="darkenLess" w="314474" h="21600">
                <a:moveTo>
                  <a:pt x="314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075" y="20200"/>
                </a:lnTo>
                <a:close/>
              </a:path>
              <a:path fill="lighten" w="314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228600" y="1828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1371600" y="1828800"/>
            <a:ext cx="7772400" cy="533520"/>
          </a:xfrm>
          <a:custGeom>
            <a:avLst/>
            <a:gdLst>
              <a:gd name="textAreaLeft" fmla="*/ 34560 w 7772400"/>
              <a:gd name="textAreaRight" fmla="*/ 7737840 w 7772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14474" h="21600">
                <a:moveTo>
                  <a:pt x="0" y="0"/>
                </a:moveTo>
                <a:lnTo>
                  <a:pt x="314474" y="0"/>
                </a:lnTo>
                <a:lnTo>
                  <a:pt x="314474" y="21600"/>
                </a:lnTo>
                <a:lnTo>
                  <a:pt x="0" y="21600"/>
                </a:lnTo>
                <a:close/>
              </a:path>
              <a:path fill="lightenLess" w="314474" h="21600">
                <a:moveTo>
                  <a:pt x="0" y="0"/>
                </a:moveTo>
                <a:lnTo>
                  <a:pt x="314474" y="0"/>
                </a:lnTo>
                <a:lnTo>
                  <a:pt x="313075" y="1400"/>
                </a:lnTo>
                <a:lnTo>
                  <a:pt x="1400" y="1400"/>
                </a:lnTo>
                <a:close/>
              </a:path>
              <a:path fill="darken" w="314474" h="21600">
                <a:moveTo>
                  <a:pt x="314474" y="0"/>
                </a:moveTo>
                <a:lnTo>
                  <a:pt x="314474" y="21600"/>
                </a:lnTo>
                <a:lnTo>
                  <a:pt x="313075" y="20200"/>
                </a:lnTo>
                <a:lnTo>
                  <a:pt x="313075" y="1400"/>
                </a:lnTo>
                <a:close/>
              </a:path>
              <a:path fill="darkenLess" w="314474" h="21600">
                <a:moveTo>
                  <a:pt x="314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075" y="20200"/>
                </a:lnTo>
                <a:close/>
              </a:path>
              <a:path fill="lighten" w="314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5" action="ppaction://hlinksldjump"/>
          </p:cNvPr>
          <p:cNvSpPr/>
          <p:nvPr/>
        </p:nvSpPr>
        <p:spPr>
          <a:xfrm>
            <a:off x="228600" y="1828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ractice Creating Ani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3819240" cy="6476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rId2" action="ppaction://hlinksldjump"/>
          </p:cNvPr>
          <p:cNvSpPr/>
          <p:nvPr/>
        </p:nvSpPr>
        <p:spPr>
          <a:xfrm>
            <a:off x="4267080" y="20574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380880" y="62485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16756" y="10800"/>
                </a:moveTo>
                <a:lnTo>
                  <a:pt x="30769" y="3794"/>
                </a:lnTo>
                <a:lnTo>
                  <a:pt x="3076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>
            <a:hlinkClick r:id="rId3" action="ppaction://hlinksldjump"/>
          </p:cNvPr>
          <p:cNvSpPr/>
          <p:nvPr/>
        </p:nvSpPr>
        <p:spPr>
          <a:xfrm>
            <a:off x="2133720" y="2057400"/>
            <a:ext cx="2133360" cy="495360"/>
          </a:xfrm>
          <a:custGeom>
            <a:avLst/>
            <a:gdLst>
              <a:gd name="textAreaLeft" fmla="*/ 32040 w 2133360"/>
              <a:gd name="textAreaRight" fmla="*/ 2101320 w 2133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2973" h="21600">
                <a:moveTo>
                  <a:pt x="0" y="0"/>
                </a:moveTo>
                <a:lnTo>
                  <a:pt x="92973" y="0"/>
                </a:lnTo>
                <a:lnTo>
                  <a:pt x="92973" y="21600"/>
                </a:lnTo>
                <a:lnTo>
                  <a:pt x="0" y="21600"/>
                </a:lnTo>
                <a:close/>
              </a:path>
              <a:path fill="lightenLess" w="92973" h="21600">
                <a:moveTo>
                  <a:pt x="0" y="0"/>
                </a:moveTo>
                <a:lnTo>
                  <a:pt x="92973" y="0"/>
                </a:lnTo>
                <a:lnTo>
                  <a:pt x="91573" y="1400"/>
                </a:lnTo>
                <a:lnTo>
                  <a:pt x="1400" y="1400"/>
                </a:lnTo>
                <a:close/>
              </a:path>
              <a:path fill="darken" w="92973" h="21600">
                <a:moveTo>
                  <a:pt x="92973" y="0"/>
                </a:moveTo>
                <a:lnTo>
                  <a:pt x="92973" y="21600"/>
                </a:lnTo>
                <a:lnTo>
                  <a:pt x="91573" y="20200"/>
                </a:lnTo>
                <a:lnTo>
                  <a:pt x="91573" y="1400"/>
                </a:lnTo>
                <a:close/>
              </a:path>
              <a:path fill="darkenLess" w="92973" h="21600">
                <a:moveTo>
                  <a:pt x="92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573" y="20200"/>
                </a:lnTo>
                <a:close/>
              </a:path>
              <a:path fill="lighten" w="92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4952880" y="1905120"/>
            <a:ext cx="1000080" cy="647640"/>
          </a:xfrm>
          <a:custGeom>
            <a:avLst/>
            <a:gdLst>
              <a:gd name="textAreaLeft" fmla="*/ 41760 w 1000080"/>
              <a:gd name="textAreaRight" fmla="*/ 958320 w 1000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348" h="21600">
                <a:moveTo>
                  <a:pt x="0" y="0"/>
                </a:moveTo>
                <a:lnTo>
                  <a:pt x="33348" y="0"/>
                </a:lnTo>
                <a:lnTo>
                  <a:pt x="33348" y="21600"/>
                </a:lnTo>
                <a:lnTo>
                  <a:pt x="0" y="21600"/>
                </a:lnTo>
                <a:close/>
              </a:path>
              <a:path fill="lightenLess" w="33348" h="21600">
                <a:moveTo>
                  <a:pt x="0" y="0"/>
                </a:moveTo>
                <a:lnTo>
                  <a:pt x="33348" y="0"/>
                </a:lnTo>
                <a:lnTo>
                  <a:pt x="31948" y="1400"/>
                </a:lnTo>
                <a:lnTo>
                  <a:pt x="1400" y="1400"/>
                </a:lnTo>
                <a:close/>
              </a:path>
              <a:path fill="darken" w="33348" h="21600">
                <a:moveTo>
                  <a:pt x="33348" y="0"/>
                </a:moveTo>
                <a:lnTo>
                  <a:pt x="33348" y="21600"/>
                </a:lnTo>
                <a:lnTo>
                  <a:pt x="31948" y="20200"/>
                </a:lnTo>
                <a:lnTo>
                  <a:pt x="31948" y="1400"/>
                </a:lnTo>
                <a:close/>
              </a:path>
              <a:path fill="darkenLess" w="33348" h="21600">
                <a:moveTo>
                  <a:pt x="3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48" y="20200"/>
                </a:lnTo>
                <a:close/>
              </a:path>
              <a:path fill="lighten" w="3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ractice Creating Ani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3819240" cy="6476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4343400" y="2286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48" name="">
            <a:hlinkClick r:id="rId3" action="ppaction://hlinksldjump"/>
          </p:cNvPr>
          <p:cNvSpPr/>
          <p:nvPr/>
        </p:nvSpPr>
        <p:spPr>
          <a:xfrm>
            <a:off x="4343400" y="3124080"/>
            <a:ext cx="1419120" cy="228600"/>
          </a:xfrm>
          <a:custGeom>
            <a:avLst/>
            <a:gdLst>
              <a:gd name="textAreaLeft" fmla="*/ 14760 w 1419120"/>
              <a:gd name="textAreaRight" fmla="*/ 1404360 w 1419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3913" h="21600">
                <a:moveTo>
                  <a:pt x="0" y="0"/>
                </a:moveTo>
                <a:lnTo>
                  <a:pt x="133913" y="0"/>
                </a:lnTo>
                <a:lnTo>
                  <a:pt x="133913" y="21600"/>
                </a:lnTo>
                <a:lnTo>
                  <a:pt x="0" y="21600"/>
                </a:lnTo>
                <a:close/>
              </a:path>
              <a:path fill="lightenLess" w="133913" h="21600">
                <a:moveTo>
                  <a:pt x="0" y="0"/>
                </a:moveTo>
                <a:lnTo>
                  <a:pt x="133913" y="0"/>
                </a:lnTo>
                <a:lnTo>
                  <a:pt x="132513" y="1400"/>
                </a:lnTo>
                <a:lnTo>
                  <a:pt x="1400" y="1400"/>
                </a:lnTo>
                <a:close/>
              </a:path>
              <a:path fill="darken" w="133913" h="21600">
                <a:moveTo>
                  <a:pt x="133913" y="0"/>
                </a:moveTo>
                <a:lnTo>
                  <a:pt x="133913" y="21600"/>
                </a:lnTo>
                <a:lnTo>
                  <a:pt x="132513" y="20200"/>
                </a:lnTo>
                <a:lnTo>
                  <a:pt x="132513" y="1400"/>
                </a:lnTo>
                <a:close/>
              </a:path>
              <a:path fill="darkenLess" w="133913" h="21600">
                <a:moveTo>
                  <a:pt x="133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513" y="20200"/>
                </a:lnTo>
                <a:close/>
              </a:path>
              <a:path fill="lighten" w="133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rId4" action="ppaction://hlinksldjump"/>
          </p:cNvPr>
          <p:cNvSpPr/>
          <p:nvPr/>
        </p:nvSpPr>
        <p:spPr>
          <a:xfrm>
            <a:off x="4343400" y="3352680"/>
            <a:ext cx="1419120" cy="152640"/>
          </a:xfrm>
          <a:custGeom>
            <a:avLst/>
            <a:gdLst>
              <a:gd name="textAreaLeft" fmla="*/ 9720 w 1419120"/>
              <a:gd name="textAreaRight" fmla="*/ 1409400 w 14191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0397" h="21600">
                <a:moveTo>
                  <a:pt x="0" y="0"/>
                </a:moveTo>
                <a:lnTo>
                  <a:pt x="200397" y="0"/>
                </a:lnTo>
                <a:lnTo>
                  <a:pt x="200397" y="21600"/>
                </a:lnTo>
                <a:lnTo>
                  <a:pt x="0" y="21600"/>
                </a:lnTo>
                <a:close/>
              </a:path>
              <a:path fill="lightenLess" w="200397" h="21600">
                <a:moveTo>
                  <a:pt x="0" y="0"/>
                </a:moveTo>
                <a:lnTo>
                  <a:pt x="200397" y="0"/>
                </a:lnTo>
                <a:lnTo>
                  <a:pt x="198997" y="1400"/>
                </a:lnTo>
                <a:lnTo>
                  <a:pt x="1400" y="1400"/>
                </a:lnTo>
                <a:close/>
              </a:path>
              <a:path fill="darken" w="200397" h="21600">
                <a:moveTo>
                  <a:pt x="200397" y="0"/>
                </a:moveTo>
                <a:lnTo>
                  <a:pt x="200397" y="21600"/>
                </a:lnTo>
                <a:lnTo>
                  <a:pt x="198997" y="20200"/>
                </a:lnTo>
                <a:lnTo>
                  <a:pt x="198997" y="1400"/>
                </a:lnTo>
                <a:close/>
              </a:path>
              <a:path fill="darkenLess" w="200397" h="21600">
                <a:moveTo>
                  <a:pt x="200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997" y="20200"/>
                </a:lnTo>
                <a:close/>
              </a:path>
              <a:path fill="lighten" w="200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t qu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5840" y="1523520"/>
            <a:ext cx="77695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member, you want to change the way the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SLIDE SHOW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pp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2" action="ppaction://hlinksldjump"/>
          </p:cNvPr>
          <p:cNvSpPr/>
          <p:nvPr/>
        </p:nvSpPr>
        <p:spPr>
          <a:xfrm>
            <a:off x="12193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3" action="ppaction://hlinksldjump"/>
          </p:cNvPr>
          <p:cNvSpPr/>
          <p:nvPr/>
        </p:nvSpPr>
        <p:spPr>
          <a:xfrm>
            <a:off x="51055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006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 to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3716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BD19550_" descr=""/>
          <p:cNvPicPr/>
          <p:nvPr/>
        </p:nvPicPr>
        <p:blipFill>
          <a:blip r:embed="rId4"/>
          <a:stretch/>
        </p:blipFill>
        <p:spPr>
          <a:xfrm>
            <a:off x="2819520" y="2867040"/>
            <a:ext cx="26668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t qu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5840" y="1523520"/>
            <a:ext cx="77695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lide transition is how the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appear. We want to change how the objects on the slides are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an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9536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3" action="ppaction://hlinksldjump"/>
          </p:cNvPr>
          <p:cNvSpPr/>
          <p:nvPr/>
        </p:nvSpPr>
        <p:spPr>
          <a:xfrm>
            <a:off x="62485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89520" y="5791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 to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536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BD19561_" descr=""/>
          <p:cNvPicPr/>
          <p:nvPr/>
        </p:nvPicPr>
        <p:blipFill>
          <a:blip r:embed="rId4"/>
          <a:stretch/>
        </p:blipFill>
        <p:spPr>
          <a:xfrm>
            <a:off x="2971800" y="3122640"/>
            <a:ext cx="22795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j0078795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1800360" cy="33037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28600" y="1211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at you know how to find it, lets see what it can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" action="ppaction://hlinkshowjump?jump=nextslide"/>
          </p:cNvPr>
          <p:cNvSpPr/>
          <p:nvPr/>
        </p:nvSpPr>
        <p:spPr>
          <a:xfrm>
            <a:off x="7696080" y="58672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Ordering &amp; Timing Tab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options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38160" y="1676520"/>
            <a:ext cx="4762440" cy="32763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4952880" y="17384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you need to select the items to animate. Click on box next to item to an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160" y="2971800"/>
            <a:ext cx="12193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09680" y="3564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09680" y="403848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14800" y="2514600"/>
            <a:ext cx="6858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52880" y="49528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on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revie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to see you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52880" y="324468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click on the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arrows to choose the order of entry for your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160" y="1965240"/>
            <a:ext cx="609480" cy="639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380880" y="1771560"/>
            <a:ext cx="4772160" cy="33148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05920"/>
            <a:ext cx="57913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Effects tab option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10080" y="1676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tem to an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10080" y="2682720"/>
            <a:ext cx="358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down arrow under Entry animation and sound to 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is to be ani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880" y="2133720"/>
            <a:ext cx="45720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3051000"/>
            <a:ext cx="609480" cy="6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365760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34120" y="508644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Preview to see how your choices will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593800"/>
            <a:ext cx="106704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4772160" cy="33148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5334120" y="3051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add a sound when animating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71800" y="403848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4120" y="200016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change how your text appears on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95680" y="3638520"/>
            <a:ext cx="457200" cy="399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971800" y="457200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4120" y="41767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dictate what happens to your object after it appears on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 Unicode MS"/>
              </a:rPr>
              <a:t>More ways to animate on the Effects tab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6" name="">
            <a:hlinkClick r:id="rId2" action="ppaction://hlinksldjump"/>
          </p:cNvPr>
          <p:cNvSpPr/>
          <p:nvPr/>
        </p:nvSpPr>
        <p:spPr>
          <a:xfrm>
            <a:off x="2971800" y="4038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rId3" action="ppaction://hlinksldjump"/>
          </p:cNvPr>
          <p:cNvSpPr/>
          <p:nvPr/>
        </p:nvSpPr>
        <p:spPr>
          <a:xfrm>
            <a:off x="29718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rId4" action="ppaction://hlinksldjump"/>
          </p:cNvPr>
          <p:cNvSpPr/>
          <p:nvPr/>
        </p:nvSpPr>
        <p:spPr>
          <a:xfrm>
            <a:off x="4495680" y="3638520"/>
            <a:ext cx="457200" cy="399960"/>
          </a:xfrm>
          <a:custGeom>
            <a:avLst/>
            <a:gdLst>
              <a:gd name="textAreaLeft" fmla="*/ 25920 w 457200"/>
              <a:gd name="textAreaRight" fmla="*/ 431280 w 45720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9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9" y="20200"/>
                </a:lnTo>
                <a:lnTo>
                  <a:pt x="23289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9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480" y="6095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have tried all three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4772160" cy="331488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5334120" y="3051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preset sound or import you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More ways to animate sou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585720" y="2895480"/>
            <a:ext cx="2657520" cy="1400400"/>
          </a:xfrm>
          <a:prstGeom prst="rect">
            <a:avLst/>
          </a:prstGeom>
          <a:ln w="0">
            <a:noFill/>
          </a:ln>
        </p:spPr>
      </p:pic>
      <p:sp>
        <p:nvSpPr>
          <p:cNvPr id="604" name="">
            <a:hlinkClick r:id="rId3" action="ppaction://hlinksldjump"/>
          </p:cNvPr>
          <p:cNvSpPr/>
          <p:nvPr/>
        </p:nvSpPr>
        <p:spPr>
          <a:xfrm>
            <a:off x="228600" y="63244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8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8" y="20200"/>
                </a:lnTo>
                <a:lnTo>
                  <a:pt x="58998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8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98" h="21600">
                <a:moveTo>
                  <a:pt x="23193" y="10800"/>
                </a:moveTo>
                <a:lnTo>
                  <a:pt x="37206" y="3794"/>
                </a:lnTo>
                <a:lnTo>
                  <a:pt x="37206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4772160" cy="33148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5715000" y="3808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eature lets you decide what to d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More ways to anim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8" name="">
            <a:hlinkClick r:id="rId2" action="ppaction://hlinksldjump"/>
          </p:cNvPr>
          <p:cNvSpPr/>
          <p:nvPr/>
        </p:nvSpPr>
        <p:spPr>
          <a:xfrm>
            <a:off x="228600" y="63244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59" h="21600">
                <a:moveTo>
                  <a:pt x="16723" y="10800"/>
                </a:moveTo>
                <a:lnTo>
                  <a:pt x="30736" y="3794"/>
                </a:lnTo>
                <a:lnTo>
                  <a:pt x="30736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1523880" y="3429000"/>
            <a:ext cx="1619280" cy="140976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5334120" y="23479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ing a color will change the color of the text to your choice after it appears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44276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your selection disappear after it appeared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743200" y="4343400"/>
            <a:ext cx="2743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971440" y="2590920"/>
            <a:ext cx="25146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561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e on Next mouse click makes your selection disappear after it appeared on the next mouse click. This feature will not work in Kiosk M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2514240" y="4838760"/>
            <a:ext cx="2286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34120" y="4114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e after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51444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1066680" y="1981080"/>
            <a:ext cx="381240" cy="152640"/>
          </a:xfrm>
          <a:custGeom>
            <a:avLst/>
            <a:gdLst>
              <a:gd name="textAreaLeft" fmla="*/ 9720 w 381240"/>
              <a:gd name="textAreaRight" fmla="*/ 371520 w 38124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53873" h="21600">
                <a:moveTo>
                  <a:pt x="0" y="0"/>
                </a:moveTo>
                <a:lnTo>
                  <a:pt x="53873" y="0"/>
                </a:lnTo>
                <a:lnTo>
                  <a:pt x="53873" y="21600"/>
                </a:lnTo>
                <a:lnTo>
                  <a:pt x="0" y="21600"/>
                </a:lnTo>
                <a:close/>
              </a:path>
              <a:path fill="lightenLess" w="53873" h="21600">
                <a:moveTo>
                  <a:pt x="0" y="0"/>
                </a:moveTo>
                <a:lnTo>
                  <a:pt x="53873" y="0"/>
                </a:lnTo>
                <a:lnTo>
                  <a:pt x="52473" y="1400"/>
                </a:lnTo>
                <a:lnTo>
                  <a:pt x="1400" y="1400"/>
                </a:lnTo>
                <a:close/>
              </a:path>
              <a:path fill="darken" w="53873" h="21600">
                <a:moveTo>
                  <a:pt x="53873" y="0"/>
                </a:moveTo>
                <a:lnTo>
                  <a:pt x="53873" y="21600"/>
                </a:lnTo>
                <a:lnTo>
                  <a:pt x="52473" y="20200"/>
                </a:lnTo>
                <a:lnTo>
                  <a:pt x="52473" y="1400"/>
                </a:lnTo>
                <a:close/>
              </a:path>
              <a:path fill="darkenLess" w="53873" h="21600">
                <a:moveTo>
                  <a:pt x="53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73" y="20200"/>
                </a:lnTo>
                <a:close/>
              </a:path>
              <a:path fill="lighten" w="53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1371600" y="1828800"/>
            <a:ext cx="7772400" cy="533520"/>
          </a:xfrm>
          <a:custGeom>
            <a:avLst/>
            <a:gdLst>
              <a:gd name="textAreaLeft" fmla="*/ 34560 w 7772400"/>
              <a:gd name="textAreaRight" fmla="*/ 7737840 w 7772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14474" h="21600">
                <a:moveTo>
                  <a:pt x="0" y="0"/>
                </a:moveTo>
                <a:lnTo>
                  <a:pt x="314474" y="0"/>
                </a:lnTo>
                <a:lnTo>
                  <a:pt x="314474" y="21600"/>
                </a:lnTo>
                <a:lnTo>
                  <a:pt x="0" y="21600"/>
                </a:lnTo>
                <a:close/>
              </a:path>
              <a:path fill="lightenLess" w="314474" h="21600">
                <a:moveTo>
                  <a:pt x="0" y="0"/>
                </a:moveTo>
                <a:lnTo>
                  <a:pt x="314474" y="0"/>
                </a:lnTo>
                <a:lnTo>
                  <a:pt x="313075" y="1400"/>
                </a:lnTo>
                <a:lnTo>
                  <a:pt x="1400" y="1400"/>
                </a:lnTo>
                <a:close/>
              </a:path>
              <a:path fill="darken" w="314474" h="21600">
                <a:moveTo>
                  <a:pt x="314474" y="0"/>
                </a:moveTo>
                <a:lnTo>
                  <a:pt x="314474" y="21600"/>
                </a:lnTo>
                <a:lnTo>
                  <a:pt x="313075" y="20200"/>
                </a:lnTo>
                <a:lnTo>
                  <a:pt x="313075" y="1400"/>
                </a:lnTo>
                <a:close/>
              </a:path>
              <a:path fill="darkenLess" w="314474" h="21600">
                <a:moveTo>
                  <a:pt x="314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075" y="20200"/>
                </a:lnTo>
                <a:close/>
              </a:path>
              <a:path fill="lighten" w="314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228600" y="1828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28600" y="1828800"/>
            <a:ext cx="3828960" cy="13716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1295280" y="2133720"/>
            <a:ext cx="1447920" cy="152280"/>
          </a:xfrm>
          <a:custGeom>
            <a:avLst/>
            <a:gdLst>
              <a:gd name="textAreaLeft" fmla="*/ 9720 w 1447920"/>
              <a:gd name="textAreaRight" fmla="*/ 1438200 w 1447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04945" h="21600">
                <a:moveTo>
                  <a:pt x="0" y="0"/>
                </a:moveTo>
                <a:lnTo>
                  <a:pt x="204945" y="0"/>
                </a:lnTo>
                <a:lnTo>
                  <a:pt x="204945" y="21600"/>
                </a:lnTo>
                <a:lnTo>
                  <a:pt x="0" y="21600"/>
                </a:lnTo>
                <a:close/>
              </a:path>
              <a:path fill="lightenLess" w="204945" h="21600">
                <a:moveTo>
                  <a:pt x="0" y="0"/>
                </a:moveTo>
                <a:lnTo>
                  <a:pt x="204945" y="0"/>
                </a:lnTo>
                <a:lnTo>
                  <a:pt x="203545" y="1400"/>
                </a:lnTo>
                <a:lnTo>
                  <a:pt x="1400" y="1400"/>
                </a:lnTo>
                <a:close/>
              </a:path>
              <a:path fill="darken" w="204945" h="21600">
                <a:moveTo>
                  <a:pt x="204945" y="0"/>
                </a:moveTo>
                <a:lnTo>
                  <a:pt x="204945" y="21600"/>
                </a:lnTo>
                <a:lnTo>
                  <a:pt x="203545" y="20200"/>
                </a:lnTo>
                <a:lnTo>
                  <a:pt x="203545" y="1400"/>
                </a:lnTo>
                <a:close/>
              </a:path>
              <a:path fill="darkenLess" w="204945" h="21600">
                <a:moveTo>
                  <a:pt x="204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545" y="20200"/>
                </a:lnTo>
                <a:close/>
              </a:path>
              <a:path fill="lighten" w="204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228600" y="2362320"/>
            <a:ext cx="3733920" cy="990360"/>
          </a:xfrm>
          <a:custGeom>
            <a:avLst/>
            <a:gdLst>
              <a:gd name="textAreaLeft" fmla="*/ 64080 w 3733920"/>
              <a:gd name="textAreaRight" fmla="*/ 3669840 w 3733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81416" h="21600">
                <a:moveTo>
                  <a:pt x="0" y="0"/>
                </a:moveTo>
                <a:lnTo>
                  <a:pt x="81416" y="0"/>
                </a:lnTo>
                <a:lnTo>
                  <a:pt x="81416" y="21600"/>
                </a:lnTo>
                <a:lnTo>
                  <a:pt x="0" y="21600"/>
                </a:lnTo>
                <a:close/>
              </a:path>
              <a:path fill="lightenLess" w="81416" h="21600">
                <a:moveTo>
                  <a:pt x="0" y="0"/>
                </a:moveTo>
                <a:lnTo>
                  <a:pt x="81416" y="0"/>
                </a:lnTo>
                <a:lnTo>
                  <a:pt x="80016" y="1400"/>
                </a:lnTo>
                <a:lnTo>
                  <a:pt x="1400" y="1400"/>
                </a:lnTo>
                <a:close/>
              </a:path>
              <a:path fill="darken" w="81416" h="21600">
                <a:moveTo>
                  <a:pt x="81416" y="0"/>
                </a:moveTo>
                <a:lnTo>
                  <a:pt x="81416" y="21600"/>
                </a:lnTo>
                <a:lnTo>
                  <a:pt x="80016" y="20200"/>
                </a:lnTo>
                <a:lnTo>
                  <a:pt x="80016" y="1400"/>
                </a:lnTo>
                <a:close/>
              </a:path>
              <a:path fill="darkenLess" w="81416" h="21600">
                <a:moveTo>
                  <a:pt x="814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016" y="20200"/>
                </a:lnTo>
                <a:close/>
              </a:path>
              <a:path fill="lighten" w="814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ractice Inserting a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4772160" cy="33148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334120" y="3051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how the text is to appear on the scre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More ways to animate tex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0" name="">
            <a:hlinkClick r:id="rId2" action="ppaction://hlinksldjump"/>
          </p:cNvPr>
          <p:cNvSpPr/>
          <p:nvPr/>
        </p:nvSpPr>
        <p:spPr>
          <a:xfrm>
            <a:off x="228600" y="63244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8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8" y="20200"/>
                </a:lnTo>
                <a:lnTo>
                  <a:pt x="58998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8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98" h="21600">
                <a:moveTo>
                  <a:pt x="23193" y="10800"/>
                </a:moveTo>
                <a:lnTo>
                  <a:pt x="37206" y="3794"/>
                </a:lnTo>
                <a:lnTo>
                  <a:pt x="37206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505320" y="3710160"/>
            <a:ext cx="1352520" cy="56196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5715000" y="4043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15000" y="4500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5000" y="495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828440" y="26676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Inserting Pictu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374480" y="2514600"/>
            <a:ext cx="6778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 review how to make a picture a background click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Arial Unicode MS"/>
                <a:hlinkClick r:id="rId3" action="ppaction://hlinksldjump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n, Click on the Inserting Pictures hyperlink at the bottom of the Background page to retur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Making a New Slide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0" lang="en-US" sz="1300" spc="-1" strike="noStrike" u="sng">
                <a:solidFill>
                  <a:srgbClr val="d69b8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Slide Transition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Sound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Tables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Using Hyperlink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Setting up your Slide Show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>
            <a:hlinkClick r:id="" action="ppaction://hlinkshowjump?jump=nextslide"/>
          </p:cNvPr>
          <p:cNvSpPr/>
          <p:nvPr/>
        </p:nvSpPr>
        <p:spPr>
          <a:xfrm>
            <a:off x="7391520" y="5486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24" h="21600">
                <a:moveTo>
                  <a:pt x="19955" y="3794"/>
                </a:moveTo>
                <a:lnTo>
                  <a:pt x="33968" y="10800"/>
                </a:lnTo>
                <a:lnTo>
                  <a:pt x="1995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AG00188_" descr=""/>
          <p:cNvPicPr/>
          <p:nvPr/>
        </p:nvPicPr>
        <p:blipFill>
          <a:blip r:embed="rId21"/>
          <a:stretch/>
        </p:blipFill>
        <p:spPr>
          <a:xfrm>
            <a:off x="3124080" y="4087800"/>
            <a:ext cx="2057400" cy="193212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04920" y="13492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ou can insert pictures from Clip 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r your own can be inserted just like in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Inserting Pictu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495680" y="1980720"/>
            <a:ext cx="4267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on 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rom Clip Art to use pictures from Microsoft’s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rom File to use pictures from your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23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6"/>
          <a:stretch/>
        </p:blipFill>
        <p:spPr>
          <a:xfrm>
            <a:off x="228600" y="1981080"/>
            <a:ext cx="3838680" cy="2409840"/>
          </a:xfrm>
          <a:prstGeom prst="rect">
            <a:avLst/>
          </a:prstGeom>
          <a:ln w="0">
            <a:noFill/>
          </a:ln>
        </p:spPr>
      </p:pic>
      <p:sp>
        <p:nvSpPr>
          <p:cNvPr id="635" name="">
            <a:hlinkClick r:id="" action="ppaction://hlinkshowjump?jump=nextslide"/>
          </p:cNvPr>
          <p:cNvSpPr/>
          <p:nvPr/>
        </p:nvSpPr>
        <p:spPr>
          <a:xfrm>
            <a:off x="7772400" y="55627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3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>
            <a:hlinkClick r:id="" action="ppaction://hlinkshowjump?jump=nextslide"/>
          </p:cNvPr>
          <p:cNvSpPr/>
          <p:nvPr/>
        </p:nvSpPr>
        <p:spPr>
          <a:xfrm>
            <a:off x="2743200" y="3124080"/>
            <a:ext cx="1324080" cy="381240"/>
          </a:xfrm>
          <a:custGeom>
            <a:avLst/>
            <a:gdLst>
              <a:gd name="textAreaLeft" fmla="*/ 24480 w 1324080"/>
              <a:gd name="textAreaRight" fmla="*/ 1299600 w 1324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4968" h="21600">
                <a:moveTo>
                  <a:pt x="0" y="0"/>
                </a:moveTo>
                <a:lnTo>
                  <a:pt x="74968" y="0"/>
                </a:lnTo>
                <a:lnTo>
                  <a:pt x="74968" y="21600"/>
                </a:lnTo>
                <a:lnTo>
                  <a:pt x="0" y="21600"/>
                </a:lnTo>
                <a:close/>
              </a:path>
              <a:path fill="lightenLess" w="74968" h="21600">
                <a:moveTo>
                  <a:pt x="0" y="0"/>
                </a:moveTo>
                <a:lnTo>
                  <a:pt x="74968" y="0"/>
                </a:lnTo>
                <a:lnTo>
                  <a:pt x="73568" y="1400"/>
                </a:lnTo>
                <a:lnTo>
                  <a:pt x="1400" y="1400"/>
                </a:lnTo>
                <a:close/>
              </a:path>
              <a:path fill="darken" w="74968" h="21600">
                <a:moveTo>
                  <a:pt x="74968" y="0"/>
                </a:moveTo>
                <a:lnTo>
                  <a:pt x="74968" y="21600"/>
                </a:lnTo>
                <a:lnTo>
                  <a:pt x="73568" y="20200"/>
                </a:lnTo>
                <a:lnTo>
                  <a:pt x="73568" y="1400"/>
                </a:lnTo>
                <a:close/>
              </a:path>
              <a:path fill="darkenLess" w="74968" h="21600">
                <a:moveTo>
                  <a:pt x="74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568" y="20200"/>
                </a:lnTo>
                <a:close/>
              </a:path>
              <a:path fill="lighten" w="74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Hyperlinks to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Web pag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28600" y="3276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ype the hyperlink you want to vis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Arial Unicode MS"/>
                <a:hlinkClick r:id="rId3"/>
              </a:rPr>
              <a:t>www.sturgis.k12.mi.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ink will become active when presentation is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7281720" y="4572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6"/>
          <a:stretch/>
        </p:blipFill>
        <p:spPr>
          <a:xfrm>
            <a:off x="652320" y="457200"/>
            <a:ext cx="828720" cy="70164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921960" y="2209680"/>
            <a:ext cx="69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s is the easiest way to add a hyper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a Hyperlink to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Slides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ithin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28600" y="33526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ighlight text or object to make into a hyper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Hyperlink Icon on Tool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2438280" y="239400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>
            <a:hlinkClick r:id="rId4" action="ppaction://hlinksldjump"/>
          </p:cNvPr>
          <p:cNvSpPr/>
          <p:nvPr/>
        </p:nvSpPr>
        <p:spPr>
          <a:xfrm>
            <a:off x="2438280" y="2394000"/>
            <a:ext cx="457200" cy="190440"/>
          </a:xfrm>
          <a:custGeom>
            <a:avLst/>
            <a:gdLst>
              <a:gd name="textAreaLeft" fmla="*/ 12240 w 457200"/>
              <a:gd name="textAreaRight" fmla="*/ 444960 w 457200"/>
              <a:gd name="textAreaTop" fmla="*/ 12240 h 190440"/>
              <a:gd name="textAreaBottom" fmla="*/ 178200 h 190440"/>
            </a:gdLst>
            <a:ahLst/>
            <a:rect l="textAreaLeft" t="textAreaTop" r="textAreaRight" b="textAreaBottom"/>
            <a:pathLst>
              <a:path w="51799" h="21600">
                <a:moveTo>
                  <a:pt x="0" y="0"/>
                </a:moveTo>
                <a:lnTo>
                  <a:pt x="51799" y="0"/>
                </a:lnTo>
                <a:lnTo>
                  <a:pt x="51799" y="21600"/>
                </a:lnTo>
                <a:lnTo>
                  <a:pt x="0" y="21600"/>
                </a:lnTo>
                <a:close/>
              </a:path>
              <a:path fill="lightenLess" w="51799" h="21600">
                <a:moveTo>
                  <a:pt x="0" y="0"/>
                </a:moveTo>
                <a:lnTo>
                  <a:pt x="51799" y="0"/>
                </a:lnTo>
                <a:lnTo>
                  <a:pt x="50399" y="1400"/>
                </a:lnTo>
                <a:lnTo>
                  <a:pt x="1400" y="1400"/>
                </a:lnTo>
                <a:close/>
              </a:path>
              <a:path fill="darken" w="51799" h="21600">
                <a:moveTo>
                  <a:pt x="51799" y="0"/>
                </a:moveTo>
                <a:lnTo>
                  <a:pt x="51799" y="21600"/>
                </a:lnTo>
                <a:lnTo>
                  <a:pt x="50399" y="20200"/>
                </a:lnTo>
                <a:lnTo>
                  <a:pt x="50399" y="1400"/>
                </a:lnTo>
                <a:close/>
              </a:path>
              <a:path fill="darkenLess" w="51799" h="21600">
                <a:moveTo>
                  <a:pt x="51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99" y="20200"/>
                </a:lnTo>
                <a:close/>
              </a:path>
              <a:path fill="lighten" w="51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Hyperlink to slides within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5143680" cy="352440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48320" y="4114800"/>
            <a:ext cx="952560" cy="380880"/>
          </a:xfrm>
          <a:custGeom>
            <a:avLst/>
            <a:gdLst>
              <a:gd name="textAreaLeft" fmla="*/ 24480 w 952560"/>
              <a:gd name="textAreaRight" fmla="*/ 928080 w 952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3990" h="21600">
                <a:moveTo>
                  <a:pt x="0" y="0"/>
                </a:moveTo>
                <a:lnTo>
                  <a:pt x="53990" y="0"/>
                </a:lnTo>
                <a:lnTo>
                  <a:pt x="53990" y="21600"/>
                </a:lnTo>
                <a:lnTo>
                  <a:pt x="0" y="21600"/>
                </a:lnTo>
                <a:close/>
              </a:path>
              <a:path fill="lightenLess" w="53990" h="21600">
                <a:moveTo>
                  <a:pt x="0" y="0"/>
                </a:moveTo>
                <a:lnTo>
                  <a:pt x="53990" y="0"/>
                </a:lnTo>
                <a:lnTo>
                  <a:pt x="52590" y="1400"/>
                </a:lnTo>
                <a:lnTo>
                  <a:pt x="1400" y="1400"/>
                </a:lnTo>
                <a:close/>
              </a:path>
              <a:path fill="darken" w="53990" h="21600">
                <a:moveTo>
                  <a:pt x="53990" y="0"/>
                </a:moveTo>
                <a:lnTo>
                  <a:pt x="53990" y="21600"/>
                </a:lnTo>
                <a:lnTo>
                  <a:pt x="52590" y="20200"/>
                </a:lnTo>
                <a:lnTo>
                  <a:pt x="52590" y="1400"/>
                </a:lnTo>
                <a:close/>
              </a:path>
              <a:path fill="darkenLess" w="53990" h="21600">
                <a:moveTo>
                  <a:pt x="53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0" y="20200"/>
                </a:lnTo>
                <a:close/>
              </a:path>
              <a:path fill="lighten" w="53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5880" y="2286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Book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Hyperlink to slides within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" action="ppaction://hlinkshowjump?jump=nextslide"/>
          </p:cNvPr>
          <p:cNvSpPr/>
          <p:nvPr/>
        </p:nvSpPr>
        <p:spPr>
          <a:xfrm>
            <a:off x="4648320" y="4114800"/>
            <a:ext cx="952560" cy="380880"/>
          </a:xfrm>
          <a:custGeom>
            <a:avLst/>
            <a:gdLst>
              <a:gd name="textAreaLeft" fmla="*/ 24480 w 952560"/>
              <a:gd name="textAreaRight" fmla="*/ 928080 w 952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3990" h="21600">
                <a:moveTo>
                  <a:pt x="0" y="0"/>
                </a:moveTo>
                <a:lnTo>
                  <a:pt x="53990" y="0"/>
                </a:lnTo>
                <a:lnTo>
                  <a:pt x="53990" y="21600"/>
                </a:lnTo>
                <a:lnTo>
                  <a:pt x="0" y="21600"/>
                </a:lnTo>
                <a:close/>
              </a:path>
              <a:path fill="lightenLess" w="53990" h="21600">
                <a:moveTo>
                  <a:pt x="0" y="0"/>
                </a:moveTo>
                <a:lnTo>
                  <a:pt x="53990" y="0"/>
                </a:lnTo>
                <a:lnTo>
                  <a:pt x="52590" y="1400"/>
                </a:lnTo>
                <a:lnTo>
                  <a:pt x="1400" y="1400"/>
                </a:lnTo>
                <a:close/>
              </a:path>
              <a:path fill="darken" w="53990" h="21600">
                <a:moveTo>
                  <a:pt x="53990" y="0"/>
                </a:moveTo>
                <a:lnTo>
                  <a:pt x="53990" y="21600"/>
                </a:lnTo>
                <a:lnTo>
                  <a:pt x="52590" y="20200"/>
                </a:lnTo>
                <a:lnTo>
                  <a:pt x="52590" y="1400"/>
                </a:lnTo>
                <a:close/>
              </a:path>
              <a:path fill="darkenLess" w="53990" h="21600">
                <a:moveTo>
                  <a:pt x="53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0" y="20200"/>
                </a:lnTo>
                <a:close/>
              </a:path>
              <a:path fill="lighten" w="53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81480" y="22860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 the slide you wish to go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942840" y="2490840"/>
            <a:ext cx="3629160" cy="324792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1814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" action="ppaction://hlinkshowjump?jump=nextslide"/>
          </p:cNvPr>
          <p:cNvSpPr/>
          <p:nvPr/>
        </p:nvSpPr>
        <p:spPr>
          <a:xfrm>
            <a:off x="3048120" y="5334120"/>
            <a:ext cx="685800" cy="404640"/>
          </a:xfrm>
          <a:custGeom>
            <a:avLst/>
            <a:gdLst>
              <a:gd name="textAreaLeft" fmla="*/ 25920 w 685800"/>
              <a:gd name="textAreaRight" fmla="*/ 659880 w 6858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95" h="21600">
                <a:moveTo>
                  <a:pt x="0" y="0"/>
                </a:moveTo>
                <a:lnTo>
                  <a:pt x="36595" y="0"/>
                </a:lnTo>
                <a:lnTo>
                  <a:pt x="36595" y="21600"/>
                </a:lnTo>
                <a:lnTo>
                  <a:pt x="0" y="21600"/>
                </a:lnTo>
                <a:close/>
              </a:path>
              <a:path fill="lightenLess" w="36595" h="21600">
                <a:moveTo>
                  <a:pt x="0" y="0"/>
                </a:moveTo>
                <a:lnTo>
                  <a:pt x="36595" y="0"/>
                </a:lnTo>
                <a:lnTo>
                  <a:pt x="35195" y="1400"/>
                </a:lnTo>
                <a:lnTo>
                  <a:pt x="1400" y="1400"/>
                </a:lnTo>
                <a:close/>
              </a:path>
              <a:path fill="darken" w="36595" h="21600">
                <a:moveTo>
                  <a:pt x="36595" y="0"/>
                </a:moveTo>
                <a:lnTo>
                  <a:pt x="36595" y="21600"/>
                </a:lnTo>
                <a:lnTo>
                  <a:pt x="35195" y="20200"/>
                </a:lnTo>
                <a:lnTo>
                  <a:pt x="35195" y="1400"/>
                </a:lnTo>
                <a:close/>
              </a:path>
              <a:path fill="darkenLess" w="36595" h="21600">
                <a:moveTo>
                  <a:pt x="36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95" y="20200"/>
                </a:lnTo>
                <a:close/>
              </a:path>
              <a:path fill="lighten" w="36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Hyperlink to slides within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>
            <a:hlinkClick r:id="" action="ppaction://hlinkshowjump?jump=nextslide"/>
          </p:cNvPr>
          <p:cNvSpPr/>
          <p:nvPr/>
        </p:nvSpPr>
        <p:spPr>
          <a:xfrm>
            <a:off x="4648320" y="4114800"/>
            <a:ext cx="952560" cy="380880"/>
          </a:xfrm>
          <a:custGeom>
            <a:avLst/>
            <a:gdLst>
              <a:gd name="textAreaLeft" fmla="*/ 24480 w 952560"/>
              <a:gd name="textAreaRight" fmla="*/ 928080 w 952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3990" h="21600">
                <a:moveTo>
                  <a:pt x="0" y="0"/>
                </a:moveTo>
                <a:lnTo>
                  <a:pt x="53990" y="0"/>
                </a:lnTo>
                <a:lnTo>
                  <a:pt x="53990" y="21600"/>
                </a:lnTo>
                <a:lnTo>
                  <a:pt x="0" y="21600"/>
                </a:lnTo>
                <a:close/>
              </a:path>
              <a:path fill="lightenLess" w="53990" h="21600">
                <a:moveTo>
                  <a:pt x="0" y="0"/>
                </a:moveTo>
                <a:lnTo>
                  <a:pt x="53990" y="0"/>
                </a:lnTo>
                <a:lnTo>
                  <a:pt x="52590" y="1400"/>
                </a:lnTo>
                <a:lnTo>
                  <a:pt x="1400" y="1400"/>
                </a:lnTo>
                <a:close/>
              </a:path>
              <a:path fill="darken" w="53990" h="21600">
                <a:moveTo>
                  <a:pt x="53990" y="0"/>
                </a:moveTo>
                <a:lnTo>
                  <a:pt x="53990" y="21600"/>
                </a:lnTo>
                <a:lnTo>
                  <a:pt x="52590" y="20200"/>
                </a:lnTo>
                <a:lnTo>
                  <a:pt x="52590" y="1400"/>
                </a:lnTo>
                <a:close/>
              </a:path>
              <a:path fill="darkenLess" w="53990" h="21600">
                <a:moveTo>
                  <a:pt x="53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0" y="20200"/>
                </a:lnTo>
                <a:close/>
              </a:path>
              <a:path fill="lighten" w="53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942840" y="2490840"/>
            <a:ext cx="3629160" cy="324792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3048120" y="5334120"/>
            <a:ext cx="685800" cy="404640"/>
          </a:xfrm>
          <a:custGeom>
            <a:avLst/>
            <a:gdLst>
              <a:gd name="textAreaLeft" fmla="*/ 25920 w 685800"/>
              <a:gd name="textAreaRight" fmla="*/ 659880 w 6858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95" h="21600">
                <a:moveTo>
                  <a:pt x="0" y="0"/>
                </a:moveTo>
                <a:lnTo>
                  <a:pt x="36595" y="0"/>
                </a:lnTo>
                <a:lnTo>
                  <a:pt x="36595" y="21600"/>
                </a:lnTo>
                <a:lnTo>
                  <a:pt x="0" y="21600"/>
                </a:lnTo>
                <a:close/>
              </a:path>
              <a:path fill="lightenLess" w="36595" h="21600">
                <a:moveTo>
                  <a:pt x="0" y="0"/>
                </a:moveTo>
                <a:lnTo>
                  <a:pt x="36595" y="0"/>
                </a:lnTo>
                <a:lnTo>
                  <a:pt x="35195" y="1400"/>
                </a:lnTo>
                <a:lnTo>
                  <a:pt x="1400" y="1400"/>
                </a:lnTo>
                <a:close/>
              </a:path>
              <a:path fill="darken" w="36595" h="21600">
                <a:moveTo>
                  <a:pt x="36595" y="0"/>
                </a:moveTo>
                <a:lnTo>
                  <a:pt x="36595" y="21600"/>
                </a:lnTo>
                <a:lnTo>
                  <a:pt x="35195" y="20200"/>
                </a:lnTo>
                <a:lnTo>
                  <a:pt x="35195" y="1400"/>
                </a:lnTo>
                <a:close/>
              </a:path>
              <a:path fill="darkenLess" w="36595" h="21600">
                <a:moveTo>
                  <a:pt x="36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95" y="20200"/>
                </a:lnTo>
                <a:close/>
              </a:path>
              <a:path fill="lighten" w="36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34120" y="297180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highlighted text will now be underlined and linked to that slide as in the example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91320" y="5738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Hyperlink to the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1680" y="488952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Hyperlink to slides within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648320" y="4114800"/>
            <a:ext cx="952560" cy="380880"/>
          </a:xfrm>
          <a:custGeom>
            <a:avLst/>
            <a:gdLst>
              <a:gd name="textAreaLeft" fmla="*/ 24480 w 952560"/>
              <a:gd name="textAreaRight" fmla="*/ 928080 w 952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3990" h="21600">
                <a:moveTo>
                  <a:pt x="0" y="0"/>
                </a:moveTo>
                <a:lnTo>
                  <a:pt x="53990" y="0"/>
                </a:lnTo>
                <a:lnTo>
                  <a:pt x="53990" y="21600"/>
                </a:lnTo>
                <a:lnTo>
                  <a:pt x="0" y="21600"/>
                </a:lnTo>
                <a:close/>
              </a:path>
              <a:path fill="lightenLess" w="53990" h="21600">
                <a:moveTo>
                  <a:pt x="0" y="0"/>
                </a:moveTo>
                <a:lnTo>
                  <a:pt x="53990" y="0"/>
                </a:lnTo>
                <a:lnTo>
                  <a:pt x="52590" y="1400"/>
                </a:lnTo>
                <a:lnTo>
                  <a:pt x="1400" y="1400"/>
                </a:lnTo>
                <a:close/>
              </a:path>
              <a:path fill="darken" w="53990" h="21600">
                <a:moveTo>
                  <a:pt x="53990" y="0"/>
                </a:moveTo>
                <a:lnTo>
                  <a:pt x="53990" y="21600"/>
                </a:lnTo>
                <a:lnTo>
                  <a:pt x="52590" y="20200"/>
                </a:lnTo>
                <a:lnTo>
                  <a:pt x="52590" y="1400"/>
                </a:lnTo>
                <a:close/>
              </a:path>
              <a:path fill="darkenLess" w="53990" h="21600">
                <a:moveTo>
                  <a:pt x="53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0" y="20200"/>
                </a:lnTo>
                <a:close/>
              </a:path>
              <a:path fill="lighten" w="53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3048120" y="5334120"/>
            <a:ext cx="685800" cy="404640"/>
          </a:xfrm>
          <a:custGeom>
            <a:avLst/>
            <a:gdLst>
              <a:gd name="textAreaLeft" fmla="*/ 25920 w 685800"/>
              <a:gd name="textAreaRight" fmla="*/ 659880 w 6858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95" h="21600">
                <a:moveTo>
                  <a:pt x="0" y="0"/>
                </a:moveTo>
                <a:lnTo>
                  <a:pt x="36595" y="0"/>
                </a:lnTo>
                <a:lnTo>
                  <a:pt x="36595" y="21600"/>
                </a:lnTo>
                <a:lnTo>
                  <a:pt x="0" y="21600"/>
                </a:lnTo>
                <a:close/>
              </a:path>
              <a:path fill="lightenLess" w="36595" h="21600">
                <a:moveTo>
                  <a:pt x="0" y="0"/>
                </a:moveTo>
                <a:lnTo>
                  <a:pt x="36595" y="0"/>
                </a:lnTo>
                <a:lnTo>
                  <a:pt x="35195" y="1400"/>
                </a:lnTo>
                <a:lnTo>
                  <a:pt x="1400" y="1400"/>
                </a:lnTo>
                <a:close/>
              </a:path>
              <a:path fill="darken" w="36595" h="21600">
                <a:moveTo>
                  <a:pt x="36595" y="0"/>
                </a:moveTo>
                <a:lnTo>
                  <a:pt x="36595" y="21600"/>
                </a:lnTo>
                <a:lnTo>
                  <a:pt x="35195" y="20200"/>
                </a:lnTo>
                <a:lnTo>
                  <a:pt x="35195" y="1400"/>
                </a:lnTo>
                <a:close/>
              </a:path>
              <a:path fill="darkenLess" w="36595" h="21600">
                <a:moveTo>
                  <a:pt x="36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95" y="20200"/>
                </a:lnTo>
                <a:close/>
              </a:path>
              <a:path fill="lighten" w="36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5738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1" action="ppaction://hlinksldjump"/>
              </a:rPr>
              <a:t>Hyperlink to the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352680" y="330516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k of the possibiliti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j0078625" descr=""/>
          <p:cNvPicPr/>
          <p:nvPr/>
        </p:nvPicPr>
        <p:blipFill>
          <a:blip r:embed="rId2"/>
          <a:stretch/>
        </p:blipFill>
        <p:spPr>
          <a:xfrm>
            <a:off x="1752480" y="214776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Insert a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Insert/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oose how many rows and columns you des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4"/>
          <a:stretch/>
        </p:blipFill>
        <p:spPr>
          <a:xfrm>
            <a:off x="3352680" y="4114800"/>
            <a:ext cx="1733760" cy="1171440"/>
          </a:xfrm>
          <a:prstGeom prst="rect">
            <a:avLst/>
          </a:prstGeom>
          <a:ln w="0">
            <a:noFill/>
          </a:ln>
        </p:spPr>
      </p:pic>
      <p:sp>
        <p:nvSpPr>
          <p:cNvPr id="680" name="">
            <a:hlinkClick r:id="" action="ppaction://hlinkshowjump?jump=nextslide"/>
          </p:cNvPr>
          <p:cNvSpPr/>
          <p:nvPr/>
        </p:nvSpPr>
        <p:spPr>
          <a:xfrm>
            <a:off x="8077320" y="5499000"/>
            <a:ext cx="753840" cy="381240"/>
          </a:xfrm>
          <a:custGeom>
            <a:avLst/>
            <a:gdLst>
              <a:gd name="textAreaLeft" fmla="*/ 24480 w 753840"/>
              <a:gd name="textAreaRight" fmla="*/ 729360 w 753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2691" h="21600">
                <a:moveTo>
                  <a:pt x="0" y="0"/>
                </a:moveTo>
                <a:lnTo>
                  <a:pt x="42691" y="0"/>
                </a:lnTo>
                <a:lnTo>
                  <a:pt x="42691" y="21600"/>
                </a:lnTo>
                <a:lnTo>
                  <a:pt x="0" y="21600"/>
                </a:lnTo>
                <a:close/>
              </a:path>
              <a:path fill="lightenLess" w="42691" h="21600">
                <a:moveTo>
                  <a:pt x="0" y="0"/>
                </a:moveTo>
                <a:lnTo>
                  <a:pt x="42691" y="0"/>
                </a:lnTo>
                <a:lnTo>
                  <a:pt x="41291" y="1400"/>
                </a:lnTo>
                <a:lnTo>
                  <a:pt x="1400" y="1400"/>
                </a:lnTo>
                <a:close/>
              </a:path>
              <a:path fill="darken" w="42691" h="21600">
                <a:moveTo>
                  <a:pt x="42691" y="0"/>
                </a:moveTo>
                <a:lnTo>
                  <a:pt x="42691" y="21600"/>
                </a:lnTo>
                <a:lnTo>
                  <a:pt x="41291" y="20200"/>
                </a:lnTo>
                <a:lnTo>
                  <a:pt x="41291" y="1400"/>
                </a:lnTo>
                <a:close/>
              </a:path>
              <a:path fill="darkenLess" w="42691" h="21600">
                <a:moveTo>
                  <a:pt x="42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291" y="20200"/>
                </a:lnTo>
                <a:close/>
              </a:path>
              <a:path fill="lighten" w="42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691" h="21600">
                <a:moveTo>
                  <a:pt x="14339" y="3794"/>
                </a:moveTo>
                <a:lnTo>
                  <a:pt x="28352" y="10800"/>
                </a:lnTo>
                <a:lnTo>
                  <a:pt x="1433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1640" y="1996560"/>
            <a:ext cx="6481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ady for the nex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754380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j0078795" descr=""/>
          <p:cNvPicPr/>
          <p:nvPr/>
        </p:nvPicPr>
        <p:blipFill>
          <a:blip r:embed="rId3"/>
          <a:stretch/>
        </p:blipFill>
        <p:spPr>
          <a:xfrm>
            <a:off x="3124080" y="2744640"/>
            <a:ext cx="1800360" cy="330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743200" y="533520"/>
            <a:ext cx="28954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od Job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95200" y="380880"/>
            <a:ext cx="46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Format your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410080" cy="29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anywhere in you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Format/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362320" y="2163600"/>
          <a:ext cx="6553080" cy="1217520"/>
        </p:xfrm>
        <a:graphic>
          <a:graphicData uri="http://schemas.openxmlformats.org/drawingml/2006/table">
            <a:tbl>
              <a:tblPr/>
              <a:tblGrid>
                <a:gridCol w="3276360"/>
                <a:gridCol w="327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33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3399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3399"/>
                      </a:solidFill>
                    </a:lnR>
                    <a:lnT w="18720">
                      <a:solidFill>
                        <a:srgbClr val="ff3399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ff3399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5076720" y="3591000"/>
            <a:ext cx="3838680" cy="6570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4"/>
          <a:stretch/>
        </p:blipFill>
        <p:spPr>
          <a:xfrm>
            <a:off x="6553080" y="4038480"/>
            <a:ext cx="1619280" cy="2448000"/>
          </a:xfrm>
          <a:prstGeom prst="rect">
            <a:avLst/>
          </a:prstGeom>
          <a:ln w="0">
            <a:noFill/>
          </a:ln>
        </p:spPr>
      </p:pic>
      <p:sp>
        <p:nvSpPr>
          <p:cNvPr id="687" name="">
            <a:hlinkClick r:id="rId5" action="ppaction://hlinksldjump"/>
          </p:cNvPr>
          <p:cNvSpPr/>
          <p:nvPr/>
        </p:nvSpPr>
        <p:spPr>
          <a:xfrm>
            <a:off x="6019920" y="3352680"/>
            <a:ext cx="1619280" cy="238320"/>
          </a:xfrm>
          <a:custGeom>
            <a:avLst/>
            <a:gdLst>
              <a:gd name="textAreaLeft" fmla="*/ 15120 w 1619280"/>
              <a:gd name="textAreaRight" fmla="*/ 1604160 w 1619280"/>
              <a:gd name="textAreaTop" fmla="*/ 15120 h 238320"/>
              <a:gd name="textAreaBottom" fmla="*/ 223200 h 238320"/>
            </a:gdLst>
            <a:ahLst/>
            <a:rect l="textAreaLeft" t="textAreaTop" r="textAreaRight" b="textAreaBottom"/>
            <a:pathLst>
              <a:path w="146574" h="21600">
                <a:moveTo>
                  <a:pt x="0" y="0"/>
                </a:moveTo>
                <a:lnTo>
                  <a:pt x="146574" y="0"/>
                </a:lnTo>
                <a:lnTo>
                  <a:pt x="146574" y="21600"/>
                </a:lnTo>
                <a:lnTo>
                  <a:pt x="0" y="21600"/>
                </a:lnTo>
                <a:close/>
              </a:path>
              <a:path fill="lightenLess" w="146574" h="21600">
                <a:moveTo>
                  <a:pt x="0" y="0"/>
                </a:moveTo>
                <a:lnTo>
                  <a:pt x="146574" y="0"/>
                </a:lnTo>
                <a:lnTo>
                  <a:pt x="145174" y="1400"/>
                </a:lnTo>
                <a:lnTo>
                  <a:pt x="1400" y="1400"/>
                </a:lnTo>
                <a:close/>
              </a:path>
              <a:path fill="darken" w="146574" h="21600">
                <a:moveTo>
                  <a:pt x="146574" y="0"/>
                </a:moveTo>
                <a:lnTo>
                  <a:pt x="146574" y="21600"/>
                </a:lnTo>
                <a:lnTo>
                  <a:pt x="145174" y="20200"/>
                </a:lnTo>
                <a:lnTo>
                  <a:pt x="145174" y="1400"/>
                </a:lnTo>
                <a:close/>
              </a:path>
              <a:path fill="darkenLess" w="146574" h="21600">
                <a:moveTo>
                  <a:pt x="14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174" y="20200"/>
                </a:lnTo>
                <a:close/>
              </a:path>
              <a:path fill="lighten" w="14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" action="ppaction://hlinkshowjump?jump=nextslide"/>
          </p:cNvPr>
          <p:cNvSpPr/>
          <p:nvPr/>
        </p:nvSpPr>
        <p:spPr>
          <a:xfrm>
            <a:off x="6019920" y="6257880"/>
            <a:ext cx="25146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95200" y="380880"/>
            <a:ext cx="46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Format your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105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rom the Borders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6"/>
          <a:stretch/>
        </p:blipFill>
        <p:spPr>
          <a:xfrm>
            <a:off x="5105520" y="762120"/>
            <a:ext cx="3590640" cy="300996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15228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Fill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ckground color of th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ill color optio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280" y="510552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Text Box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ckground color of th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ill color optio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438280" y="1371240"/>
            <a:ext cx="2819520" cy="11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438280" y="2666520"/>
            <a:ext cx="2667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8280" y="3200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>
            <a:hlinkClick r:id="rId13" action="ppaction://hlinksldjump"/>
          </p:cNvPr>
          <p:cNvSpPr/>
          <p:nvPr/>
        </p:nvSpPr>
        <p:spPr>
          <a:xfrm>
            <a:off x="5715000" y="1066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rId14" action="ppaction://hlinksldjump"/>
          </p:cNvPr>
          <p:cNvSpPr/>
          <p:nvPr/>
        </p:nvSpPr>
        <p:spPr>
          <a:xfrm>
            <a:off x="6095880" y="1066680"/>
            <a:ext cx="457200" cy="15264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64597" h="21600">
                <a:moveTo>
                  <a:pt x="0" y="0"/>
                </a:moveTo>
                <a:lnTo>
                  <a:pt x="64597" y="0"/>
                </a:lnTo>
                <a:lnTo>
                  <a:pt x="64597" y="21600"/>
                </a:lnTo>
                <a:lnTo>
                  <a:pt x="0" y="21600"/>
                </a:lnTo>
                <a:close/>
              </a:path>
              <a:path fill="lightenLess" w="64597" h="21600">
                <a:moveTo>
                  <a:pt x="0" y="0"/>
                </a:moveTo>
                <a:lnTo>
                  <a:pt x="64597" y="0"/>
                </a:lnTo>
                <a:lnTo>
                  <a:pt x="63197" y="1400"/>
                </a:lnTo>
                <a:lnTo>
                  <a:pt x="1400" y="1400"/>
                </a:lnTo>
                <a:close/>
              </a:path>
              <a:path fill="darken" w="64597" h="21600">
                <a:moveTo>
                  <a:pt x="64597" y="0"/>
                </a:moveTo>
                <a:lnTo>
                  <a:pt x="64597" y="21600"/>
                </a:lnTo>
                <a:lnTo>
                  <a:pt x="63197" y="20200"/>
                </a:lnTo>
                <a:lnTo>
                  <a:pt x="63197" y="1400"/>
                </a:lnTo>
                <a:close/>
              </a:path>
              <a:path fill="darkenLess" w="64597" h="21600">
                <a:moveTo>
                  <a:pt x="64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97" y="20200"/>
                </a:lnTo>
                <a:close/>
              </a:path>
              <a:path fill="lighten" w="64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15000" y="4419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15" action="ppaction://hlinksldjump"/>
              </a:rPr>
              <a:t>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fter you have clicked on all T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95200" y="380880"/>
            <a:ext cx="46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Format your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105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rom the Borders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28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Fill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ckground color of th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Review Fill Effects optio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0"/>
          <a:stretch/>
        </p:blipFill>
        <p:spPr>
          <a:xfrm>
            <a:off x="5114880" y="838080"/>
            <a:ext cx="3581280" cy="30196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11"/>
          <a:stretch/>
        </p:blipFill>
        <p:spPr>
          <a:xfrm>
            <a:off x="5486400" y="1828800"/>
            <a:ext cx="1486080" cy="16002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flipV="1">
            <a:off x="4495680" y="1828440"/>
            <a:ext cx="83844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280" y="5105520"/>
            <a:ext cx="5562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Text Box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xt 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gin 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 of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rId16" action="ppaction://hlinksldjump"/>
          </p:cNvPr>
          <p:cNvSpPr/>
          <p:nvPr/>
        </p:nvSpPr>
        <p:spPr>
          <a:xfrm>
            <a:off x="5114880" y="1143000"/>
            <a:ext cx="600120" cy="228600"/>
          </a:xfrm>
          <a:custGeom>
            <a:avLst/>
            <a:gdLst>
              <a:gd name="textAreaLeft" fmla="*/ 14760 w 600120"/>
              <a:gd name="textAreaRight" fmla="*/ 585360 w 600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6649" h="21600">
                <a:moveTo>
                  <a:pt x="0" y="0"/>
                </a:moveTo>
                <a:lnTo>
                  <a:pt x="56649" y="0"/>
                </a:lnTo>
                <a:lnTo>
                  <a:pt x="56649" y="21600"/>
                </a:lnTo>
                <a:lnTo>
                  <a:pt x="0" y="21600"/>
                </a:lnTo>
                <a:close/>
              </a:path>
              <a:path fill="lightenLess" w="56649" h="21600">
                <a:moveTo>
                  <a:pt x="0" y="0"/>
                </a:moveTo>
                <a:lnTo>
                  <a:pt x="56649" y="0"/>
                </a:lnTo>
                <a:lnTo>
                  <a:pt x="55249" y="1400"/>
                </a:lnTo>
                <a:lnTo>
                  <a:pt x="1400" y="1400"/>
                </a:lnTo>
                <a:close/>
              </a:path>
              <a:path fill="darken" w="56649" h="21600">
                <a:moveTo>
                  <a:pt x="56649" y="0"/>
                </a:moveTo>
                <a:lnTo>
                  <a:pt x="56649" y="21600"/>
                </a:lnTo>
                <a:lnTo>
                  <a:pt x="55249" y="20200"/>
                </a:lnTo>
                <a:lnTo>
                  <a:pt x="55249" y="1400"/>
                </a:lnTo>
                <a:close/>
              </a:path>
              <a:path fill="darkenLess" w="56649" h="21600">
                <a:moveTo>
                  <a:pt x="56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49" y="20200"/>
                </a:lnTo>
                <a:close/>
              </a:path>
              <a:path fill="lighten" w="56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rId17" action="ppaction://hlinksldjump"/>
          </p:cNvPr>
          <p:cNvSpPr/>
          <p:nvPr/>
        </p:nvSpPr>
        <p:spPr>
          <a:xfrm>
            <a:off x="6095880" y="1143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15000" y="4419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18" action="ppaction://hlinksldjump"/>
              </a:rPr>
              <a:t>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fter you have clicked on all T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95200" y="380880"/>
            <a:ext cx="46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Format your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105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rom the Borders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228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Fill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ckground color of th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ill color optio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52280" y="510552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Text Box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xt 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gin 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 of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3"/>
          <a:stretch/>
        </p:blipFill>
        <p:spPr>
          <a:xfrm>
            <a:off x="5143680" y="762120"/>
            <a:ext cx="3552480" cy="29811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 flipV="1">
            <a:off x="2895480" y="1523880"/>
            <a:ext cx="2438640" cy="426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2895480" y="1981080"/>
            <a:ext cx="26100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743200" y="2742840"/>
            <a:ext cx="297180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rId14" action="ppaction://hlinksldjump"/>
          </p:cNvPr>
          <p:cNvSpPr/>
          <p:nvPr/>
        </p:nvSpPr>
        <p:spPr>
          <a:xfrm>
            <a:off x="5715000" y="1066680"/>
            <a:ext cx="304920" cy="15264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43098" h="21600">
                <a:moveTo>
                  <a:pt x="0" y="0"/>
                </a:moveTo>
                <a:lnTo>
                  <a:pt x="43098" y="0"/>
                </a:lnTo>
                <a:lnTo>
                  <a:pt x="43098" y="21600"/>
                </a:lnTo>
                <a:lnTo>
                  <a:pt x="0" y="21600"/>
                </a:lnTo>
                <a:close/>
              </a:path>
              <a:path fill="lightenLess" w="43098" h="21600">
                <a:moveTo>
                  <a:pt x="0" y="0"/>
                </a:moveTo>
                <a:lnTo>
                  <a:pt x="43098" y="0"/>
                </a:lnTo>
                <a:lnTo>
                  <a:pt x="41698" y="1400"/>
                </a:lnTo>
                <a:lnTo>
                  <a:pt x="1400" y="1400"/>
                </a:lnTo>
                <a:close/>
              </a:path>
              <a:path fill="darken" w="43098" h="21600">
                <a:moveTo>
                  <a:pt x="43098" y="0"/>
                </a:moveTo>
                <a:lnTo>
                  <a:pt x="43098" y="21600"/>
                </a:lnTo>
                <a:lnTo>
                  <a:pt x="41698" y="20200"/>
                </a:lnTo>
                <a:lnTo>
                  <a:pt x="41698" y="1400"/>
                </a:lnTo>
                <a:close/>
              </a:path>
              <a:path fill="darkenLess" w="43098" h="21600">
                <a:moveTo>
                  <a:pt x="4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8" y="20200"/>
                </a:lnTo>
                <a:close/>
              </a:path>
              <a:path fill="lighten" w="4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rId15" action="ppaction://hlinksldjump"/>
          </p:cNvPr>
          <p:cNvSpPr/>
          <p:nvPr/>
        </p:nvSpPr>
        <p:spPr>
          <a:xfrm>
            <a:off x="5143680" y="1066680"/>
            <a:ext cx="571320" cy="152640"/>
          </a:xfrm>
          <a:custGeom>
            <a:avLst/>
            <a:gdLst>
              <a:gd name="textAreaLeft" fmla="*/ 9720 w 571320"/>
              <a:gd name="textAreaRight" fmla="*/ 561600 w 5713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80708" h="21600">
                <a:moveTo>
                  <a:pt x="0" y="0"/>
                </a:moveTo>
                <a:lnTo>
                  <a:pt x="80708" y="0"/>
                </a:lnTo>
                <a:lnTo>
                  <a:pt x="80708" y="21600"/>
                </a:lnTo>
                <a:lnTo>
                  <a:pt x="0" y="21600"/>
                </a:lnTo>
                <a:close/>
              </a:path>
              <a:path fill="lightenLess" w="80708" h="21600">
                <a:moveTo>
                  <a:pt x="0" y="0"/>
                </a:moveTo>
                <a:lnTo>
                  <a:pt x="80708" y="0"/>
                </a:lnTo>
                <a:lnTo>
                  <a:pt x="79308" y="1400"/>
                </a:lnTo>
                <a:lnTo>
                  <a:pt x="1400" y="1400"/>
                </a:lnTo>
                <a:close/>
              </a:path>
              <a:path fill="darken" w="80708" h="21600">
                <a:moveTo>
                  <a:pt x="80708" y="0"/>
                </a:moveTo>
                <a:lnTo>
                  <a:pt x="80708" y="21600"/>
                </a:lnTo>
                <a:lnTo>
                  <a:pt x="79308" y="20200"/>
                </a:lnTo>
                <a:lnTo>
                  <a:pt x="79308" y="1400"/>
                </a:lnTo>
                <a:close/>
              </a:path>
              <a:path fill="darkenLess" w="80708" h="21600">
                <a:moveTo>
                  <a:pt x="80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308" y="20200"/>
                </a:lnTo>
                <a:close/>
              </a:path>
              <a:path fill="lighten" w="80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15000" y="4419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16" action="ppaction://hlinksldjump"/>
              </a:rPr>
              <a:t>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fter you have clicked on all T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" action="ppaction://hlinksldjump"/>
              </a:rPr>
              <a:t>Making a New Slide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3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4" action="ppaction://hlinksldjump"/>
              </a:rPr>
              <a:t> </a:t>
            </a:r>
            <a:r>
              <a:rPr b="0" lang="en-US" sz="1300" spc="-1" strike="noStrike" u="sng">
                <a:solidFill>
                  <a:srgbClr val="d69b8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Slide Transition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Inserting Sound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Tables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Using Hyperlink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Setting up your Slide Show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Moving Points and Slid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0920" y="2819160"/>
            <a:ext cx="77691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Slide Sorter view on bottom left of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1600200"/>
            <a:ext cx="74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11280" y="1600200"/>
            <a:ext cx="79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the order of your bullets or the slides themselves is as easy as clicking and dragging them into the correct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9"/>
          <a:stretch/>
        </p:blipFill>
        <p:spPr>
          <a:xfrm>
            <a:off x="152280" y="4876920"/>
            <a:ext cx="3886200" cy="7142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2286000" y="4724280"/>
            <a:ext cx="91440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>
            <a:hlinkClick r:id="rId20" action="ppaction://hlinksldjump"/>
          </p:cNvPr>
          <p:cNvSpPr/>
          <p:nvPr/>
        </p:nvSpPr>
        <p:spPr>
          <a:xfrm>
            <a:off x="2286000" y="4876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353440" cy="464508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Click and Drag slides to correct positi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6" name="">
            <a:hlinkClick r:id="" action="ppaction://hlinkshowjump?jump=nextslide"/>
          </p:cNvPr>
          <p:cNvSpPr/>
          <p:nvPr/>
        </p:nvSpPr>
        <p:spPr>
          <a:xfrm>
            <a:off x="457200" y="1828800"/>
            <a:ext cx="8353440" cy="4645080"/>
          </a:xfrm>
          <a:custGeom>
            <a:avLst/>
            <a:gdLst>
              <a:gd name="textAreaLeft" fmla="*/ 300960 w 8353440"/>
              <a:gd name="textAreaRight" fmla="*/ 8052480 w 8353440"/>
              <a:gd name="textAreaTop" fmla="*/ 300960 h 4645080"/>
              <a:gd name="textAreaBottom" fmla="*/ 4344120 h 4645080"/>
            </a:gdLst>
            <a:ahLst/>
            <a:rect l="textAreaLeft" t="textAreaTop" r="textAreaRight" b="textAreaBottom"/>
            <a:pathLst>
              <a:path w="38843" h="21600">
                <a:moveTo>
                  <a:pt x="0" y="0"/>
                </a:moveTo>
                <a:lnTo>
                  <a:pt x="38843" y="0"/>
                </a:lnTo>
                <a:lnTo>
                  <a:pt x="38843" y="21600"/>
                </a:lnTo>
                <a:lnTo>
                  <a:pt x="0" y="21600"/>
                </a:lnTo>
                <a:close/>
              </a:path>
              <a:path fill="lightenLess" w="38843" h="21600">
                <a:moveTo>
                  <a:pt x="0" y="0"/>
                </a:moveTo>
                <a:lnTo>
                  <a:pt x="38843" y="0"/>
                </a:lnTo>
                <a:lnTo>
                  <a:pt x="37443" y="1400"/>
                </a:lnTo>
                <a:lnTo>
                  <a:pt x="1400" y="1400"/>
                </a:lnTo>
                <a:close/>
              </a:path>
              <a:path fill="darken" w="38843" h="21600">
                <a:moveTo>
                  <a:pt x="38843" y="0"/>
                </a:moveTo>
                <a:lnTo>
                  <a:pt x="38843" y="21600"/>
                </a:lnTo>
                <a:lnTo>
                  <a:pt x="37443" y="20200"/>
                </a:lnTo>
                <a:lnTo>
                  <a:pt x="37443" y="1400"/>
                </a:lnTo>
                <a:close/>
              </a:path>
              <a:path fill="darkenLess" w="38843" h="21600">
                <a:moveTo>
                  <a:pt x="38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3" y="20200"/>
                </a:lnTo>
                <a:close/>
              </a:path>
              <a:path fill="lighten" w="38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353440" cy="464508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Pretty easy, huh. 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Click anywhere to continu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From Outline Se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266720" y="24382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 Normal view move cursor to slide icon. It will turn into a crosshair 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, hold and drag bullet or slide picture to correct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4"/>
          <a:stretch/>
        </p:blipFill>
        <p:spPr>
          <a:xfrm>
            <a:off x="1066680" y="1828800"/>
            <a:ext cx="2952720" cy="396252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1143000" y="5181480"/>
            <a:ext cx="38088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7238880" y="5791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5"/>
          <a:stretch/>
        </p:blipFill>
        <p:spPr>
          <a:xfrm>
            <a:off x="152280" y="5891040"/>
            <a:ext cx="3886200" cy="71460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52280" y="5891040"/>
            <a:ext cx="72396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6"/>
          <a:stretch/>
        </p:blipFill>
        <p:spPr>
          <a:xfrm>
            <a:off x="7724880" y="3886200"/>
            <a:ext cx="1998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resenting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0" y="1842840"/>
            <a:ext cx="403848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on Slide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t up Sh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" action="ppaction://hlinkshowjump?jump=nextslide"/>
          </p:cNvPr>
          <p:cNvSpPr/>
          <p:nvPr/>
        </p:nvSpPr>
        <p:spPr>
          <a:xfrm>
            <a:off x="8077320" y="6162840"/>
            <a:ext cx="761760" cy="390240"/>
          </a:xfrm>
          <a:custGeom>
            <a:avLst/>
            <a:gdLst>
              <a:gd name="textAreaLeft" fmla="*/ 25200 w 761760"/>
              <a:gd name="textAreaRight" fmla="*/ 736560 w 761760"/>
              <a:gd name="textAreaTop" fmla="*/ 25200 h 390240"/>
              <a:gd name="textAreaBottom" fmla="*/ 365040 h 390240"/>
            </a:gdLst>
            <a:ahLst/>
            <a:rect l="textAreaLeft" t="textAreaTop" r="textAreaRight" b="textAreaBottom"/>
            <a:pathLst>
              <a:path w="42145" h="21600">
                <a:moveTo>
                  <a:pt x="0" y="0"/>
                </a:moveTo>
                <a:lnTo>
                  <a:pt x="42145" y="0"/>
                </a:lnTo>
                <a:lnTo>
                  <a:pt x="42145" y="21600"/>
                </a:lnTo>
                <a:lnTo>
                  <a:pt x="0" y="21600"/>
                </a:lnTo>
                <a:close/>
              </a:path>
              <a:path fill="lightenLess" w="42145" h="21600">
                <a:moveTo>
                  <a:pt x="0" y="0"/>
                </a:moveTo>
                <a:lnTo>
                  <a:pt x="42145" y="0"/>
                </a:lnTo>
                <a:lnTo>
                  <a:pt x="40745" y="1400"/>
                </a:lnTo>
                <a:lnTo>
                  <a:pt x="1400" y="1400"/>
                </a:lnTo>
                <a:close/>
              </a:path>
              <a:path fill="darken" w="42145" h="21600">
                <a:moveTo>
                  <a:pt x="42145" y="0"/>
                </a:moveTo>
                <a:lnTo>
                  <a:pt x="42145" y="21600"/>
                </a:lnTo>
                <a:lnTo>
                  <a:pt x="40745" y="20200"/>
                </a:lnTo>
                <a:lnTo>
                  <a:pt x="40745" y="1400"/>
                </a:lnTo>
                <a:close/>
              </a:path>
              <a:path fill="darkenLess" w="42145" h="21600">
                <a:moveTo>
                  <a:pt x="42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45" y="20200"/>
                </a:lnTo>
                <a:close/>
              </a:path>
              <a:path fill="lighten" w="42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45" h="21600">
                <a:moveTo>
                  <a:pt x="14066" y="3794"/>
                </a:moveTo>
                <a:lnTo>
                  <a:pt x="28079" y="10800"/>
                </a:lnTo>
                <a:lnTo>
                  <a:pt x="14066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4"/>
          <a:stretch/>
        </p:blipFill>
        <p:spPr>
          <a:xfrm>
            <a:off x="452520" y="1828800"/>
            <a:ext cx="3819600" cy="64764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5"/>
          <a:stretch/>
        </p:blipFill>
        <p:spPr>
          <a:xfrm>
            <a:off x="2666880" y="2209680"/>
            <a:ext cx="1400400" cy="1428840"/>
          </a:xfrm>
          <a:prstGeom prst="rect">
            <a:avLst/>
          </a:prstGeom>
          <a:ln w="0">
            <a:noFill/>
          </a:ln>
        </p:spPr>
      </p:pic>
      <p:sp>
        <p:nvSpPr>
          <p:cNvPr id="753" name="">
            <a:hlinkClick r:id="" action="ppaction://hlinkshowjump?jump=nextslide"/>
          </p:cNvPr>
          <p:cNvSpPr/>
          <p:nvPr/>
        </p:nvSpPr>
        <p:spPr>
          <a:xfrm>
            <a:off x="2666880" y="2476440"/>
            <a:ext cx="1400400" cy="114480"/>
          </a:xfrm>
          <a:custGeom>
            <a:avLst/>
            <a:gdLst>
              <a:gd name="textAreaLeft" fmla="*/ 7200 w 1400400"/>
              <a:gd name="textAreaRight" fmla="*/ 1393200 w 1400400"/>
              <a:gd name="textAreaTop" fmla="*/ 7200 h 114480"/>
              <a:gd name="textAreaBottom" fmla="*/ 107280 h 114480"/>
            </a:gdLst>
            <a:ahLst/>
            <a:rect l="textAreaLeft" t="textAreaTop" r="textAreaRight" b="textAreaBottom"/>
            <a:pathLst>
              <a:path w="263466" h="21600">
                <a:moveTo>
                  <a:pt x="0" y="0"/>
                </a:moveTo>
                <a:lnTo>
                  <a:pt x="263466" y="0"/>
                </a:lnTo>
                <a:lnTo>
                  <a:pt x="263466" y="21600"/>
                </a:lnTo>
                <a:lnTo>
                  <a:pt x="0" y="21600"/>
                </a:lnTo>
                <a:close/>
              </a:path>
              <a:path fill="lightenLess" w="263466" h="21600">
                <a:moveTo>
                  <a:pt x="0" y="0"/>
                </a:moveTo>
                <a:lnTo>
                  <a:pt x="263466" y="0"/>
                </a:lnTo>
                <a:lnTo>
                  <a:pt x="262066" y="1400"/>
                </a:lnTo>
                <a:lnTo>
                  <a:pt x="1400" y="1400"/>
                </a:lnTo>
                <a:close/>
              </a:path>
              <a:path fill="darken" w="263466" h="21600">
                <a:moveTo>
                  <a:pt x="263466" y="0"/>
                </a:moveTo>
                <a:lnTo>
                  <a:pt x="263466" y="21600"/>
                </a:lnTo>
                <a:lnTo>
                  <a:pt x="262066" y="20200"/>
                </a:lnTo>
                <a:lnTo>
                  <a:pt x="262066" y="1400"/>
                </a:lnTo>
                <a:close/>
              </a:path>
              <a:path fill="darkenLess" w="263466" h="21600">
                <a:moveTo>
                  <a:pt x="263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066" y="20200"/>
                </a:lnTo>
                <a:close/>
              </a:path>
              <a:path fill="lighten" w="263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resenting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9080" y="1704600"/>
            <a:ext cx="47052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hoose 1 of the 3 options under Show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400"/>
              </a:spcBef>
              <a:buSzPct val="1800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Presented by a speaker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allows the presentation to run on the entire sc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Browsed by an individual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allows the presentation to be brought up in the PowerPoint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400"/>
              </a:spcBef>
              <a:buSzPct val="1800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Browsed at a Kiosk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allows user response by clicking on a button instead of advancing slides using the mouse,enter key or space bar. The next slide explains this in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6"/>
          <a:stretch/>
        </p:blipFill>
        <p:spPr>
          <a:xfrm>
            <a:off x="4724280" y="1828800"/>
            <a:ext cx="4419720" cy="2386080"/>
          </a:xfrm>
          <a:prstGeom prst="rect">
            <a:avLst/>
          </a:prstGeom>
          <a:ln w="0">
            <a:noFill/>
          </a:ln>
        </p:spPr>
      </p:pic>
      <p:sp>
        <p:nvSpPr>
          <p:cNvPr id="757" name="">
            <a:hlinkClick r:id="" action="ppaction://hlinkshowjump?jump=nextslide"/>
          </p:cNvPr>
          <p:cNvSpPr/>
          <p:nvPr/>
        </p:nvSpPr>
        <p:spPr>
          <a:xfrm>
            <a:off x="8077320" y="6162840"/>
            <a:ext cx="761760" cy="390240"/>
          </a:xfrm>
          <a:custGeom>
            <a:avLst/>
            <a:gdLst>
              <a:gd name="textAreaLeft" fmla="*/ 25200 w 761760"/>
              <a:gd name="textAreaRight" fmla="*/ 736560 w 761760"/>
              <a:gd name="textAreaTop" fmla="*/ 25200 h 390240"/>
              <a:gd name="textAreaBottom" fmla="*/ 365040 h 390240"/>
            </a:gdLst>
            <a:ahLst/>
            <a:rect l="textAreaLeft" t="textAreaTop" r="textAreaRight" b="textAreaBottom"/>
            <a:pathLst>
              <a:path w="42145" h="21600">
                <a:moveTo>
                  <a:pt x="0" y="0"/>
                </a:moveTo>
                <a:lnTo>
                  <a:pt x="42145" y="0"/>
                </a:lnTo>
                <a:lnTo>
                  <a:pt x="42145" y="21600"/>
                </a:lnTo>
                <a:lnTo>
                  <a:pt x="0" y="21600"/>
                </a:lnTo>
                <a:close/>
              </a:path>
              <a:path fill="lightenLess" w="42145" h="21600">
                <a:moveTo>
                  <a:pt x="0" y="0"/>
                </a:moveTo>
                <a:lnTo>
                  <a:pt x="42145" y="0"/>
                </a:lnTo>
                <a:lnTo>
                  <a:pt x="40745" y="1400"/>
                </a:lnTo>
                <a:lnTo>
                  <a:pt x="1400" y="1400"/>
                </a:lnTo>
                <a:close/>
              </a:path>
              <a:path fill="darken" w="42145" h="21600">
                <a:moveTo>
                  <a:pt x="42145" y="0"/>
                </a:moveTo>
                <a:lnTo>
                  <a:pt x="42145" y="21600"/>
                </a:lnTo>
                <a:lnTo>
                  <a:pt x="40745" y="20200"/>
                </a:lnTo>
                <a:lnTo>
                  <a:pt x="40745" y="1400"/>
                </a:lnTo>
                <a:close/>
              </a:path>
              <a:path fill="darkenLess" w="42145" h="21600">
                <a:moveTo>
                  <a:pt x="42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45" y="20200"/>
                </a:lnTo>
                <a:close/>
              </a:path>
              <a:path fill="lighten" w="42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45" h="21600">
                <a:moveTo>
                  <a:pt x="14066" y="3794"/>
                </a:moveTo>
                <a:lnTo>
                  <a:pt x="28079" y="10800"/>
                </a:lnTo>
                <a:lnTo>
                  <a:pt x="14066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52280" y="4896000"/>
            <a:ext cx="47055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eck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Loop continuously until ‘Esc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to allow your presentation to start over from the beginning automatically when it reaches the last sl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eck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Show without narratio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if you don’t want the inserted narration sound to 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eck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Show without animatio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if you don’t want any of your custom animations to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105520" y="4419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lect the slides you wish to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4120" y="556884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lect how you want to advance the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781680" y="2438280"/>
            <a:ext cx="3049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7238880" y="3809880"/>
            <a:ext cx="4572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4495680" y="2971800"/>
            <a:ext cx="362160" cy="22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14800" y="2209320"/>
            <a:ext cx="743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t qu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5840" y="1523520"/>
            <a:ext cx="77695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member, you want to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INSERT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 new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 to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5840" y="5562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BD13684_" descr=""/>
          <p:cNvPicPr/>
          <p:nvPr/>
        </p:nvPicPr>
        <p:blipFill>
          <a:blip r:embed="rId2"/>
          <a:stretch/>
        </p:blipFill>
        <p:spPr>
          <a:xfrm>
            <a:off x="2133720" y="365040"/>
            <a:ext cx="4502160" cy="618804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5105520" y="476244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915840" y="4762440"/>
            <a:ext cx="1752840" cy="533520"/>
          </a:xfrm>
          <a:custGeom>
            <a:avLst/>
            <a:gdLst>
              <a:gd name="textAreaLeft" fmla="*/ 34560 w 1752840"/>
              <a:gd name="textAreaRight" fmla="*/ 1718280 w 1752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32" h="21600">
                <a:moveTo>
                  <a:pt x="0" y="0"/>
                </a:moveTo>
                <a:lnTo>
                  <a:pt x="70932" y="0"/>
                </a:lnTo>
                <a:lnTo>
                  <a:pt x="70932" y="21600"/>
                </a:lnTo>
                <a:lnTo>
                  <a:pt x="0" y="21600"/>
                </a:lnTo>
                <a:close/>
              </a:path>
              <a:path fill="lightenLess" w="70932" h="21600">
                <a:moveTo>
                  <a:pt x="0" y="0"/>
                </a:moveTo>
                <a:lnTo>
                  <a:pt x="70932" y="0"/>
                </a:lnTo>
                <a:lnTo>
                  <a:pt x="69532" y="1400"/>
                </a:lnTo>
                <a:lnTo>
                  <a:pt x="1400" y="1400"/>
                </a:lnTo>
                <a:close/>
              </a:path>
              <a:path fill="darken" w="70932" h="21600">
                <a:moveTo>
                  <a:pt x="70932" y="0"/>
                </a:moveTo>
                <a:lnTo>
                  <a:pt x="70932" y="21600"/>
                </a:lnTo>
                <a:lnTo>
                  <a:pt x="69532" y="20200"/>
                </a:lnTo>
                <a:lnTo>
                  <a:pt x="69532" y="1400"/>
                </a:lnTo>
                <a:close/>
              </a:path>
              <a:path fill="darkenLess" w="70932" h="21600">
                <a:moveTo>
                  <a:pt x="70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2" y="20200"/>
                </a:lnTo>
                <a:close/>
              </a:path>
              <a:path fill="lighten" w="70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Browsed at a  Kiosk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77691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cellent choice for a Stand Alone Instructional Resource (S.T.A.I.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sed for one on computer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ses a button instead of mouse or keyboard to advance sl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s presentation is a S.T.A.I.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here for mor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th G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Arial Unicode MS"/>
                <a:hlinkClick r:id="rId7"/>
              </a:rPr>
              <a:t>Word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1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1" y="20200"/>
                </a:lnTo>
                <a:lnTo>
                  <a:pt x="54731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1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31" h="21600">
                <a:moveTo>
                  <a:pt x="21059" y="3794"/>
                </a:moveTo>
                <a:lnTo>
                  <a:pt x="35072" y="10800"/>
                </a:lnTo>
                <a:lnTo>
                  <a:pt x="2105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 Unicode MS"/>
              </a:rPr>
              <a:t>Two Steps to make any Presentation a S.T.A.I.R. 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76916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dd action button for nav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sign specific action to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>
            <a:hlinkClick r:id="" action="ppaction://hlinkshowjump?jump=nextslide"/>
          </p:cNvPr>
          <p:cNvSpPr/>
          <p:nvPr/>
        </p:nvSpPr>
        <p:spPr>
          <a:xfrm>
            <a:off x="7315200" y="57150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j0076218" descr=""/>
          <p:cNvPicPr/>
          <p:nvPr/>
        </p:nvPicPr>
        <p:blipFill>
          <a:blip r:embed="rId2"/>
          <a:stretch/>
        </p:blipFill>
        <p:spPr>
          <a:xfrm>
            <a:off x="3505320" y="3719520"/>
            <a:ext cx="135396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 Button to Slide Show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52280" y="2819160"/>
            <a:ext cx="510552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on Slide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ction 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on type of button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rag cursor to size and place your 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" action="ppaction://hlinkshowjump?jump=nextslide"/>
          </p:cNvPr>
          <p:cNvSpPr/>
          <p:nvPr/>
        </p:nvSpPr>
        <p:spPr>
          <a:xfrm>
            <a:off x="8001000" y="6324480"/>
            <a:ext cx="830160" cy="381240"/>
          </a:xfrm>
          <a:custGeom>
            <a:avLst/>
            <a:gdLst>
              <a:gd name="textAreaLeft" fmla="*/ 24480 w 830160"/>
              <a:gd name="textAreaRight" fmla="*/ 805680 w 830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011" h="21600">
                <a:moveTo>
                  <a:pt x="0" y="0"/>
                </a:moveTo>
                <a:lnTo>
                  <a:pt x="47011" y="0"/>
                </a:lnTo>
                <a:lnTo>
                  <a:pt x="47011" y="21600"/>
                </a:lnTo>
                <a:lnTo>
                  <a:pt x="0" y="21600"/>
                </a:lnTo>
                <a:close/>
              </a:path>
              <a:path fill="lightenLess" w="47011" h="21600">
                <a:moveTo>
                  <a:pt x="0" y="0"/>
                </a:moveTo>
                <a:lnTo>
                  <a:pt x="47011" y="0"/>
                </a:lnTo>
                <a:lnTo>
                  <a:pt x="45611" y="1400"/>
                </a:lnTo>
                <a:lnTo>
                  <a:pt x="1400" y="1400"/>
                </a:lnTo>
                <a:close/>
              </a:path>
              <a:path fill="darken" w="47011" h="21600">
                <a:moveTo>
                  <a:pt x="47011" y="0"/>
                </a:moveTo>
                <a:lnTo>
                  <a:pt x="47011" y="21600"/>
                </a:lnTo>
                <a:lnTo>
                  <a:pt x="45611" y="20200"/>
                </a:lnTo>
                <a:lnTo>
                  <a:pt x="45611" y="1400"/>
                </a:lnTo>
                <a:close/>
              </a:path>
              <a:path fill="darkenLess" w="47011" h="21600">
                <a:moveTo>
                  <a:pt x="47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11" y="20200"/>
                </a:lnTo>
                <a:close/>
              </a:path>
              <a:path fill="lighten" w="47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011" h="21600">
                <a:moveTo>
                  <a:pt x="16499" y="3794"/>
                </a:moveTo>
                <a:lnTo>
                  <a:pt x="30512" y="10800"/>
                </a:lnTo>
                <a:lnTo>
                  <a:pt x="1649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6"/>
          <a:stretch/>
        </p:blipFill>
        <p:spPr>
          <a:xfrm>
            <a:off x="3800520" y="1638360"/>
            <a:ext cx="3819600" cy="64764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7"/>
          <a:stretch/>
        </p:blipFill>
        <p:spPr>
          <a:xfrm>
            <a:off x="6019920" y="1981080"/>
            <a:ext cx="1371600" cy="140040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8"/>
          <a:stretch/>
        </p:blipFill>
        <p:spPr>
          <a:xfrm>
            <a:off x="7391520" y="2438280"/>
            <a:ext cx="971280" cy="762120"/>
          </a:xfrm>
          <a:prstGeom prst="rect">
            <a:avLst/>
          </a:prstGeom>
          <a:ln w="0">
            <a:noFill/>
          </a:ln>
        </p:spPr>
      </p:pic>
      <p:sp>
        <p:nvSpPr>
          <p:cNvPr id="778" name="">
            <a:hlinkClick r:id="" action="ppaction://hlinkshowjump?jump=nextslide"/>
          </p:cNvPr>
          <p:cNvSpPr/>
          <p:nvPr/>
        </p:nvSpPr>
        <p:spPr>
          <a:xfrm>
            <a:off x="7391520" y="2438280"/>
            <a:ext cx="971280" cy="762120"/>
          </a:xfrm>
          <a:custGeom>
            <a:avLst/>
            <a:gdLst>
              <a:gd name="textAreaLeft" fmla="*/ 49320 w 971280"/>
              <a:gd name="textAreaRight" fmla="*/ 921960 w 971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7525" h="21600">
                <a:moveTo>
                  <a:pt x="0" y="0"/>
                </a:moveTo>
                <a:lnTo>
                  <a:pt x="27525" y="0"/>
                </a:lnTo>
                <a:lnTo>
                  <a:pt x="27525" y="21600"/>
                </a:lnTo>
                <a:lnTo>
                  <a:pt x="0" y="21600"/>
                </a:lnTo>
                <a:close/>
              </a:path>
              <a:path fill="lightenLess" w="27525" h="21600">
                <a:moveTo>
                  <a:pt x="0" y="0"/>
                </a:moveTo>
                <a:lnTo>
                  <a:pt x="27525" y="0"/>
                </a:lnTo>
                <a:lnTo>
                  <a:pt x="26125" y="1400"/>
                </a:lnTo>
                <a:lnTo>
                  <a:pt x="1400" y="1400"/>
                </a:lnTo>
                <a:close/>
              </a:path>
              <a:path fill="darken" w="27525" h="21600">
                <a:moveTo>
                  <a:pt x="27525" y="0"/>
                </a:moveTo>
                <a:lnTo>
                  <a:pt x="27525" y="21600"/>
                </a:lnTo>
                <a:lnTo>
                  <a:pt x="26125" y="20200"/>
                </a:lnTo>
                <a:lnTo>
                  <a:pt x="26125" y="1400"/>
                </a:lnTo>
                <a:close/>
              </a:path>
              <a:path fill="darkenLess" w="27525" h="21600">
                <a:moveTo>
                  <a:pt x="275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25" y="20200"/>
                </a:lnTo>
                <a:close/>
              </a:path>
              <a:path fill="lighten" w="275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Button Descrip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8001000" y="6324480"/>
            <a:ext cx="830160" cy="381240"/>
          </a:xfrm>
          <a:custGeom>
            <a:avLst/>
            <a:gdLst>
              <a:gd name="textAreaLeft" fmla="*/ 24480 w 830160"/>
              <a:gd name="textAreaRight" fmla="*/ 805680 w 830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011" h="21600">
                <a:moveTo>
                  <a:pt x="0" y="0"/>
                </a:moveTo>
                <a:lnTo>
                  <a:pt x="47011" y="0"/>
                </a:lnTo>
                <a:lnTo>
                  <a:pt x="47011" y="21600"/>
                </a:lnTo>
                <a:lnTo>
                  <a:pt x="0" y="21600"/>
                </a:lnTo>
                <a:close/>
              </a:path>
              <a:path fill="lightenLess" w="47011" h="21600">
                <a:moveTo>
                  <a:pt x="0" y="0"/>
                </a:moveTo>
                <a:lnTo>
                  <a:pt x="47011" y="0"/>
                </a:lnTo>
                <a:lnTo>
                  <a:pt x="45611" y="1400"/>
                </a:lnTo>
                <a:lnTo>
                  <a:pt x="1400" y="1400"/>
                </a:lnTo>
                <a:close/>
              </a:path>
              <a:path fill="darken" w="47011" h="21600">
                <a:moveTo>
                  <a:pt x="47011" y="0"/>
                </a:moveTo>
                <a:lnTo>
                  <a:pt x="47011" y="21600"/>
                </a:lnTo>
                <a:lnTo>
                  <a:pt x="45611" y="20200"/>
                </a:lnTo>
                <a:lnTo>
                  <a:pt x="45611" y="1400"/>
                </a:lnTo>
                <a:close/>
              </a:path>
              <a:path fill="darkenLess" w="47011" h="21600">
                <a:moveTo>
                  <a:pt x="47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11" y="20200"/>
                </a:lnTo>
                <a:close/>
              </a:path>
              <a:path fill="lighten" w="47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011" h="21600">
                <a:moveTo>
                  <a:pt x="16499" y="3794"/>
                </a:moveTo>
                <a:lnTo>
                  <a:pt x="30512" y="10800"/>
                </a:lnTo>
                <a:lnTo>
                  <a:pt x="1649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3219480" y="2787480"/>
            <a:ext cx="2800440" cy="219744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2960640" y="2209680"/>
            <a:ext cx="609480" cy="11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2787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es you to the previous p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320" y="4826160"/>
            <a:ext cx="37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es you to the last viewed sl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6320" y="3962520"/>
            <a:ext cx="264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es you to the next p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45280" y="1905120"/>
            <a:ext cx="2514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the symbol for Hel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33640" y="57913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s a new program like Microsoft Wo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24080" y="1600200"/>
            <a:ext cx="222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es you to the beginning of your presen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762600" y="44514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s a mov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29200" y="5124600"/>
            <a:ext cx="14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s a s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5400" y="1905120"/>
            <a:ext cx="3124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ank Button can be made invi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62720" y="236232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the symbol for more in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477120" y="3886200"/>
            <a:ext cx="2381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es you to the end of your presen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743200" y="29718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2438280" y="3962160"/>
            <a:ext cx="167652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960640" y="4647960"/>
            <a:ext cx="54468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3962520" y="464796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028840" y="4647960"/>
            <a:ext cx="26676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5562360" y="4648320"/>
            <a:ext cx="119988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562720" y="3962160"/>
            <a:ext cx="104760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67080" y="2362320"/>
            <a:ext cx="6098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14800" y="2362320"/>
            <a:ext cx="152280" cy="80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4876560" y="2209680"/>
            <a:ext cx="468360" cy="11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5562720" y="278748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ssign A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295440" cy="39146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380880" y="16765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from this list of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5909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 Cl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b is the action assigned when someone clicks on th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520" y="44197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 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b is the action assigned when the mouse moves over the button. Move your mouse to this tab to view a demons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>
            <a:hlinkClick r:id="" action="ppaction://hlinkshowjump?jump=nextslide"/>
            <a:hlinkClick r:id="rId3"/>
          </p:cNvPr>
          <p:cNvSpPr/>
          <p:nvPr/>
        </p:nvSpPr>
        <p:spPr>
          <a:xfrm>
            <a:off x="5867280" y="1905120"/>
            <a:ext cx="685800" cy="30456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7206" y="1400"/>
                </a:lnTo>
                <a:lnTo>
                  <a:pt x="1400" y="140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7206" y="20200"/>
                </a:lnTo>
                <a:lnTo>
                  <a:pt x="47206" y="140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6" y="202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67080" y="21337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1905120"/>
            <a:ext cx="76176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67280" y="19051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>
            <a:hlinkClick r:id="" action="ppaction://hlinkshowjump?jump=nextslide"/>
          </p:cNvPr>
          <p:cNvSpPr/>
          <p:nvPr/>
        </p:nvSpPr>
        <p:spPr>
          <a:xfrm>
            <a:off x="6934320" y="6248520"/>
            <a:ext cx="990360" cy="304560"/>
          </a:xfrm>
          <a:custGeom>
            <a:avLst/>
            <a:gdLst>
              <a:gd name="textAreaLeft" fmla="*/ 19440 w 990360"/>
              <a:gd name="textAreaRight" fmla="*/ 970920 w 9903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81" h="21600">
                <a:moveTo>
                  <a:pt x="28084" y="3794"/>
                </a:moveTo>
                <a:lnTo>
                  <a:pt x="42097" y="10800"/>
                </a:lnTo>
                <a:lnTo>
                  <a:pt x="28084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j0078758" descr=""/>
          <p:cNvPicPr/>
          <p:nvPr/>
        </p:nvPicPr>
        <p:blipFill>
          <a:blip r:embed="rId2"/>
          <a:stretch/>
        </p:blipFill>
        <p:spPr>
          <a:xfrm>
            <a:off x="5124600" y="2057400"/>
            <a:ext cx="3617640" cy="363384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609480" y="329076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ould be great for younger kids who don’t have full control of the 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600200" y="685800"/>
            <a:ext cx="4957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etty neat, eh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1236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To make an Invisible Action butt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2793600"/>
            <a:ext cx="868968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lect the blank button 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rag it over text or object you wish to create a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int can determines button color – choose No f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int brush determines line color – choose No f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6"/>
          <a:stretch/>
        </p:blipFill>
        <p:spPr>
          <a:xfrm>
            <a:off x="762120" y="5214960"/>
            <a:ext cx="7619760" cy="271440"/>
          </a:xfrm>
          <a:prstGeom prst="rect">
            <a:avLst/>
          </a:prstGeom>
          <a:ln w="0">
            <a:noFill/>
          </a:ln>
        </p:spPr>
      </p:pic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7"/>
          <a:stretch/>
        </p:blipFill>
        <p:spPr>
          <a:xfrm>
            <a:off x="352440" y="3772080"/>
            <a:ext cx="351000" cy="38088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8"/>
          <a:stretch/>
        </p:blipFill>
        <p:spPr>
          <a:xfrm>
            <a:off x="352440" y="4305240"/>
            <a:ext cx="291960" cy="30492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9"/>
          <a:stretch/>
        </p:blipFill>
        <p:spPr>
          <a:xfrm>
            <a:off x="6486480" y="2057400"/>
            <a:ext cx="971640" cy="76212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6486480" y="2057400"/>
            <a:ext cx="304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5029200" cy="9018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5257800" y="2666880"/>
            <a:ext cx="1258920" cy="9874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4"/>
          <a:stretch/>
        </p:blipFill>
        <p:spPr>
          <a:xfrm>
            <a:off x="3392640" y="2133720"/>
            <a:ext cx="1865160" cy="190476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5"/>
          <a:stretch/>
        </p:blipFill>
        <p:spPr>
          <a:xfrm>
            <a:off x="914400" y="4394160"/>
            <a:ext cx="1676520" cy="7128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6"/>
          <a:stretch/>
        </p:blipFill>
        <p:spPr>
          <a:xfrm>
            <a:off x="914400" y="4233960"/>
            <a:ext cx="1676520" cy="87300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392640" y="4394160"/>
            <a:ext cx="24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Highlight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392640" y="5106960"/>
            <a:ext cx="54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hoose and drag blank button ov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57800" y="266688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nextslide"/>
          </p:cNvPr>
          <p:cNvSpPr/>
          <p:nvPr/>
        </p:nvSpPr>
        <p:spPr>
          <a:xfrm>
            <a:off x="746748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Adding a blank action button over tex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914400" y="4233960"/>
            <a:ext cx="1676520" cy="87300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Adding a blank action button over tex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85800" y="1828800"/>
            <a:ext cx="35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hoose hyperlink t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85800" y="2362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lick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746748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3295800" cy="391500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685800" y="28195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hoose No fill for Fill color and Line color for the action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" action="ppaction://hlinksldjump"/>
              </a:rPr>
              <a:t>Making a New Slide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3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4" action="ppaction://hlinksldjump"/>
              </a:rPr>
              <a:t> </a:t>
            </a:r>
            <a:r>
              <a:rPr b="0" lang="en-US" sz="1300" spc="-1" strike="noStrike" u="sng">
                <a:solidFill>
                  <a:srgbClr val="d69b8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Slide Transition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Inserting Sound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Tables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Using Hyperlink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Setting up your Slide Show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inting Op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needs to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to Pr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AG00169_" descr=""/>
          <p:cNvPicPr/>
          <p:nvPr/>
        </p:nvPicPr>
        <p:blipFill>
          <a:blip r:embed="rId22"/>
          <a:stretch/>
        </p:blipFill>
        <p:spPr>
          <a:xfrm>
            <a:off x="3462480" y="4114800"/>
            <a:ext cx="20667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6:50:34Z</dcterms:created>
  <dc:creator>janenek</dc:creator>
  <dc:description/>
  <dc:language>en-US</dc:language>
  <cp:lastModifiedBy>jkosman</cp:lastModifiedBy>
  <dcterms:modified xsi:type="dcterms:W3CDTF">2002-03-02T14:32:59Z</dcterms:modified>
  <cp:revision>81</cp:revision>
  <dc:subject/>
  <dc:title>Making a New slide in PowerPoint</dc:title>
</cp:coreProperties>
</file>