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25.png" ContentType="image/png"/>
  <Override PartName="/ppt/media/image4.jpeg" ContentType="image/jpeg"/>
  <Override PartName="/ppt/media/image40.png" ContentType="image/png"/>
  <Override PartName="/ppt/media/image35.png" ContentType="image/png"/>
  <Override PartName="/ppt/media/image36.png" ContentType="image/png"/>
  <Override PartName="/ppt/media/image41.png" ContentType="image/png"/>
  <Override PartName="/ppt/media/image42.png" ContentType="image/png"/>
  <Override PartName="/ppt/media/image32.png" ContentType="image/png"/>
  <Override PartName="/ppt/media/image44.png" ContentType="image/png"/>
  <Override PartName="/ppt/media/image33.png" ContentType="image/png"/>
  <Override PartName="/ppt/media/image52.jpeg" ContentType="image/jpeg"/>
  <Override PartName="/ppt/media/image45.png" ContentType="image/png"/>
  <Override PartName="/ppt/media/image34.png" ContentType="image/png"/>
  <Override PartName="/ppt/media/image39.png" ContentType="image/png"/>
  <Override PartName="/ppt/media/image9.png" ContentType="image/png"/>
  <Override PartName="/ppt/media/image46.png" ContentType="image/png"/>
  <Override PartName="/ppt/media/image51.png" ContentType="image/png"/>
  <Override PartName="/ppt/media/image43.png" ContentType="image/png"/>
  <Override PartName="/ppt/media/image31.png" ContentType="image/png"/>
  <Override PartName="/ppt/media/image11.png" ContentType="image/png"/>
  <Override PartName="/ppt/media/image48.png" ContentType="image/png"/>
  <Override PartName="/ppt/media/image13.png" ContentType="image/png"/>
  <Override PartName="/ppt/media/image5.jpeg" ContentType="image/jpeg"/>
  <Override PartName="/ppt/media/image50.png" ContentType="image/png"/>
  <Override PartName="/ppt/media/image49.png" ContentType="image/png"/>
  <Override PartName="/ppt/media/image12.png" ContentType="image/png"/>
  <Override PartName="/ppt/media/image1.jpeg" ContentType="image/jpeg"/>
  <Override PartName="/ppt/media/image10.png" ContentType="image/png"/>
  <Override PartName="/ppt/media/image47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3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-2160"/>
            <a:ext cx="5105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-2160"/>
            <a:ext cx="5105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-2160"/>
            <a:ext cx="5105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8A0193-36F4-4233-A18B-29AB7AB5D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-2160"/>
            <a:ext cx="5105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0FF694-F31D-41DA-9C50-8A92288E4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-2160"/>
            <a:ext cx="5105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A11596-E1CF-46AC-84A1-6FE4229B7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-2160"/>
            <a:ext cx="5105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71C301-FCF8-44C9-B4FB-5518FABA4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-2160"/>
            <a:ext cx="5105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1BC506-C70B-49EA-8D2E-E98607C09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51055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71B4DC-81CE-44CF-B46B-789635483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-2160"/>
            <a:ext cx="5105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14D445-579B-4BFB-9EBF-33C2F0DB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-2160"/>
            <a:ext cx="5105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-2160"/>
            <a:ext cx="5105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19B8C6-57F8-4EFD-AD83-757DDC1E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-2160"/>
            <a:ext cx="5105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B45403-57B6-43EF-97A1-95D95CAC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-2160"/>
            <a:ext cx="5105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9F962A-03FA-4BAF-99B0-4567FE730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-2160"/>
            <a:ext cx="5105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B0D797-8816-4F04-ACE9-3146027C0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-2160"/>
            <a:ext cx="5105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8E0B05-AE85-456C-93B4-AC9AADAAB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-2160"/>
            <a:ext cx="5105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-2160"/>
            <a:ext cx="5105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-2160"/>
            <a:ext cx="5105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51055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-2160"/>
            <a:ext cx="5105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-2160"/>
            <a:ext cx="5105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-2160"/>
            <a:ext cx="5105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5105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553080" y="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Yr 10 IT - Ac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924680" y="6400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lide </a:t>
            </a:r>
            <a:fld id="{ECEE3323-F351-4264-B023-1F4F599C636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D969F-4D94-4D53-BB47-0E1BBF63E8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50.png"/><Relationship Id="rId7" Type="http://schemas.openxmlformats.org/officeDocument/2006/relationships/image" Target="../media/image51.png"/><Relationship Id="rId8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6.jpeg"/><Relationship Id="rId5" Type="http://schemas.openxmlformats.org/officeDocument/2006/relationships/image" Target="../media/image4.jpeg"/><Relationship Id="rId6" Type="http://schemas.openxmlformats.org/officeDocument/2006/relationships/image" Target="../media/image52.jpe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48480"/>
            <a:ext cx="8686800" cy="292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Year 10 </a:t>
            </a:r>
            <a:br>
              <a:rPr sz="6600"/>
            </a:br>
            <a:r>
              <a:rPr b="0" lang="en-US" sz="6000" spc="-1" strike="noStrike">
                <a:solidFill>
                  <a:srgbClr val="ccffff"/>
                </a:solidFill>
                <a:latin typeface="Tahoma"/>
              </a:rPr>
              <a:t>Information Technology</a:t>
            </a:r>
            <a:endParaRPr b="0" lang="en-US" sz="6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reating A Data Base with MicroSoft Access 2000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88" name="Anna_and_mother" descr=""/>
          <p:cNvPicPr/>
          <p:nvPr/>
        </p:nvPicPr>
        <p:blipFill>
          <a:blip r:embed="rId2"/>
          <a:stretch/>
        </p:blipFill>
        <p:spPr>
          <a:xfrm>
            <a:off x="0" y="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89" name="old_toy_cars" descr=""/>
          <p:cNvPicPr/>
          <p:nvPr/>
        </p:nvPicPr>
        <p:blipFill>
          <a:blip r:embed="rId3"/>
          <a:stretch/>
        </p:blipFill>
        <p:spPr>
          <a:xfrm>
            <a:off x="6400800" y="0"/>
            <a:ext cx="2743200" cy="2054160"/>
          </a:xfrm>
          <a:prstGeom prst="rect">
            <a:avLst/>
          </a:prstGeom>
          <a:ln w="0">
            <a:noFill/>
          </a:ln>
        </p:spPr>
      </p:pic>
      <p:pic>
        <p:nvPicPr>
          <p:cNvPr id="90" name="old_bicycle" descr=""/>
          <p:cNvPicPr/>
          <p:nvPr/>
        </p:nvPicPr>
        <p:blipFill>
          <a:blip r:embed="rId4"/>
          <a:stretch/>
        </p:blipFill>
        <p:spPr>
          <a:xfrm>
            <a:off x="0" y="5141880"/>
            <a:ext cx="2286000" cy="1716120"/>
          </a:xfrm>
          <a:prstGeom prst="rect">
            <a:avLst/>
          </a:prstGeom>
          <a:ln w="0">
            <a:noFill/>
          </a:ln>
        </p:spPr>
      </p:pic>
      <p:pic>
        <p:nvPicPr>
          <p:cNvPr id="91" name="silver_tea_set" descr=""/>
          <p:cNvPicPr/>
          <p:nvPr/>
        </p:nvPicPr>
        <p:blipFill>
          <a:blip r:embed="rId5"/>
          <a:stretch/>
        </p:blipFill>
        <p:spPr>
          <a:xfrm>
            <a:off x="3429000" y="5562720"/>
            <a:ext cx="1612800" cy="952560"/>
          </a:xfrm>
          <a:prstGeom prst="rect">
            <a:avLst/>
          </a:prstGeom>
          <a:ln w="0">
            <a:noFill/>
          </a:ln>
        </p:spPr>
      </p:pic>
      <p:pic>
        <p:nvPicPr>
          <p:cNvPr id="92" name="old_clothes" descr=""/>
          <p:cNvPicPr/>
          <p:nvPr/>
        </p:nvPicPr>
        <p:blipFill>
          <a:blip r:embed="rId6"/>
          <a:stretch/>
        </p:blipFill>
        <p:spPr>
          <a:xfrm>
            <a:off x="6858000" y="5143680"/>
            <a:ext cx="2286000" cy="17143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734000" y="2514600"/>
            <a:ext cx="4410000" cy="2610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5105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Are Queries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52280" y="1828800"/>
            <a:ext cx="5077080" cy="25718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533520" y="4648320"/>
            <a:ext cx="2047680" cy="13698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2666880" y="5334120"/>
            <a:ext cx="6477120" cy="8427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905120" y="4419720"/>
            <a:ext cx="609480" cy="7617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209680" y="4800240"/>
            <a:ext cx="2667240" cy="6858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28800" y="5867280"/>
            <a:ext cx="9144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533520"/>
            <a:ext cx="39625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re are three different ‘VIEWS’ of the same quer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ne is asking for information about interview times from the ta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5105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Are Reports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228600" y="2590920"/>
            <a:ext cx="6448320" cy="38988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334120" y="762120"/>
            <a:ext cx="39621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Repor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be sent to the print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 tell people about the interviews from the quer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5105520"/>
            <a:ext cx="2666880" cy="160020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-152280" y="2133720"/>
            <a:ext cx="3886200" cy="129528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48320" y="2133720"/>
            <a:ext cx="4495680" cy="14475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47920" y="1066680"/>
            <a:ext cx="5486400" cy="14479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  <a:ea typeface="Tahoma"/>
              </a:rPr>
              <a:t>How Do Tables, Reports,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Tahoma"/>
                <a:ea typeface="Tahoma"/>
              </a:rPr>
              <a:t>Queries and Forms Work Together?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3124080" y="3166920"/>
            <a:ext cx="1597320" cy="1252800"/>
          </a:xfrm>
          <a:prstGeom prst="can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T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3476520"/>
            <a:ext cx="993600" cy="15526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FOR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5251320"/>
            <a:ext cx="1554120" cy="1301760"/>
          </a:xfrm>
          <a:prstGeom prst="upArrowCallout">
            <a:avLst>
              <a:gd name="adj1" fmla="val 29849"/>
              <a:gd name="adj2" fmla="val 29847"/>
              <a:gd name="adj3" fmla="val 16667"/>
              <a:gd name="adj4" fmla="val 6666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QUE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477120" y="3352680"/>
            <a:ext cx="1295280" cy="17528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REPO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800600" y="4952520"/>
            <a:ext cx="2133720" cy="8384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3657600"/>
            <a:ext cx="1904760" cy="3049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85520" y="3589920"/>
            <a:ext cx="1480320" cy="1036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1673280" y="4160160"/>
            <a:ext cx="1258200" cy="3812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752480" y="4876920"/>
            <a:ext cx="1371600" cy="91440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758760" y="4251960"/>
            <a:ext cx="397440" cy="91656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13716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bles obtain their data directly, or from Forms, or from Queries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 then STORE the data as record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24280" y="251460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ports obtain their information either from Table(s) or from Quer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-152280" y="541008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eries give data to Forms, Tables and Reports, and get it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rom Ta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43828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give data to Tables, and get Informatio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rom Ta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885840" y="2362320"/>
            <a:ext cx="228600" cy="1066680"/>
          </a:xfrm>
          <a:prstGeom prst="line">
            <a:avLst/>
          </a:prstGeom>
          <a:ln w="57240">
            <a:solidFill>
              <a:srgbClr val="ffff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2666880"/>
            <a:ext cx="533520" cy="1219320"/>
          </a:xfrm>
          <a:prstGeom prst="line">
            <a:avLst/>
          </a:prstGeom>
          <a:ln w="57240">
            <a:solidFill>
              <a:srgbClr val="ffff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943600" y="3124080"/>
            <a:ext cx="1143000" cy="685800"/>
          </a:xfrm>
          <a:prstGeom prst="line">
            <a:avLst/>
          </a:prstGeom>
          <a:ln w="57240">
            <a:solidFill>
              <a:srgbClr val="ffff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14600" y="5867280"/>
            <a:ext cx="1219320" cy="457200"/>
          </a:xfrm>
          <a:prstGeom prst="line">
            <a:avLst/>
          </a:prstGeom>
          <a:ln w="57240">
            <a:solidFill>
              <a:srgbClr val="ffff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Do We Start 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ur First Data Base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380880" y="1981080"/>
            <a:ext cx="845820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d the story or SCENARIO that has a problem with inform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our task is to solve the information problem by creating a database for the people in the stor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k your self two questions about the information probl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/ What INFORMATION do the people need to get out of the databas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/ What facts or DATA will you need to put into the databas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eate a TABLE to hold the data you will be putting i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ell Me About The Data 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Base We Will Create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" y="1981080"/>
            <a:ext cx="861048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na owns an antique market from which she sells old thing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the market she has 6 stalls, each with different types of Antiques for sale (clothing, furniture, jewellery, toys, books, watches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na wants to keep track of the various items she has for sale, so that she can help people who ring up enquir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ch item originally cost a certain amou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ch item will be sold for 30% mo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our job is to create a database of Anna’s stoc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Data Will It Contain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1981080"/>
            <a:ext cx="86104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ch item will be a RECORD with a number of facts about each o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each record you need to know the following fact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the item i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group it belongs to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t cost Ann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Data Fields Will We Need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1981080"/>
            <a:ext cx="365760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ch item will be a RECOR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each record you need to know the following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the item i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Description of the item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group it belongs to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t cost Ann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3505320" y="2362320"/>
            <a:ext cx="1752480" cy="3045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34120" y="205740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Uniqu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ID Numb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each i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3429000" y="3504960"/>
            <a:ext cx="2057400" cy="5331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410080" y="32767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or the i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505320" y="5105160"/>
            <a:ext cx="2514600" cy="759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86400" y="48769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Grou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N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29000" y="5791320"/>
            <a:ext cx="2590920" cy="759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562720" y="56386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Original C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3505320" y="4419360"/>
            <a:ext cx="1904760" cy="1522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410080" y="41148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scri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Will We Set Up Our Table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4467240" cy="17845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5562720" y="190512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en a new database and save it into your IT folder called ‘Access’. Call the database ‘YourNameAnna’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80880" y="3428640"/>
            <a:ext cx="2286000" cy="1511640"/>
            <a:chOff x="380880" y="3428640"/>
            <a:chExt cx="2286000" cy="1511640"/>
          </a:xfrm>
        </p:grpSpPr>
        <p:sp>
          <p:nvSpPr>
            <p:cNvPr id="191" name=""/>
            <p:cNvSpPr/>
            <p:nvPr/>
          </p:nvSpPr>
          <p:spPr>
            <a:xfrm>
              <a:off x="380880" y="4114800"/>
              <a:ext cx="228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hen select the ‘Tables’ Object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609480" y="3428640"/>
              <a:ext cx="609840" cy="609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233280" y="3123720"/>
            <a:ext cx="3581640" cy="2894400"/>
            <a:chOff x="233280" y="3123720"/>
            <a:chExt cx="3581640" cy="2894400"/>
          </a:xfrm>
        </p:grpSpPr>
        <p:sp>
          <p:nvSpPr>
            <p:cNvPr id="194" name=""/>
            <p:cNvSpPr/>
            <p:nvPr/>
          </p:nvSpPr>
          <p:spPr>
            <a:xfrm>
              <a:off x="233280" y="5192640"/>
              <a:ext cx="3581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hen choose ‘Create table </a:t>
              </a:r>
              <a:br>
                <a:rPr sz="2400"/>
              </a:b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in Design View’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2743200" y="3123720"/>
              <a:ext cx="228600" cy="20574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3962520" y="4340160"/>
            <a:ext cx="4000320" cy="231480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Do We Set Up ‘Fields’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0" y="1828800"/>
            <a:ext cx="3657600" cy="31924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809880" y="1676520"/>
            <a:ext cx="495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ype in the first field name “stockID”, set its datatype as Autonumber – use the down arrow for this – then save the table with the name “tblStock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86200" y="350532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ype in the second field name “name”, set its datatype as text – use the down arrow for thi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Do We Create ‘Look-Ups’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228600" y="1600200"/>
            <a:ext cx="2819520" cy="22924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581280" y="1752480"/>
            <a:ext cx="495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ype in the third field name “group”, set its data type as ‘Lookup Wizard’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581280" y="2743200"/>
            <a:ext cx="495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oose “I will type in the values I want”, then insert clothing, furniture, jewellery, toys, books, watch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28600" y="4038480"/>
            <a:ext cx="3657600" cy="25243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4114800" y="4191120"/>
            <a:ext cx="2104920" cy="23050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6553080" y="4267080"/>
            <a:ext cx="20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ing the down arrow on your keyboard to get to the next li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248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Are Data Bases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895480" y="2133720"/>
            <a:ext cx="3200400" cy="3429000"/>
          </a:xfrm>
          <a:prstGeom prst="cube">
            <a:avLst>
              <a:gd name="adj" fmla="val 25000"/>
            </a:avLst>
          </a:prstGeom>
          <a:solidFill>
            <a:srgbClr val="cc99ff"/>
          </a:solidFill>
          <a:ln w="0">
            <a:noFill/>
          </a:ln>
          <a:effectLst>
            <a:outerShdw dist="17819" dir="2700000" blurRad="0" rotWithShape="0">
              <a:srgbClr val="79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cts sto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conver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om Dat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o in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3048120"/>
            <a:ext cx="2666880" cy="1371600"/>
          </a:xfrm>
          <a:prstGeom prst="rightArrow">
            <a:avLst>
              <a:gd name="adj1" fmla="val 50000"/>
              <a:gd name="adj2" fmla="val 48609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966600">
            <a:off x="380520" y="1752480"/>
            <a:ext cx="2667240" cy="1371600"/>
          </a:xfrm>
          <a:prstGeom prst="rightArrow">
            <a:avLst>
              <a:gd name="adj1" fmla="val 50000"/>
              <a:gd name="adj2" fmla="val 48615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undred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20615400">
            <a:off x="380880" y="4419360"/>
            <a:ext cx="2667240" cy="1371600"/>
          </a:xfrm>
          <a:prstGeom prst="rightArrow">
            <a:avLst>
              <a:gd name="adj1" fmla="val 50000"/>
              <a:gd name="adj2" fmla="val 48615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324480" y="1676520"/>
            <a:ext cx="2057400" cy="4572000"/>
          </a:xfrm>
          <a:custGeom>
            <a:avLst/>
            <a:gdLst>
              <a:gd name="textAreaLeft" fmla="*/ 321480 w 2057400"/>
              <a:gd name="textAreaRight" fmla="*/ 1800360 w 2057400"/>
              <a:gd name="textAreaTop" fmla="*/ 1143000 h 4572000"/>
              <a:gd name="textAreaBottom" fmla="*/ 3429000 h 4572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ch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es ou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9615800">
            <a:off x="685800" y="5257800"/>
            <a:ext cx="2666880" cy="1371600"/>
          </a:xfrm>
          <a:prstGeom prst="rightArrow">
            <a:avLst>
              <a:gd name="adj1" fmla="val 50000"/>
              <a:gd name="adj2" fmla="val 48609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 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Do We Make A ‘Cost Field’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3962520" y="17524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ype in the fourth field name “cost”, set its data type as ‘Currency’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0" y="1828800"/>
            <a:ext cx="3618000" cy="45720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962520" y="32004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ype in the fifth field name “notes”, set its data type as ‘Memo’ – this will be for your description of the item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Will We Populate 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ur Table With Data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228600" y="1828800"/>
            <a:ext cx="8458200" cy="17953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228600" y="3886200"/>
            <a:ext cx="8534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ou simply invent data for your ta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ter at least 20-30 items – include every group type more than on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ou will need a lot of data so that you can manipulate it into information, so go to i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Information Can We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 Get From The Table Of Data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152280" y="1676520"/>
            <a:ext cx="6162840" cy="33051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7315200" y="1371600"/>
            <a:ext cx="1219320" cy="6444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2990880" y="2743200"/>
            <a:ext cx="6153120" cy="34862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52280" y="52578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ou can SORT the information for examp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2971440" y="1828800"/>
            <a:ext cx="4419720" cy="152280"/>
          </a:xfrm>
          <a:prstGeom prst="line">
            <a:avLst/>
          </a:prstGeom>
          <a:ln w="57240">
            <a:solidFill>
              <a:srgbClr val="ffff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5867280" y="1828800"/>
            <a:ext cx="1524240" cy="1066680"/>
          </a:xfrm>
          <a:prstGeom prst="line">
            <a:avLst/>
          </a:prstGeom>
          <a:ln w="57240">
            <a:solidFill>
              <a:srgbClr val="ffff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" y="4648320"/>
            <a:ext cx="2743200" cy="2209680"/>
          </a:xfrm>
          <a:prstGeom prst="ellipse">
            <a:avLst/>
          </a:prstGeom>
          <a:noFill/>
          <a:ln w="7632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Will We Create Our Queries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228600" y="1828800"/>
            <a:ext cx="2828880" cy="12574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3276720" y="1676520"/>
            <a:ext cx="1780920" cy="28670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5257800" y="1676520"/>
            <a:ext cx="3657600" cy="30542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228600" y="3352680"/>
            <a:ext cx="281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oose the Queries object, then ‘Create Query in Design View’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8600" y="502920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oose ‘tblStock’ from the available tables &amp; quer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971800" y="502920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uble-click the fields you want in your quer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715000" y="502920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ype in your ‘Criteria’ and the sorting you wa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Different Types of 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Queries Can We Create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228600" y="1828800"/>
            <a:ext cx="1981080" cy="14619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228600" y="3429000"/>
            <a:ext cx="2133720" cy="14112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228600" y="4952880"/>
            <a:ext cx="5715000" cy="13446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2666880" y="1905120"/>
            <a:ext cx="624852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ou can add a ‘calculate field’ to the qu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t it out like you see 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are calculating what Anna will sell the antique item for by multiplying the cost by 1.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we run the query we can see the selling prices for each item in the furniture grou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Will We Create Our Forms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304920" y="1295280"/>
            <a:ext cx="4343400" cy="19623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4952880" y="1219320"/>
            <a:ext cx="3305160" cy="25430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228600" y="3809880"/>
            <a:ext cx="7162920" cy="288000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Will We Create Our Reports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4191120" cy="21621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5181480" y="1752480"/>
            <a:ext cx="3333960" cy="25146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228600" y="4572000"/>
            <a:ext cx="2809800" cy="19144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5"/>
          <a:stretch/>
        </p:blipFill>
        <p:spPr>
          <a:xfrm>
            <a:off x="3200400" y="4343400"/>
            <a:ext cx="5715000" cy="195588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Can We Do Mail-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Merge From Our Queries to Word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0" y="1828800"/>
            <a:ext cx="3657600" cy="2336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3886200" y="1828800"/>
            <a:ext cx="4591080" cy="185724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>
            <a:off x="0" y="4191120"/>
            <a:ext cx="5400720" cy="24289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5"/>
          <a:stretch/>
        </p:blipFill>
        <p:spPr>
          <a:xfrm>
            <a:off x="4267080" y="3809880"/>
            <a:ext cx="4305600" cy="26676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6"/>
          <a:stretch/>
        </p:blipFill>
        <p:spPr>
          <a:xfrm>
            <a:off x="5029200" y="4572000"/>
            <a:ext cx="3809880" cy="2667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7"/>
          <a:stretch/>
        </p:blipFill>
        <p:spPr>
          <a:xfrm>
            <a:off x="4648320" y="5257800"/>
            <a:ext cx="4257720" cy="23796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ow Go Ahead and Create Your Own Database with Access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253" name="Anna_and_mother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54" name="old_toy_cars" descr=""/>
          <p:cNvPicPr/>
          <p:nvPr/>
        </p:nvPicPr>
        <p:blipFill>
          <a:blip r:embed="rId3"/>
          <a:stretch/>
        </p:blipFill>
        <p:spPr>
          <a:xfrm>
            <a:off x="4876920" y="1523880"/>
            <a:ext cx="3390840" cy="2540160"/>
          </a:xfrm>
          <a:prstGeom prst="rect">
            <a:avLst/>
          </a:prstGeom>
          <a:ln w="0">
            <a:noFill/>
          </a:ln>
        </p:spPr>
      </p:pic>
      <p:pic>
        <p:nvPicPr>
          <p:cNvPr id="255" name="old_clothes" descr=""/>
          <p:cNvPicPr/>
          <p:nvPr/>
        </p:nvPicPr>
        <p:blipFill>
          <a:blip r:embed="rId4"/>
          <a:stretch/>
        </p:blipFill>
        <p:spPr>
          <a:xfrm>
            <a:off x="4572000" y="428616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256" name="old_bicycle" descr=""/>
          <p:cNvPicPr/>
          <p:nvPr/>
        </p:nvPicPr>
        <p:blipFill>
          <a:blip r:embed="rId5"/>
          <a:srcRect l="8563" t="23597" r="19374" b="14004"/>
          <a:stretch/>
        </p:blipFill>
        <p:spPr>
          <a:xfrm>
            <a:off x="228600" y="4884840"/>
            <a:ext cx="2438280" cy="1584360"/>
          </a:xfrm>
          <a:prstGeom prst="rect">
            <a:avLst/>
          </a:prstGeom>
          <a:ln w="0">
            <a:noFill/>
          </a:ln>
        </p:spPr>
      </p:pic>
      <p:pic>
        <p:nvPicPr>
          <p:cNvPr id="257" name="antique_furniture001" descr=""/>
          <p:cNvPicPr/>
          <p:nvPr/>
        </p:nvPicPr>
        <p:blipFill>
          <a:blip r:embed="rId6"/>
          <a:stretch/>
        </p:blipFill>
        <p:spPr>
          <a:xfrm>
            <a:off x="2971800" y="4648320"/>
            <a:ext cx="1308240" cy="181584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5105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Do Data Bases Look Like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572000" y="1143000"/>
            <a:ext cx="4038480" cy="23986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152280" y="1600200"/>
            <a:ext cx="4114800" cy="24004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4724280" y="3809880"/>
            <a:ext cx="4019760" cy="2476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685800" y="4114800"/>
            <a:ext cx="3124080" cy="249228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5105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Can I Do With Data Bases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33520" y="1828800"/>
            <a:ext cx="4236840" cy="48006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334120" y="1905120"/>
            <a:ext cx="350496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House Groups List was created for the Phys Ed Department just before the Athletics Carniv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have every student in the school in the data base, showing their names, their classes, and their hous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just asked the data base to give us a little bit of those facts, sorted and arrang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5105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ill I Create My Own Data Base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2133720"/>
            <a:ext cx="83055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e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ou will create your own data base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rst you need to think about what facts it will contai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n you think about what information you want it to give yo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n you create various data base OBJECTS that the data base needs, to work correctly, and populate it with da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5105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Are The Parts of a Data Base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9810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Access Database has Four Objects and much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4080" y="2514600"/>
            <a:ext cx="2819520" cy="1905120"/>
          </a:xfrm>
          <a:prstGeom prst="can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T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ores facts 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a in recor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2666880"/>
            <a:ext cx="1752480" cy="23623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s dat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o &amp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a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00400" y="4572000"/>
            <a:ext cx="2743200" cy="1981080"/>
          </a:xfrm>
          <a:prstGeom prst="upArrowCallout">
            <a:avLst>
              <a:gd name="adj1" fmla="val 34620"/>
              <a:gd name="adj2" fmla="val 34617"/>
              <a:gd name="adj3" fmla="val 16667"/>
              <a:gd name="adj4" fmla="val 6666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ks question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f the tabl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77120" y="2438280"/>
            <a:ext cx="2286000" cy="26672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ranges th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formation f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ople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6248520" y="4800240"/>
            <a:ext cx="761760" cy="7621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638680" y="3429000"/>
            <a:ext cx="990720" cy="1522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04800" y="3062160"/>
            <a:ext cx="905400" cy="4287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354760" y="3927240"/>
            <a:ext cx="852840" cy="5266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38280" y="4876920"/>
            <a:ext cx="990720" cy="60948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00080" y="4289760"/>
            <a:ext cx="10080" cy="9392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5105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Are Tables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438280" y="4371840"/>
            <a:ext cx="5877000" cy="22100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3124080" y="1523880"/>
            <a:ext cx="5400720" cy="27306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380880" y="3200400"/>
            <a:ext cx="2133720" cy="1117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 flipV="1">
            <a:off x="1905120" y="2438280"/>
            <a:ext cx="1371600" cy="13716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09680" y="4191120"/>
            <a:ext cx="457200" cy="7617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5105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Is Data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2057400"/>
            <a:ext cx="815364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a is lots of facts about many item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acts or data about each item all together are called a reco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ch record has many different bits of data about 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ch bit of data is in a different fie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e are different types of fields – text, currency, numbers, e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ch record has the same fields, but with different data in each 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important words are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A, FIELD, RECORD, FIELD-TYP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5105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Are Forms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029200" y="1219320"/>
            <a:ext cx="3343320" cy="15904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609480" y="3352680"/>
            <a:ext cx="5457960" cy="31813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172200" y="3352680"/>
            <a:ext cx="266688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ms may be of different shapes and sizes, but they al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 at the data in the table(s) an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put new data into tab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6T22:43:06Z</dcterms:created>
  <dc:creator>Keith Richardson</dc:creator>
  <dc:description/>
  <dc:language>en-US</dc:language>
  <cp:lastModifiedBy>.</cp:lastModifiedBy>
  <dcterms:modified xsi:type="dcterms:W3CDTF">2003-06-27T22:35:59Z</dcterms:modified>
  <cp:revision>71</cp:revision>
  <dc:subject/>
  <dc:title>PowerPoint Presentation</dc:title>
</cp:coreProperties>
</file>